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4.png" ContentType="image/png"/>
  <Override PartName="/ppt/media/image4.wmf" ContentType="image/x-wmf"/>
  <Override PartName="/ppt/media/image6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13.wmf" ContentType="image/x-wmf"/>
  <Override PartName="/ppt/media/image30.png" ContentType="image/png"/>
  <Override PartName="/ppt/media/image28.png" ContentType="image/png"/>
  <Override PartName="/ppt/media/image34.png" ContentType="image/png"/>
  <Override PartName="/ppt/media/image36.wmf" ContentType="image/x-wmf"/>
  <Override PartName="/ppt/media/image37.png" ContentType="image/png"/>
  <Override PartName="/ppt/media/image40.png" ContentType="image/png"/>
  <Override PartName="/ppt/media/image38.wmf" ContentType="image/x-wmf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wmf" ContentType="image/x-wmf"/>
  <Override PartName="/ppt/media/image11.wmf" ContentType="image/x-wmf"/>
  <Override PartName="/ppt/media/image26.png" ContentType="image/png"/>
  <Override PartName="/ppt/media/image5.png" ContentType="image/png"/>
  <Override PartName="/ppt/media/image35.png" ContentType="image/png"/>
  <Override PartName="/ppt/media/image3.png" ContentType="image/png"/>
  <Override PartName="/ppt/media/image33.png" ContentType="image/png"/>
  <Override PartName="/ppt/media/image8.png" ContentType="image/png"/>
  <Override PartName="/ppt/media/image16.wmf" ContentType="image/x-wmf"/>
  <Override PartName="/ppt/media/image41.png" ContentType="image/png"/>
  <Override PartName="/ppt/media/image9.wmf" ContentType="image/x-wmf"/>
  <Override PartName="/ppt/media/image14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F727-9548-4D7F-8085-58C06A3F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42680" y="42973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8671-8812-4B3F-BE37-B1462003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426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572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E72F-1FCA-4BE5-8065-125289C08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589920" y="214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36800" y="214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42680" y="42973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589920" y="42973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36800" y="42973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9AAE-9D45-4F45-9BF4-6032DDD3C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E961-1A76-40D2-B9F0-6A0D1F95A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6522C-FBE0-4B81-95AD-F511D0BB2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26A0-70A5-4143-B7FE-36D60C04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BD65A-0263-4D4C-82DF-CA4A13A3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37407-210F-4B7E-8242-C98387CA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66400" y="9298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0CBC9-1C69-40D3-B85B-15DD0D378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7426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E0C4-93CB-410A-A453-B2582AFF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34E1-1C52-4928-867D-01D3FC0F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0572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F8A1-E66E-4329-A50B-EBDF2CAE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742680" y="42973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86C59-F122-4D42-96C5-ACD02E8E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742680" y="42973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0FA4-2672-4BED-B275-36C58BEC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7426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50572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7D4D7-0ED1-4404-B363-45873E5E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89920" y="214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436800" y="214776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742680" y="42973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589920" y="42973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436800" y="429732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6E32-BC7E-4761-88B1-FDE8EDB6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A360-9BE6-4271-9DDF-4B0377B2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571-24D7-4692-BD04-7A7665BE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4394-F85A-4865-8393-AE4B84FF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66400" y="92988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483B-CF68-4C02-874D-B397AD064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426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355D-EA39-41E6-938F-4B50C99D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57280" y="429732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7DD5-90FF-408D-896C-19A80A58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57280" y="214776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42680" y="429732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9A30-B0BA-43C9-AB10-E408E1448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74FE-B66E-4797-8E58-8E215736E0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84040" y="87480"/>
            <a:ext cx="9194040" cy="831600"/>
            <a:chOff x="284040" y="87480"/>
            <a:chExt cx="919404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141920" y="165240"/>
              <a:ext cx="8336160" cy="685800"/>
              <a:chOff x="1141920" y="165240"/>
              <a:chExt cx="833616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141920" y="165240"/>
                <a:ext cx="833616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2054880" y="165240"/>
                <a:ext cx="6580080" cy="680400"/>
                <a:chOff x="2054880" y="165240"/>
                <a:chExt cx="658008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2054880" y="166680"/>
                  <a:ext cx="3796560" cy="677160"/>
                  <a:chOff x="2054880" y="166680"/>
                  <a:chExt cx="379656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4180320" y="788400"/>
                    <a:ext cx="118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4308840" y="831240"/>
                    <a:ext cx="154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944880" y="76140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681720" y="782280"/>
                    <a:ext cx="1836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602520" y="791640"/>
                    <a:ext cx="48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552480" y="790200"/>
                    <a:ext cx="496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282480" y="651960"/>
                    <a:ext cx="2595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440880" y="642600"/>
                    <a:ext cx="1148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552480" y="691560"/>
                    <a:ext cx="806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548880" y="717120"/>
                    <a:ext cx="547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642120" y="686880"/>
                    <a:ext cx="270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648960" y="736200"/>
                    <a:ext cx="342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684960" y="712440"/>
                    <a:ext cx="442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697200" y="725040"/>
                    <a:ext cx="2095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879360" y="734400"/>
                    <a:ext cx="568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999600" y="647280"/>
                    <a:ext cx="13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4071960" y="710640"/>
                    <a:ext cx="183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839760" y="567720"/>
                    <a:ext cx="133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717720" y="634680"/>
                    <a:ext cx="133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583800" y="613800"/>
                    <a:ext cx="583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564720" y="523440"/>
                    <a:ext cx="684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581640" y="590040"/>
                    <a:ext cx="241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533760" y="596520"/>
                    <a:ext cx="32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5337360" y="559800"/>
                    <a:ext cx="51408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656240" y="167760"/>
                    <a:ext cx="72216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434480" y="489960"/>
                    <a:ext cx="259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413960" y="480600"/>
                    <a:ext cx="273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5248080" y="428040"/>
                    <a:ext cx="12528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5380560" y="470880"/>
                    <a:ext cx="10116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5327280" y="483840"/>
                    <a:ext cx="410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5299560" y="415440"/>
                    <a:ext cx="273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518080" y="501120"/>
                    <a:ext cx="3204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935240" y="175680"/>
                    <a:ext cx="352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623480" y="174240"/>
                    <a:ext cx="32652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903480" y="220320"/>
                    <a:ext cx="30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3060720" y="174240"/>
                    <a:ext cx="74952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812040" y="166680"/>
                    <a:ext cx="3420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791520" y="239400"/>
                    <a:ext cx="1011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683160" y="290160"/>
                    <a:ext cx="1375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774240" y="32328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3003840" y="401040"/>
                    <a:ext cx="59688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3108600" y="607680"/>
                    <a:ext cx="324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566160" y="451800"/>
                    <a:ext cx="3096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654000" y="433080"/>
                    <a:ext cx="154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2054880" y="282240"/>
                    <a:ext cx="74448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343600" y="493200"/>
                    <a:ext cx="28008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837160" y="753480"/>
                    <a:ext cx="118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821680" y="572760"/>
                    <a:ext cx="154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2142360" y="350280"/>
                    <a:ext cx="428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661840" y="204480"/>
                    <a:ext cx="5072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316240" y="175680"/>
                    <a:ext cx="101592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522520" y="23148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496960" y="253440"/>
                    <a:ext cx="320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603520" y="318600"/>
                    <a:ext cx="54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698200" y="317160"/>
                    <a:ext cx="30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445120" y="252000"/>
                    <a:ext cx="24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677280" y="165240"/>
                  <a:ext cx="1957680" cy="680400"/>
                  <a:chOff x="6677280" y="165240"/>
                  <a:chExt cx="195768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8566560" y="761760"/>
                    <a:ext cx="2196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8303400" y="782640"/>
                    <a:ext cx="190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8224200" y="792000"/>
                    <a:ext cx="482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8174520" y="790560"/>
                    <a:ext cx="493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904520" y="652320"/>
                    <a:ext cx="2595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8062920" y="642960"/>
                    <a:ext cx="11484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8174520" y="691920"/>
                    <a:ext cx="806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8171280" y="717480"/>
                    <a:ext cx="547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8263800" y="687240"/>
                    <a:ext cx="270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8270640" y="736560"/>
                    <a:ext cx="345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8307000" y="712800"/>
                    <a:ext cx="446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8318880" y="725400"/>
                    <a:ext cx="20952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8501040" y="734760"/>
                    <a:ext cx="5688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8621640" y="647640"/>
                    <a:ext cx="1332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8461440" y="568080"/>
                    <a:ext cx="133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8339400" y="635040"/>
                    <a:ext cx="1332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8205480" y="614160"/>
                    <a:ext cx="5832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8186400" y="523800"/>
                    <a:ext cx="687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8203680" y="590400"/>
                    <a:ext cx="241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8155440" y="596880"/>
                    <a:ext cx="32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8525160" y="220680"/>
                    <a:ext cx="30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680960" y="174600"/>
                    <a:ext cx="7527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8434080" y="165240"/>
                    <a:ext cx="3456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8413200" y="239760"/>
                    <a:ext cx="10152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8305200" y="290520"/>
                    <a:ext cx="13716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8396280" y="323640"/>
                    <a:ext cx="1044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626240" y="401400"/>
                    <a:ext cx="59652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731000" y="608040"/>
                    <a:ext cx="3240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8188200" y="452160"/>
                    <a:ext cx="306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8276040" y="433440"/>
                    <a:ext cx="151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677280" y="284040"/>
                    <a:ext cx="74412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965640" y="495360"/>
                    <a:ext cx="28008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7459200" y="753840"/>
                    <a:ext cx="1188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7443720" y="573120"/>
                    <a:ext cx="1548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764760" y="350640"/>
                    <a:ext cx="428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7283880" y="204840"/>
                    <a:ext cx="50724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938280" y="176040"/>
                    <a:ext cx="101592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7144560" y="23184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7119000" y="253800"/>
                    <a:ext cx="324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7225200" y="318960"/>
                    <a:ext cx="5472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7319880" y="317520"/>
                    <a:ext cx="3060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7067520" y="252360"/>
                    <a:ext cx="237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372320" y="176040"/>
                <a:ext cx="8084880" cy="663840"/>
                <a:chOff x="1372320" y="176040"/>
                <a:chExt cx="808488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372320" y="527040"/>
                  <a:ext cx="808488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764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1564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5480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940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332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72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4116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50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9006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5292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6851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076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4688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861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252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645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8037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429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821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2131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077200" y="173160"/>
                <a:ext cx="6351480" cy="671040"/>
                <a:chOff x="2077200" y="173160"/>
                <a:chExt cx="635148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9003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5109840" y="527040"/>
                  <a:ext cx="120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29236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68440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86088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98880" y="527040"/>
                  <a:ext cx="598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25292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725616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6446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902720" y="527040"/>
                  <a:ext cx="133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675560" y="527040"/>
                  <a:ext cx="1062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803700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842868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72420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3321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287520" y="527040"/>
                  <a:ext cx="1166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3057120" y="527040"/>
                  <a:ext cx="103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712960" y="527040"/>
                  <a:ext cx="1411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077200" y="527040"/>
                  <a:ext cx="5979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54448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15604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54808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94012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94012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340400" y="525240"/>
                  <a:ext cx="1375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157" name="" descr=""/>
            <p:cNvPicPr/>
            <p:nvPr/>
          </p:nvPicPr>
          <p:blipFill>
            <a:blip r:embed="rId4"/>
            <a:stretch/>
          </p:blipFill>
          <p:spPr>
            <a:xfrm>
              <a:off x="284040" y="87480"/>
              <a:ext cx="96624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905760" cy="6877080"/>
            <a:chOff x="0" y="-19080"/>
            <a:chExt cx="9905760" cy="6877080"/>
          </a:xfrm>
        </p:grpSpPr>
        <p:sp>
          <p:nvSpPr>
            <p:cNvPr id="195" name=""/>
            <p:cNvSpPr/>
            <p:nvPr/>
          </p:nvSpPr>
          <p:spPr>
            <a:xfrm>
              <a:off x="1898280" y="1600200"/>
              <a:ext cx="800748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905400" cy="1658880"/>
              <a:chOff x="0" y="-19080"/>
              <a:chExt cx="99054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9054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72400" y="-19080"/>
                <a:ext cx="8901000" cy="1657440"/>
                <a:chOff x="572400" y="-19080"/>
                <a:chExt cx="8901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554080" y="1501920"/>
                  <a:ext cx="2916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857200" y="1606680"/>
                  <a:ext cx="3564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002560" y="1436760"/>
                  <a:ext cx="5328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386600" y="1487520"/>
                  <a:ext cx="4284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200840" y="1509840"/>
                  <a:ext cx="11160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083840" y="1506600"/>
                  <a:ext cx="11664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450960" y="1168560"/>
                  <a:ext cx="6087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820680" y="1144800"/>
                  <a:ext cx="27000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083840" y="1265400"/>
                  <a:ext cx="1890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075560" y="1327320"/>
                  <a:ext cx="12888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293720" y="1254240"/>
                  <a:ext cx="6336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4309560" y="1374840"/>
                  <a:ext cx="8064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393800" y="1316160"/>
                  <a:ext cx="10476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22960" y="1347840"/>
                  <a:ext cx="4917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849200" y="1370160"/>
                  <a:ext cx="13392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31440" y="1157400"/>
                  <a:ext cx="3204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301360" y="1312920"/>
                  <a:ext cx="4464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756320" y="963720"/>
                  <a:ext cx="324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470840" y="1125720"/>
                  <a:ext cx="324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56200" y="1074960"/>
                  <a:ext cx="13752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4111560" y="854280"/>
                  <a:ext cx="16128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4152600" y="1017720"/>
                  <a:ext cx="5508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039200" y="1033560"/>
                  <a:ext cx="7740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268120" y="943200"/>
                  <a:ext cx="120528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672240" y="-15840"/>
                  <a:ext cx="169200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151320" y="773280"/>
                  <a:ext cx="6156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103080" y="749520"/>
                  <a:ext cx="6516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058240" y="620640"/>
                  <a:ext cx="29376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8369640" y="725400"/>
                  <a:ext cx="237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8244000" y="757440"/>
                  <a:ext cx="961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8180280" y="590760"/>
                  <a:ext cx="6336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691120" y="800280"/>
                  <a:ext cx="7704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7325640" y="4680"/>
                  <a:ext cx="82548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594840" y="0"/>
                  <a:ext cx="76680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906080" y="112680"/>
                  <a:ext cx="720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930040" y="0"/>
                  <a:ext cx="1757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692600" y="-19080"/>
                  <a:ext cx="8064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644720" y="158760"/>
                  <a:ext cx="236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390200" y="284400"/>
                  <a:ext cx="32148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603320" y="365040"/>
                  <a:ext cx="241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797920" y="555840"/>
                  <a:ext cx="139788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3043440" y="1060560"/>
                  <a:ext cx="7740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4116600" y="679680"/>
                  <a:ext cx="720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4321440" y="633600"/>
                  <a:ext cx="3564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72400" y="263520"/>
                  <a:ext cx="174528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249920" y="781200"/>
                  <a:ext cx="6566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407320" y="1417680"/>
                  <a:ext cx="270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371320" y="974880"/>
                  <a:ext cx="3600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79040" y="432000"/>
                  <a:ext cx="9936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996560" y="74520"/>
                  <a:ext cx="118800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184400" y="4680"/>
                  <a:ext cx="238356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669680" y="139680"/>
                  <a:ext cx="511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607760" y="193680"/>
                  <a:ext cx="7740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858680" y="354240"/>
                  <a:ext cx="12888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080800" y="349200"/>
                  <a:ext cx="720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487160" y="190440"/>
                  <a:ext cx="5688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880" y="4680"/>
                <a:ext cx="9868680" cy="1621800"/>
                <a:chOff x="11880" y="4680"/>
                <a:chExt cx="986868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880" y="862200"/>
                  <a:ext cx="986868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80964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728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648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566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485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5405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324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7243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816264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908244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24240" y="-3240"/>
                <a:ext cx="8458200" cy="1640520"/>
                <a:chOff x="624240" y="-3240"/>
                <a:chExt cx="845820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724392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735680" y="861480"/>
                  <a:ext cx="2815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816264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908244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48560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56688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461400" y="861480"/>
                  <a:ext cx="2739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921400" y="861480"/>
                  <a:ext cx="241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2116080" y="861480"/>
                  <a:ext cx="3297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24240" y="861480"/>
                  <a:ext cx="1403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72008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80964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72836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6481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6481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283" name="" descr=""/>
            <p:cNvPicPr/>
            <p:nvPr/>
          </p:nvPicPr>
          <p:blipFill>
            <a:blip r:embed="rId2"/>
            <a:stretch/>
          </p:blipFill>
          <p:spPr>
            <a:xfrm>
              <a:off x="577800" y="2486160"/>
              <a:ext cx="118620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80720" y="1828800"/>
            <a:ext cx="751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77440" y="632448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466800" y="632448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7429680" y="632448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6F7-2D92-4A48-AE22-8BDC84055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10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8.png"/><Relationship Id="rId12" Type="http://schemas.openxmlformats.org/officeDocument/2006/relationships/image" Target="../media/image19.png"/><Relationship Id="rId13" Type="http://schemas.openxmlformats.org/officeDocument/2006/relationships/slideLayout" Target="../slideLayouts/slideLayout10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20.png"/><Relationship Id="rId16" Type="http://schemas.openxmlformats.org/officeDocument/2006/relationships/slideLayout" Target="../slideLayouts/slideLayout10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0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0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0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fip.gov.ar/afip/resol131302.html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0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94800" y="1196640"/>
            <a:ext cx="88599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es-ES_tradnl" sz="4800" spc="-1" strike="noStrike">
                <a:solidFill>
                  <a:srgbClr val="cc6600"/>
                </a:solidFill>
                <a:latin typeface="Times New Roman"/>
              </a:rPr>
              <a:t>RECUPERO  DE  I.V.A EXPORTACION</a:t>
            </a:r>
            <a:br>
              <a:rPr sz="4800"/>
            </a:br>
            <a:endParaRPr b="0" i="1" lang="en-US" sz="4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3938760" y="2997360"/>
            <a:ext cx="2361960" cy="2189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690640" y="55864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ller de Trabaj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r el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r. Eduardo Marcelo CUM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25C2-D211-4B93-AD12-47DA70FDA0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18640" y="929880"/>
            <a:ext cx="850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COMPROBANTES DE COMPRA DE FECHA POSTERIOR A LA ULTIMA CARGA REALIZADA </a:t>
            </a:r>
            <a:br>
              <a:rPr sz="1800"/>
            </a:b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42680" y="1844640"/>
            <a:ext cx="84200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ligación del Contador dictaminante de verificar su vinculación efectiva con la exportación perfeccionad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lamente se admiten facturas de fecha posterior al embarque pero anteriores a la finalización del mes calendario por el que se solicita recupero, si se demuestra con los remitos que lo avalan que el hecho imponible se genero con anterioridad a la partidad del medio transportad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la práctica, previo aporte de la documentación que la avalan se acepta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honorarios y gastos del despachante de aduan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gastos de estibaje o carga del medio transportador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gastos originados en las terminales portuari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os intereses por prefinanciación de las exportacion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Las notas de débito por mayores costos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D2A1-855A-43D1-AC2D-895BB8701A4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" name=""/>
          <p:cNvGraphicFramePr/>
          <p:nvPr/>
        </p:nvGraphicFramePr>
        <p:xfrm>
          <a:off x="3132000" y="2637000"/>
          <a:ext cx="4965840" cy="114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37000"/>
                    <a:ext cx="496584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3" name=""/>
          <p:cNvGraphicFramePr/>
          <p:nvPr/>
        </p:nvGraphicFramePr>
        <p:xfrm>
          <a:off x="1436760" y="115920"/>
          <a:ext cx="7289640" cy="2341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6760" y="115920"/>
                    <a:ext cx="728964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0" y="4005360"/>
          <a:ext cx="9640800" cy="2663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4005360"/>
                    <a:ext cx="9640800" cy="26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01D3-3296-4AA6-92D7-003E8FF2A3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131760"/>
            <a:ext cx="8915400" cy="2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7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58" name=""/>
          <p:cNvGraphicFramePr/>
          <p:nvPr/>
        </p:nvGraphicFramePr>
        <p:xfrm>
          <a:off x="2664000" y="260280"/>
          <a:ext cx="4998960" cy="266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4000" y="260280"/>
                    <a:ext cx="499896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457360" y="3213000"/>
          <a:ext cx="5631120" cy="3573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57360" y="3213000"/>
                    <a:ext cx="5631120" cy="357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98F5-E2EB-4497-8822-407D50AA5A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7600" y="259920"/>
            <a:ext cx="89154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RUBRO 7 – Carga de facturas a recuperar</a:t>
            </a:r>
            <a:br>
              <a:rPr sz="1800"/>
            </a:b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93320" y="3212640"/>
            <a:ext cx="951876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TIPO DE COMPROBANTE: Campo obligatorio, numérico de 2 posiciones, que puede ser seleccionado del listado que se muestra.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FECHA DE COMPROBANTE: Campo obligatorio, deberá ingresar una fecha válid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NUMERO DE COMPROBANTE: Este ítem se crea a partir de la  carga del Punto de Venta y a continuación el Número de Comprobante. Si es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necesario el sistema completará los dígitos a la izquierda con ceros. En caso de tener que informar para el mismo periodo de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exportación dos o más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omprobantes de empresas de servicios (energía, agua, telefonía, seguros, etc., que no estén obligadas a cumplir con la RG Nº 3419) que tengan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idéntico tipo y número de comprobante, deberán diferenciarlos en el subcampo “Punto de venta” (las cuatro primeras posiciones del campo “Nº de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omprobante”), indicándolas en forma sucesiva desde el 0000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.U.I.T. EMISOR: Campo obligatorio, deberá ingresar una C.U.I.T. válida que no podrá ser la misma que la del informante, a excepción de que el Tipo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de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omprobante sea alguno de los mencionados en el párrafo siguiente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652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DENOMINACIÓN EMISOR: Se deberá completar con alguna de las siguientes opciones: a.   Apellido y Nombres   b.  Denominación    c.  Razón Social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del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liente.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Si el tipo de comprobante ingresado fuere: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SzPct val="23944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34 Comprobantes ‘A’ del Artículo 3ro. Inciso e) Resolución General Nro. 3419,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SzPct val="23944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39 Otros Comprobantes ‘A’ que cumplen con la Resolución General Nro. 3419 y sus modificatorias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SzPct val="23944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60 Cuentas de Venta y Líquido Producto ‘A’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SzPct val="23944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63 Liquidaciones ‘A’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SzPct val="23944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65 Notas de Crédito de Comprobantes con código 34, 39, 60 y 63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224"/>
              </a:spcBef>
              <a:buSzPct val="239443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se deberán completar los siguientes campos que se habilitan para la carga: C.U.I.T. VENDEDOR: Completar este campo con una C.U.I.T. válida y distinta a la del informante para continuar con la carga. DENOMINACION  VENDEDOR: Completar este campo con alguna de las siguientes opciones: a.   Apellido y Nombres   b.  Denominación    c.   Razón Social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DESCRIPCION DEL BIEN: Campo obligatorio, se debe completar con la descripción del bien consignada en el comprobante respectivo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IMPORTE NETO EN $: Campo obligatorio, se debe completar con el importe correspondiente el que debe ser  mayor a cero, que surja del respectivo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omprobante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IMPORTE IVA FACTURADO EN $: Lo calcula automáticamente en base al 21% del Importe Neto en $, permitiéndole al usuario modificar este importe, el que no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podrá superar el 27% del Importe Neto en $. Este importe debe ser mayor a cero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IMPORTE IVA COMPUTABLE EN $: Este importe es calculado en forma automática aplicándole el 21%  sobre el Importe Neto en $, el usuario podrá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modificarlo no permitiendo que el importe ingresado supere el 27% del Importe Neto en $. Este importe debe ser mayor a cero y no podrá ser mayor al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Importe IVA Facturado en $. Es la proporción del impuesto facturado relacionado con el período de exportación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PERÍODO DJ.:  Campo numérico, obligatorio de formato MMAAAA. Es el período de la DDJJ de IVA donde se imputó el comprobante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7"/>
          <a:stretch/>
        </p:blipFill>
        <p:spPr>
          <a:xfrm>
            <a:off x="2066760" y="260280"/>
            <a:ext cx="6005520" cy="2938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7A81-B794-42EC-ACAF-ED9B7DD0EF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5" name=""/>
          <p:cNvGraphicFramePr/>
          <p:nvPr/>
        </p:nvGraphicFramePr>
        <p:xfrm>
          <a:off x="266760" y="1785960"/>
          <a:ext cx="8896320" cy="362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785960"/>
                    <a:ext cx="889632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0959-5554-4815-A2E0-98DAA5DAD4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30040" y="333000"/>
            <a:ext cx="8420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RUBRO 4 – Carga de compras totalizadas por mes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42680" y="4273200"/>
            <a:ext cx="8420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275"/>
              </a:spcBef>
              <a:buSzPct val="299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MONTO MENSUAL CREDITO FISCAL: Campo obligatorio, numérico. Debe ser mayor a cero. Deberá consignarse el importe total de los créditos que se pretende recuperar y que se detallaron en el rubro 7 totalizados por el periodo fiscal que corresponden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275"/>
              </a:spcBef>
              <a:buSzPct val="299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PERÍODO DD.JJ.: Campo obligatorio, numérico de 6 posiciones. Corresponde a la DDJJ de IVA donde se consignaron los comprobantes detallados en el Rubro 7 y que se corresponde con el importe antes cargado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275"/>
              </a:spcBef>
              <a:buSzPct val="299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IMPORTE DEBITO FISCAL: Campo numérico de 18 posiciones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80000"/>
              </a:lnSpc>
              <a:spcBef>
                <a:spcPts val="275"/>
              </a:spcBef>
              <a:buSzPct val="299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Tahoma"/>
              </a:rPr>
              <a:t>COEFICIENTE DE ACTUALIZACION: Campo obligatorio, numérico de 10 posiciones (6 enteros y 4 decimales). En caso de no completarse o valer 0 (cero), se le asignará por defecto el valor 1.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2768760" y="907920"/>
            <a:ext cx="4921200" cy="23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40F3-1AF0-4E13-B0F0-8B47DC8F386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115920"/>
            <a:ext cx="89154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RUBRO 1 Y 2 – Prorrateo y Crédito total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28760" y="3938400"/>
            <a:ext cx="8982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Rubro 1: Determinación de Créditos Fiscales atribuibles a Exportaciones sin afectación direct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LAS OPERACIONES GRAVADAS: Campo obligatorio, numérico de 18 posiciones (incluyendo la coma en caso de decimales). Se consigna los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importes de ventas gravadas acumuladas desde el inicio del ejercicio hasta el mes de la exportación que se solicita y que se encuentra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alcanzadas por el IV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EXENTAS Y NO GRAVADAS: Campo obligatorio, numérico de 18 posiciones (incluyendo la coma en caso de decimales). Se consigna los importes de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ventas exentas y no gravadas acumuladas desde el inicio del ejercicio hasta el mes de la exportación que se solicita y que no se encuentra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alcanzadas por el IV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OPERACIONES BENEFICIADAS: Campo obligatorio, numérico de 18 posiciones (incluyendo la coma en caso de decimales). Se consigna los importes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de ventas de exportación acumuladas desde el inicio del ejercicio hasta el mes de la exportación que se solicita y que dan derecho al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recupero de  IV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Tahoma"/>
              </a:rPr>
              <a:t>PRORRATEO DEL CREDITO FISCAL: Se consignara el importe del crédito fiscal que por ser indirecto, corresponderá tomarse en forma prorratead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Rubro2:Total Crédito Fiscal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Los datos del Rubro2 son calculados en forma automática por el sistema, los cuales se detallan a continuación :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REDITO FISCAL CON AFECTACION DIRECT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REDITO INDIRECTO (Rubro 1 Inciso B)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SUBTOTAL DEL CREDITO FISCAL ATRIBUIBLE A EXPORTACIONES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1"/>
          <a:stretch/>
        </p:blipFill>
        <p:spPr>
          <a:xfrm>
            <a:off x="742680" y="2147760"/>
            <a:ext cx="8420040" cy="19814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2"/>
          <a:stretch/>
        </p:blipFill>
        <p:spPr>
          <a:xfrm>
            <a:off x="1754280" y="549360"/>
            <a:ext cx="6788160" cy="331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D44C-A7EC-4F04-BD0B-5C9843CEC6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915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RUBRO 5 Y 6 – Determinación del limite y Aplicación del importe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28400" y="4076640"/>
            <a:ext cx="8994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Rubro 5: Determinación del límite Art. 43, 2da. Párrafo Ley y excedente..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a) TOTAL IMPORTE CONSIGNADO EN EL RUBRO 4: lo coloca el Sistema automáticamente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b) VALOR ACTUAL DEL EXCEDENTE RUBRO 5 FECHA: Debe indicar el período e importe del mismo.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PERIODO: Campo obligatorio, de formato DD/MM/AAAA que debe ser menor al período informado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IMPORTE: Campo obligatorio, importe del excedente, numérico de 18 posiciones (incluyendo la coma en caso de decimales)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c) SUBTOTAL INCISO a) + INCISO b): lo coloca el Sistema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d) LIMITE ART. 43 2do. PARRAFO (Total Rubro 3 x Tasa IVA): se completará con la tasa de IVA, por default trae el 21%. El importe lo calcula el sistema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e) IMPORTE COMPUTABLE INC. c) Ó d), EL QUE FUERE MENOR, EXCEPTO QUE SOLICITE EXCEDER EL LIMITE DEL ART. 43: Campo obligatorio, numérico de 18 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posiciones (incluyendo la coma en caso de decimales). Debe ser mayor o igual que el Total del Rubro 6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f) EXCEDENTE QUE SE TRASLADA A PERIODOS FUTUROS: lo calcula automáticamente el Sistema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Rubro 6: Aplicación del importe disponible: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IMPORTE ADEUDADO POR REG. ESP. DE INGRESOS: Campo numérico se consignan los importes que se compensaran con régimen especiales de retenciones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IMPORTE POR EL QUE SOLICITA ACREDITACIÓN: Campo numérico se consignan los importes que se compensaran con otros impuestos propios a pagar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IMPORTE POR EL QUE SOLICITA TRANSFERENCIA: Campo numérico se consigna los importes que se transferirán o cederán a terceros para cancelas obligaciones 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propias de ellos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80000"/>
              </a:lnSpc>
              <a:spcBef>
                <a:spcPts val="201"/>
              </a:spcBef>
              <a:buSzPct val="4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Tahoma"/>
              </a:rPr>
              <a:t>IMPORTE POR EL QUE SOLICITA DEVOLUCIÓN. Campo numérico se consigna los importes que se solicita la acreditación en CBU informada.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5"/>
          <a:stretch/>
        </p:blipFill>
        <p:spPr>
          <a:xfrm>
            <a:off x="2066760" y="476280"/>
            <a:ext cx="6162840" cy="341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2625-C56A-49C8-8F8A-EC86DE83F75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80720" y="1828800"/>
            <a:ext cx="75121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80720" y="4572000"/>
            <a:ext cx="7512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6319800" cy="524664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"/>
          <a:stretch/>
        </p:blipFill>
        <p:spPr>
          <a:xfrm>
            <a:off x="1600200" y="4292640"/>
            <a:ext cx="6373800" cy="35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BE76-A24A-4856-98D8-E781DD0C3B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66400" y="1052280"/>
            <a:ext cx="9210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APLICACIÓN DE LOS MONTOS SOLICITADOS </a:t>
            </a:r>
            <a:br>
              <a:rPr sz="2000"/>
            </a:b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740880" y="1628640"/>
            <a:ext cx="88138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REGIMENES ESPECIALES DE INGRESO. Para compensar con las retenciones de IVA que efectuara por el mismo periodo fiscal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(debere presentar conjuntamente el Form. 574 imputando a los conceptos que 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pretendo regularizar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ACREEDITACION. Para compensar con otros impuestos propios a ingresa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(debere presentar conjuntamente el Form. 798 imputando a los conceptos que 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pretendo regularizar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En la Agencia que me encuentro inscripto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Si el pedido es considerado admisible desde la fecha que presente las 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compensaciones las mismas tendran efecto cancelatorio desde dicho momento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Si me cambian la fecha de admisibilidad debere intereses resarcitorio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TRANSFERENCIA: Para cederle el saldo a 3ros. a los efectos de que cancelen otros impuestos a su nombre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Tendran efecto cancelatorio desde el momento que se apruebe el saldo solicitado, 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momento en que los 3ros. deveran imputar a que concepto lo aplican en su 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Agencia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374"/>
              </a:spcBef>
              <a:buSzPct val="2195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DEVOLUCION: Para que me acreediten el importe solicitado en mi CBU denunciada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7386-02C7-4C21-BA04-CBD1FD133FAD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DONDE SE INSCRIBE UNA NUEVA EMPRESA, QUE PREVEE EFECTUAR OPERACIONES DE EXPORTACIÓN. </a:t>
            </a:r>
            <a:br>
              <a:rPr sz="1800"/>
            </a:b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cha empresa debe inscribirse en la Agencia que le corresponde a la jurisdicción de su domicilio fiscal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in embargo las solicitudes de recupero debe hacerlas en la Agencia N° 68 denominada Agencia Exportadores, sita en Rivadavia 1302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el resto de las presentaciones y vencimientos deberá cumplirlos  en la Agencia donde se encuentre inscrip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lamente a partir que lo notifiquen que se encuentra incluido dentro de la R.G. 718 deberá proceder a efectuar todas las presentaciones en la Agencia Exportador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34C-74A2-49ED-8469-2EC6BA9E32A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400" y="-437400"/>
            <a:ext cx="84200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s-E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42680" y="404640"/>
            <a:ext cx="842004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MANIFESTACIONES DE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000000"/>
                </a:solidFill>
                <a:latin typeface="Tahoma"/>
              </a:rPr>
              <a:t>EL EXPORTADOR DE CARNE S.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Buenos Aires,  Mayo 2005.-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De mi mayor consideración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Recupero IVA Exportación RG 1351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MesdeMarzo/2005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Por la presente me dirijo a Uds. a los efectos de manifestar con relación a la solicitud de la referencia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por la totalidad de las compras realizadas, se ha cumplimentado con el art. 41 de la R.G. 100 y sus modif. y complementarias.(FACTURACION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por la totalidad de las compras realizadas, las mismas se encuentran canceladas, habiéndose cumplimentado con la Ley N° 25.345 y la R.G. 1547 y sus modif. y complementarias.(LEY ANTIEVASION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he procedido a retener el IVA en los terminos de la R.G 18 con los coeficientes que corresponden de acuerdo a la consulta realizada.(DE CORRESPONDER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no se ha solicitado devolución en los términos de la R.G. 2224 por el crédito fiscal involucrado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a los efectos de determinar el límite del art. 43 de la Ley de I.V.A se ha utilizado el tipo de cambio comprador del día hábil cambiario anterior a la fecha de oficialización del permiso de embarque, de acuerdo al mercado libre del BCRA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del crédito fiscal solicitado no se han incluido conceptos no vinculados con las operaciones gravadas definidos en los ptos 1 a 4 del 2do. Y 3er. Párrafo del inc. a) del artículo 12 de la Ley de I.V.A.(AUTOMOVILES, BARES, HOTELES, POSADAS, INDUMENTARIA)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Que de la totalidad de los permisos de embarque se ha procedido a efectuar la liquidación de divisas de acuerdo a las normas del BCRA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MX" sz="1000" spc="-1" strike="noStrike">
                <a:solidFill>
                  <a:srgbClr val="000000"/>
                </a:solidFill>
                <a:latin typeface="Tahoma"/>
              </a:rPr>
              <a:t>Dejándose constancia que la presente nota ha sido confeccionada sin omitir ni falsear dato alguno que deba contener y que resulta fiel expresión de la verdad, teniendo por ende todo lo expresado el carácter de declaración jurada, lo saluda muy at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Presidente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El exportador de Carne S.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B8D-CA18-4806-BB6A-E162A301BF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66400" y="1125000"/>
            <a:ext cx="92106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DETRACCIÓN DEL MONTO SOLICITADO REINTEGRO</a:t>
            </a:r>
            <a:br>
              <a:rPr sz="2000"/>
            </a:b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DE LA DD.JJ DE  I.V.A. </a:t>
            </a:r>
            <a:br>
              <a:rPr sz="2000"/>
            </a:b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741240" y="1916280"/>
            <a:ext cx="84204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l mismo deberá ser detraído de la DD.JJ del mes en que se efectúa la presentación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El importe a detraer será el que corresponde al total del crédito fiscal vinculado con exportaciones, sin tener en cuenta el límite del art. 43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Los remanentes no utilizados se podrán trasladar en los form. 404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9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Debiéndose afectar los mismos en futuras solicitudes, no pudiendo utilizarlos contra el mercado interno de otros períodos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ED8D9-EE4F-42A4-B2E0-C6D549FF287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83920" y="1267920"/>
            <a:ext cx="8970840" cy="1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Detracción del importe solicitado reintegro de la DD.JJ de I.V.A</a:t>
            </a:r>
            <a:br>
              <a:rPr sz="1800"/>
            </a:b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del mes de la exportación</a:t>
            </a:r>
            <a:br>
              <a:rPr sz="1800"/>
            </a:b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-360" y="3938760"/>
            <a:ext cx="89154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Deberé generar la DD. JJ tildando en el mes de la exportación como que me encuentro dentro del Régimen de Operaciones de Exportació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2144880" y="1844640"/>
            <a:ext cx="4911480" cy="28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23B7-BA9E-4715-A939-338D4C34DC2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1363680" y="907920"/>
            <a:ext cx="6810480" cy="42483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52280" y="475920"/>
            <a:ext cx="8659800" cy="14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Detracción del importe solicitado de la DDJJ de I.V.A del mes de la Exportación</a:t>
            </a:r>
            <a:br>
              <a:rPr sz="1800"/>
            </a:b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DD.JJ mes de Marzo/2005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-360" y="5229360"/>
            <a:ext cx="8915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PCION 1</a:t>
            </a: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 : En el mes que se efectúen las compras, siempre que se tenga conocimiento fehaciente de que  las mismas estén vinculadas con exportaciones.</a:t>
            </a:r>
            <a:br>
              <a:rPr sz="1000"/>
            </a:br>
            <a:br>
              <a:rPr sz="1000"/>
            </a:br>
            <a:r>
              <a:rPr b="1" lang="es-ES_tradnl" sz="1000" spc="-1" strike="noStrike">
                <a:solidFill>
                  <a:srgbClr val="000000"/>
                </a:solidFill>
                <a:latin typeface="Tahoma"/>
              </a:rPr>
              <a:t>OPCION 2</a:t>
            </a: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 : En el mes que se perfeccionen las exportaciones y puedan determinarse la correcta imputación del crédito fiscal vinculado con la misma.</a:t>
            </a:r>
            <a:br>
              <a:rPr sz="1000"/>
            </a:b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Elegido un método el mismo deberá continuarse en los períodos sucesivos.</a:t>
            </a:r>
            <a:br>
              <a:rPr sz="1000"/>
            </a:br>
            <a:r>
              <a:rPr b="0" lang="es-ES_tradnl" sz="1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7BD4-F338-4B8D-93F1-5673469AB4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52280" y="836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Detracciòn del importe solicitado de la DDJJ de I.V.A</a:t>
            </a:r>
            <a:br>
              <a:rPr sz="2000"/>
            </a:b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del mes de la Exportaciòn</a:t>
            </a:r>
            <a:br>
              <a:rPr sz="2000"/>
            </a:b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DD.JJ mes de Marzo/2005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0760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2222640" y="2443320"/>
            <a:ext cx="5725800" cy="27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0E39-B8DA-4DE2-85C7-9E88810215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990720" y="981000"/>
            <a:ext cx="8564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Detracciòn del importe solicitado de la DDJJ de I.V.A del mes de la Exportaciòn</a:t>
            </a:r>
            <a:br>
              <a:rPr sz="1800"/>
            </a:b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DD.JJ mes de Abril/2005</a:t>
            </a:r>
            <a:br>
              <a:rPr sz="1800"/>
            </a:br>
            <a:br>
              <a:rPr sz="1800"/>
            </a:br>
            <a:r>
              <a:rPr b="1" i="1" lang="es-ES" sz="1800" spc="-1" strike="noStrike" u="sng">
                <a:solidFill>
                  <a:srgbClr val="cc6600"/>
                </a:solidFill>
                <a:uFillTx/>
                <a:latin typeface="Times New Roman"/>
              </a:rPr>
              <a:t>o sea el mes proximo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2612880" y="2492280"/>
            <a:ext cx="5720040" cy="2670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0A66-75B0-467F-9515-BFE547E4BE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-1913040" y="-531720"/>
            <a:ext cx="14379840" cy="99568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8775720" y="1700280"/>
            <a:ext cx="1130400" cy="2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eb. 9.786,05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"/>
          <p:cNvSpPr/>
          <p:nvPr/>
        </p:nvSpPr>
        <p:spPr>
          <a:xfrm>
            <a:off x="8696160" y="1989000"/>
            <a:ext cx="1209960" cy="216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red. 53.866,50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"/>
          <p:cNvSpPr/>
          <p:nvPr/>
        </p:nvSpPr>
        <p:spPr>
          <a:xfrm>
            <a:off x="8542440" y="2708280"/>
            <a:ext cx="1363680" cy="433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mp. Fact. Vinculad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 Exportacion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42.969,7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6669000" y="5734080"/>
            <a:ext cx="1793880" cy="504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aldo Final Cred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Fiscal  x  Exp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42.969,77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"/>
          <p:cNvSpPr/>
          <p:nvPr/>
        </p:nvSpPr>
        <p:spPr>
          <a:xfrm>
            <a:off x="4484520" y="5805360"/>
            <a:ext cx="171792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MENOS Impuesto solicitado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Dev.  Acred. o Transf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2378160" y="5805360"/>
            <a:ext cx="1560600" cy="28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Saldo Anterior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Cred..Fiscal  x  Esp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0DA3-2117-447D-8D7D-0BEC992BF6C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22640" y="333000"/>
            <a:ext cx="646416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Inscripción para la consulta en el Archivo de Proveedores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3483000" y="631800"/>
          <a:ext cx="4073400" cy="690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631800"/>
                    <a:ext cx="4073400" cy="690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4094280" y="4797360"/>
            <a:ext cx="79200" cy="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 flipV="1">
            <a:off x="4795920" y="4796640"/>
            <a:ext cx="156960" cy="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E382-5ABB-4145-8096-72D2E28CF72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4960" y="929880"/>
            <a:ext cx="8502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 u="sng">
                <a:solidFill>
                  <a:srgbClr val="cc6600"/>
                </a:solidFill>
                <a:uFillTx/>
                <a:latin typeface="Times New Roman"/>
              </a:rPr>
              <a:t>Consulta a la WEB dirección: https://www.afipreproweb.gov.ar/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3368520" y="3000240"/>
            <a:ext cx="3168720" cy="240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2F4-93B1-416B-AEE1-89A61DC79F4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523800" y="1044720"/>
            <a:ext cx="8379000" cy="510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DFC7-727A-41B9-B546-829A1D2AF67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EXPORTADOR IMPURO.  </a:t>
            </a:r>
            <a:br>
              <a:rPr sz="1800"/>
            </a:br>
            <a:br>
              <a:rPr sz="1800"/>
            </a:b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Con ventas en el mercado interno y externo.</a:t>
            </a:r>
            <a:br>
              <a:rPr sz="1800"/>
            </a:b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uede compensar en forma automática el saldo a favor generado por la actividad exportadora, contra el débito fiscal generado por otra activid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hace falta presentar el aplicativo de la R.G 135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 el formulario 40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i efectuarse la discriminación dentro del programa de I.V.A en el módulo correspondiente a “Operaciones de Exportación”.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17D1-6524-4D75-B502-50EB85B3F91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06600" y="1447920"/>
            <a:ext cx="8213400" cy="4297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4AE8-A9EA-4EAE-91F6-94AAA6A933D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40880" y="981000"/>
            <a:ext cx="83408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Consulta individual al archivo de proveedores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2236680" y="2147760"/>
            <a:ext cx="5430960" cy="198756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742680" y="4273200"/>
            <a:ext cx="8420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Solamente deberá consignar el numero de CUIT a consult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En el periodo deberá consignar el mes en que va a presentar el recupero, sin importar la fecha que corresponda la factura que pretende recupera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3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53800" indent="-253800">
              <a:spcBef>
                <a:spcPts val="300"/>
              </a:spcBef>
              <a:buSzPct val="2745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Hay que tener en cuenta que esta consulta tiene una vigencia de 3 meses de realizada, en virtud de que la actualización es diaria y la situación del proveedor podría cambiar de un día al otro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D8D-108B-4247-AC25-D0676210BCD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130400" y="930240"/>
            <a:ext cx="826776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Respuesta Individual de dicha consulta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817720" y="2173320"/>
            <a:ext cx="4975200" cy="260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42C4-C80E-4542-BFBD-818777CD4C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833480" y="3716280"/>
            <a:ext cx="6467400" cy="26640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833480" y="549360"/>
            <a:ext cx="6175440" cy="3047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5264280" y="4437000"/>
            <a:ext cx="547560" cy="71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Respuesta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2" name=""/>
          <p:cNvSpPr/>
          <p:nvPr/>
        </p:nvSpPr>
        <p:spPr>
          <a:xfrm>
            <a:off x="5110200" y="4437000"/>
            <a:ext cx="777960" cy="71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8285-1F57-4882-A3B8-17BA1E4F3B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2690640" y="404640"/>
            <a:ext cx="4878720" cy="345132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911240" y="4076640"/>
            <a:ext cx="7202520" cy="218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199D-88FA-4117-88A1-805A13C69E4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5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5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95000" y="1486080"/>
            <a:ext cx="89154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ctr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sistema informático emitirá un reporte como constancia de la consulta que contendrá el CUIT del Contador y del Proveedor, un código de validación y el código de respuesta obteni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1. Retención general vigente RG 18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( el proveedor no registra incumplimientos en sus obligaciones fiscales y previsionales, tanto informativas como determinativas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n observación Nº 10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s-AR" sz="1400" spc="-1" strike="noStrike">
                <a:solidFill>
                  <a:srgbClr val="000000"/>
                </a:solidFill>
                <a:latin typeface="Tahoma"/>
              </a:rPr>
              <a:t>el proveedor tiene denunciado una CBU para el pag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2. Retención sustitutiva 100% RG 18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(el proveedor registra incumplimient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3. Crédito fiscal no computable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(el proveedor no es un responsable inscripto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4. Retención sustitutiva 100% RG 18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(el proveedor registra irregularidades en su cadena de comercializ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5. Retención sustitutiva 100% RG 1575</a:t>
            </a: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 (el proveedor se encuentra habilitado a emitir Factura “M”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" name=""/>
          <p:cNvSpPr/>
          <p:nvPr/>
        </p:nvSpPr>
        <p:spPr>
          <a:xfrm>
            <a:off x="2185920" y="907920"/>
            <a:ext cx="55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cc6600"/>
                </a:solidFill>
                <a:uFillTx/>
                <a:latin typeface="Times New Roman"/>
              </a:rPr>
              <a:t>Respuesta de las consulta realizad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FB8D-525F-4BA9-903A-A1A6BC829CD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4880" y="907920"/>
            <a:ext cx="7902360" cy="554364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8385120" y="5661000"/>
            <a:ext cx="70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" name=""/>
          <p:cNvSpPr/>
          <p:nvPr/>
        </p:nvSpPr>
        <p:spPr>
          <a:xfrm>
            <a:off x="9086760" y="5229360"/>
            <a:ext cx="819360" cy="5032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nform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D 1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DE2-1CB4-4E3A-81B8-C0551062395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liq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0" y="907920"/>
            <a:ext cx="6521400" cy="4667400"/>
          </a:xfrm>
          <a:prstGeom prst="rect">
            <a:avLst/>
          </a:prstGeom>
          <a:ln w="0">
            <a:noFill/>
          </a:ln>
        </p:spPr>
      </p:pic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911240" y="1700280"/>
            <a:ext cx="5035680" cy="396216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719600" y="4292640"/>
            <a:ext cx="4921200" cy="236232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1676520" y="4797360"/>
            <a:ext cx="3110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3392640" y="3429000"/>
            <a:ext cx="31986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6045120" y="6021360"/>
            <a:ext cx="5461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"/>
          <p:cNvSpPr/>
          <p:nvPr/>
        </p:nvSpPr>
        <p:spPr>
          <a:xfrm>
            <a:off x="1987560" y="5877000"/>
            <a:ext cx="781200" cy="276480"/>
          </a:xfrm>
          <a:prstGeom prst="rect">
            <a:avLst/>
          </a:pr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iqu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"/>
          <p:cNvSpPr/>
          <p:nvPr/>
        </p:nvSpPr>
        <p:spPr>
          <a:xfrm>
            <a:off x="6671880" y="3357720"/>
            <a:ext cx="654840" cy="276480"/>
          </a:xfrm>
          <a:prstGeom prst="rect">
            <a:avLst/>
          </a:pr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iqu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6513480" y="6381720"/>
            <a:ext cx="1092240" cy="276480"/>
          </a:xfrm>
          <a:prstGeom prst="rect">
            <a:avLst/>
          </a:prstGeom>
          <a:solidFill>
            <a:srgbClr val="ccb3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lique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1911240" y="1268280"/>
            <a:ext cx="6161040" cy="5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C67E-9CDB-4737-9B09-533ADCF2943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18640" y="188640"/>
            <a:ext cx="8736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cc6600"/>
                </a:solidFill>
                <a:latin typeface="Times New Roman"/>
              </a:rPr>
              <a:t>  </a:t>
            </a:r>
            <a:r>
              <a:rPr b="1" lang="es-ES_tradnl" sz="1600" spc="-1" strike="noStrike" u="sng">
                <a:solidFill>
                  <a:srgbClr val="cc6600"/>
                </a:solidFill>
                <a:uFillTx/>
                <a:latin typeface="Times New Roman"/>
              </a:rPr>
              <a:t>DATOS A VERIFICAR PARA LA ELABORACION DEL INFORME DEL AUDITOR</a:t>
            </a:r>
            <a:br>
              <a:rPr sz="1600"/>
            </a:br>
            <a:r>
              <a:rPr b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según Resol. M.D. 18/2002 del CPCECABA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507600" y="1052640"/>
            <a:ext cx="881388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ndición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subjetiva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(condiciones formales que habilitan al exportador a solicitar el beneficio) Se verificar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i cuenta con las inscripciones necesarias como exportador. Form O.M 1228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Que se encuentra habilitado para solicitar el reintegro. (o sea que no se encuentra excluido por estar querellado o denunciado penalmente, tanto la sociedad como los directores de la misma) Solicitar Carta de Gerenci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ondición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objetiva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 (tareas referidas a las operaciones de exportación realizadas por el solicitante) Se verificar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Que las exportaciones se encuentren dentro del período solicitado (fecha del cumplido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Que el valor FOB de las exportaciones se encuentre en la DDJJ de IV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correcta determinación del módulo exportaciones de la DDJJ de IV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efectiva liquidación de las divisas cobradas por las operaciones realizada de corresponder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Que las exportaciones guarden relación con la capacidad operativa de la empresa exportadora. (obtener informes técnicos de ser necesario) Solicitar Carta de Gerenci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just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Exportaciones.  </a:t>
            </a: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e validara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Que el exportador sea el titularidad de las exportaciones realizada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 algn="just">
              <a:lnSpc>
                <a:spcPct val="80000"/>
              </a:lnSpc>
              <a:spcBef>
                <a:spcPts val="349"/>
              </a:spcBef>
              <a:buSzPct val="15413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La documentación de facturación, cobranza y registracion de la misma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1536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"/>
          <p:cNvSpPr/>
          <p:nvPr/>
        </p:nvSpPr>
        <p:spPr>
          <a:xfrm>
            <a:off x="741240" y="-1467000"/>
            <a:ext cx="8569440" cy="12956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A623-F72A-495A-94B5-F47F54C9B2AE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95360" y="907560"/>
            <a:ext cx="8902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réditos fiscales destinados a las operaciones de exportació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Se verificara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Que las compras realizadas se encuentren relacionadas con la exportación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Los cálculos y razonabilidad de los criterios de apropiación (prorrateos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No haber sido utilizados los créditos en operaciones de mercado interno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No haber sido utilizado los mismos en pedidos anterior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Si existe vinculación económica con los proveedores y si los mismos gozan de beneficios promociónale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Que los comprobantes solicitados sean de fecha anterior al embarque.(salvo aclaraciones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Que no existen operaciones que dieron lugar al régimen de reintegro de Bienes de Capital del Dto. 492/01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La razonabilidad de los montos del crédito en relación al límite del art. 43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Que el crédito solicitado no se halla incluido en Régimen de Financiamiento de la Ley 24.402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Que el pago de todos los comprobantes se halla realizado mediante medios autorizados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La registraciòn contable de las facturas solicitadas. 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La consulta personal al Archivo de Proveedores de la AFIP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El cumplimiento de obligaciones de retención, e ingreso de las mismas, de corresponder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374"/>
              </a:spcBef>
              <a:buSzPct val="1439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ahoma"/>
              </a:rPr>
              <a:t>La auditoria de los proveedores (cumplimiento normas de facturación, condición de inscripto en IVA, confirmación escrita de operaciones, visualización de los mismos y capacidad económico financiera)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1871640" y="32004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"/>
          <p:cNvSpPr/>
          <p:nvPr/>
        </p:nvSpPr>
        <p:spPr>
          <a:xfrm>
            <a:off x="584280" y="260280"/>
            <a:ext cx="897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6600"/>
                </a:solidFill>
                <a:uFillTx/>
                <a:latin typeface="Arial"/>
              </a:rPr>
              <a:t>DATOS A VERIFICAR PARA LA ELABORACION DEL INFORME DEL AUDITOR</a:t>
            </a:r>
            <a:br>
              <a:rPr sz="1400"/>
            </a:br>
            <a:r>
              <a:rPr b="0" lang="es-ES_tradnl" sz="1400" spc="-1" strike="noStrike" u="sng">
                <a:solidFill>
                  <a:srgbClr val="cc6600"/>
                </a:solidFill>
                <a:uFillTx/>
                <a:latin typeface="Arial"/>
              </a:rPr>
              <a:t>segùn Resol. M.D. 18/2002 del CPCECAB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C96-1E8F-4460-A5AE-AA638084B52A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Aplicativo para generar la solicitud del recupero de exportacion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42680" y="4273200"/>
            <a:ext cx="842004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e5d093"/>
                </a:solidFill>
                <a:uFillTx/>
                <a:latin typeface="Tahoma"/>
                <a:hlinkClick r:id="rId2"/>
              </a:rPr>
              <a:t>Resolución General 1313/0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Publicación el 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11/06/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Tamaño 878 Kb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5"/>
          <a:stretch/>
        </p:blipFill>
        <p:spPr>
          <a:xfrm>
            <a:off x="3265560" y="2147760"/>
            <a:ext cx="3375000" cy="198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048-EBB3-4D63-B1E4-FA4CD59651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052640" y="929880"/>
            <a:ext cx="763416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5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PORCENTAJES DE LAS MUESTRAS A REALIZAR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28400" y="1628640"/>
            <a:ext cx="891540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la documentación de respaldo de las exportaciones realizadas en la solicitud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la documentación de respaldo de los créditos fiscales solicitad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00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l universo de proveedores informados seran constatados en el Archivo de Proveedores de la AFIP para verifica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condición de inscripto en IVA al momento de la factu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cumplimiento tributario del provee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DA1-FBD4-4B3C-A090-CEBD7CE5C51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600200" y="274320"/>
            <a:ext cx="73152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5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PORCENTAJE DE LAS MUESTRAS A REALIZAR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9154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 los proveedores solicitados se efectuara una muestra que no podrá ser inferio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l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80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los importes  de los créditos solicitados (en $) y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de los proveedores solicitados (en cantidad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 los efectos de verificar 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capacidad operativa del proveedor para facturar los bienes o servicios, en función de la actividad que desarrolla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l cumplimiento de la normativa legal relativa a facturación y registr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SzPct val="107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visualización de la existencia del proveed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entro de la muestra debere incluir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os proveedores más significativos y 5 proveedores al aza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C1D1-A6FE-4B0B-8486-E3CBB9DE873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66400" y="930240"/>
            <a:ext cx="84200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EXCLUSIONES DE LA AUDITORIA</a:t>
            </a:r>
            <a:r>
              <a:rPr b="0" i="1" lang="es-ES_tradnl" sz="35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5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72760" indent="-57276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cturas sobre las qu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hubiese practicado retenciones (alícuota general vigente en la RG 18 o RG 1394 o 100% de la tasa del impuesto), cuando se opte por compensar dichas obligaciones contra los montos de la solicitud de reintegro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fesional debe dejar constancia  en su Informe de las facturas objeto de la citada compensación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acturas sobre las que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o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se hubiesen  practicado retenciones en virtud de qu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73960" indent="-50112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veedor es agente de retención exceptuado de sufrir reten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73960" indent="-50112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r haberse practicado un canje de granos por compra de insumos o bienes de capit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73960" indent="-50112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ferior a la retención míni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73960" indent="-50112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mportaciones definitivas de cosas mueb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1173960" indent="-501120" algn="just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57276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égimen simplificado (Anexo V –RG 1351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FC6F-4E6A-4A4B-A3DA-5AA148E4E29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83920" y="929880"/>
            <a:ext cx="897084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OBLIGACION DE AUDITAR</a:t>
            </a:r>
            <a:r>
              <a:rPr b="0" i="1" lang="es-ES_tradnl" sz="35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35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1000" y="1854360"/>
            <a:ext cx="92836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No obstante, los procedimientos de auditoria serán obligatorios si de la consulta del profesional al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rchivo de Proveedores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resultara  CODIGO  2 o 4 “Retención Sustitutiva 100%” cuando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SzPct val="1269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ahoma"/>
              </a:rPr>
              <a:t>Se hubiesen practicado retenciones a la alícuota general vigente en las RG 18 y RG 1394 o,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25"/>
              </a:spcBef>
              <a:buSzPct val="1269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Tahoma"/>
              </a:rPr>
              <a:t>El proveedor se encuentre beneficiado con la exclusión del régimen de retención según las RG 17, 69 y 75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Contador dejará constancia en su informe de las facturas sobre las que se optó por no efectuar tareas de auditorí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51A5-5DE7-48DB-A366-5AB1D3EDD2F6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76160" y="260280"/>
            <a:ext cx="8523360" cy="5686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1045-9621-45FC-BA0E-C9349210A2A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82640" y="557280"/>
            <a:ext cx="8707320" cy="5743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D64D-C268-427C-B715-39651418E38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209600" y="1125000"/>
            <a:ext cx="826776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ES_tradnl" sz="4000" spc="-1" strike="noStrike">
                <a:solidFill>
                  <a:srgbClr val="cc6600"/>
                </a:solidFill>
                <a:latin typeface="Times New Roman"/>
              </a:rPr>
              <a:t>RECUPERO DE  I.V.A EXPORTACION</a:t>
            </a:r>
            <a:br>
              <a:rPr sz="4000"/>
            </a:br>
            <a:endParaRPr b="0" i="1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aller de Trabaj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236760" y="3068640"/>
            <a:ext cx="344988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5E2-8B43-4B08-981D-32CD91C9C342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85720" y="404640"/>
            <a:ext cx="842004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 u="sng">
                <a:solidFill>
                  <a:srgbClr val="cc6600"/>
                </a:solidFill>
                <a:uFillTx/>
                <a:latin typeface="Times New Roman"/>
              </a:rPr>
              <a:t>CARGA INICIAL DEL PERIODO A RECUPERAR</a:t>
            </a:r>
            <a:endParaRPr b="0" i="1" lang="en-US" sz="1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95000" y="4076280"/>
            <a:ext cx="89154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PERIODO DE EXPORTACION: campo obligatorio de 6 posiciones (MMAAAA)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SECUENCIA: es el tipo de presentación a realizar, existiendo como posibilidades: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Original: primera presentación que no registra una anterior para el mismo período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·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Rectificativa: presentación que reemplaza una presentación anterior ingresada y generada. En caso de seleccionarse esta opción se deberá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ingresar la fecha presentación del F.404 anterior. Una presentación rectificativa reemplaza totalmente la presentación anterior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TIPO DE ACTIVIDAD: se deberá seleccionar del listado que presenta el sistema la que correspond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ORIGEN DEL EXPORTADOR: se deberá seleccionar del listado que presenta el sistem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Exportadores de Régimen Simplificado Resolución General N° 829/00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Exportadores Agentes de Retención de IV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)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Otros Exportadores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AGENTE DE RETENCION: si el campo Origen del Exportador es: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deberá seleccionar “SI” ó “NO”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estará fijo “SI”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C)  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estará fijo “NO”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224"/>
              </a:spcBef>
              <a:buSzPct val="365229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RÉGIMENES: se deberá seleccionar el/los régimen/es por los que solicita el reintegro, tildando en el que correspond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0000"/>
                </a:solidFill>
                <a:latin typeface="Tahoma"/>
              </a:rPr>
              <a:t>Si se selecciona en Origen de Exportador la opción A) Exportadores de Régimen Simplificado Resolución General N° 829/00, se deberá completar obligatoriamente el campo FECHA ESTIMATIVA DE PRESENTACIÓN DE LA SOLICITUD ingresando una fecha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15"/>
          <a:stretch/>
        </p:blipFill>
        <p:spPr>
          <a:xfrm>
            <a:off x="2457360" y="981000"/>
            <a:ext cx="4945320" cy="294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D86A-E36B-48E8-9F24-A9B086E5DD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74880" y="980640"/>
            <a:ext cx="85024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CUANDO SE CONSIDERA PERFECCIONADA LA EXPORTACION. </a:t>
            </a:r>
            <a:br>
              <a:rPr sz="2000"/>
            </a:b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28400" y="1844640"/>
            <a:ext cx="891540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on el cumplido del permiso de embarque, al momento de terminación de la carga debidamente validada por el funcionario aduaner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Cuando intervienen 2 aduanas, la operación se considera perfeccionada con la intervención de la aduana de salida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Dicha fecha resulta de fundamental importancia, para asignar a que mes corresponde atribuir la presentación de la solicitud de recupero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FE9B-F9B6-4B91-90A1-1B2F62B75AC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66400" y="929880"/>
            <a:ext cx="9210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Relevamiento de Exportaciones realizada con unidades exportadas</a:t>
            </a:r>
            <a:br>
              <a:rPr sz="1800"/>
            </a:b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y valorizadas a valor FOB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584280" y="1989000"/>
          <a:ext cx="8551800" cy="4575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989000"/>
                    <a:ext cx="85518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A614-188E-4489-9799-773989830E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83920" y="274320"/>
            <a:ext cx="8420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 u="sng">
                <a:solidFill>
                  <a:srgbClr val="cc6600"/>
                </a:solidFill>
                <a:uFillTx/>
                <a:latin typeface="Times New Roman"/>
              </a:rPr>
              <a:t>Rubro 3 – Carga de Despachos de Exportación</a:t>
            </a:r>
            <a:endParaRPr b="0" i="1" lang="en-US" sz="18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50640" y="3715920"/>
            <a:ext cx="907236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DOCUMENTO DE EXPORTACION: Campo obligatorio, numérico de 2 posiciones, que puede ser seleccionado del listado que se muestra.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NUMERO PERMISO DE DOC ANTERIOR: Completar este campo con el valor correspondiente, que surge del documento que lo ampara.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En razón del documento que se elija adopta la estructura que le corresponde a cada uno para ser llenada correctamen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ÍTEM: Campo obligatorio, se debe completar con el valor correspondiente. Si correspondiera mas de un ítems por Documento de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Exportación, se deberá cargar nuevamente el documento con los datos del ítem correspondien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POSICION ARANCELARIA: Campo obligatorio, alfanumérico de 12 posiciones. Los primeros 11 dígitos son numéricos y el último es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alfanumérico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MEDIDA: Puede ser seleccionado del listado que se muestra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CANTIDAD: Completar este campo con el valor correspondiente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DIVISAS: Puede ser seleccionado del listado que se muestra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IMPORTE: Campo obligatorio que se completará con el importe correspondiente. Debe ser mayor a cero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TIPO DE CAMBIO: Debe ingresar el tipo de cambio de la divisa seleccionada anteriormente. Deberá tomarse el valor del día hábil anterior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a la fecha de oficialización del documento de exportación, tipo comprador dado por el BN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ADUANA DE REGISTRO: Puede ser seleccionado del listado que se muestra. Si se trata de un Permiso de Embarque, este campo estará 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inhabilitado, y lo completará el sistema tomando la información de la estructura de dicho documento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ADUANA DE SALIDA: Puede ser seleccionado del listado que se muestra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SzPct val="32901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ahoma"/>
              </a:rPr>
              <a:t>FECHA DE CUMPLIDO: Deberá ingresar una fecha válida que debe pertenecer al Período de la Exportación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3"/>
          <a:stretch/>
        </p:blipFill>
        <p:spPr>
          <a:xfrm>
            <a:off x="2768760" y="692280"/>
            <a:ext cx="4705200" cy="2779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6BA8-716B-4878-9585-F9A32EF18D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833120" y="1268280"/>
            <a:ext cx="7255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 u="sng">
                <a:solidFill>
                  <a:srgbClr val="cc6600"/>
                </a:solidFill>
                <a:uFillTx/>
                <a:latin typeface="Times New Roman"/>
              </a:rPr>
              <a:t>PRORRATEO DEL CRÉDITO FISCAL.</a:t>
            </a:r>
            <a:r>
              <a:rPr b="1" i="1" lang="es-ES_tradnl" sz="2000" spc="-1" strike="noStrike">
                <a:solidFill>
                  <a:srgbClr val="cc6600"/>
                </a:solidFill>
                <a:latin typeface="Times New Roman"/>
              </a:rPr>
              <a:t> </a:t>
            </a:r>
            <a:br>
              <a:rPr sz="2000"/>
            </a:br>
            <a:r>
              <a:rPr b="1" i="1" lang="es-ES_tradnl" sz="2000" spc="-1" strike="noStrike">
                <a:solidFill>
                  <a:srgbClr val="cc6600"/>
                </a:solidFill>
                <a:latin typeface="Times New Roman"/>
              </a:rPr>
              <a:t>En virtud de no poder asignarse en forma directa el mismo.</a:t>
            </a:r>
            <a:endParaRPr b="0" i="1" lang="en-US" sz="20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42680" y="21477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o regla general: siempre deberá asignarse el crédito fiscal en forma especifica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uando existan compras y gastos que deban asignarse indistintamente a exportaciones y/o a mercado interno deberá elaborarse un criterio de asignación de los mismo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just">
              <a:lnSpc>
                <a:spcPct val="90000"/>
              </a:lnSpc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 los efectos del cálculo porcentual de elaboración del coeficiente de asignación específico, a pesar de encontrarse registrado el valor de las exportaciones con cláusula C.I.F ( precio de venta mas seguros y fletes incurridos para colocar los productos en el exterior ), deberá ignorarse el mismo y tomar el valor F.O.B de las exportaciones realizada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896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99DD-5E81-4251-ABE6-C36400774F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0T17:24:07Z</dcterms:created>
  <dc:creator>Windows</dc:creator>
  <dc:description/>
  <dc:language>en-US</dc:language>
  <cp:lastModifiedBy>C.P.C.E.C.A.B.A.</cp:lastModifiedBy>
  <dcterms:modified xsi:type="dcterms:W3CDTF">2005-06-29T14:47:25Z</dcterms:modified>
  <cp:revision>17</cp:revision>
  <dc:subject/>
  <dc:title>RECUPERO de I.V.A  EXPORTACION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493082</vt:lpwstr>
  </property>
</Properties>
</file>