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8398-CBE2-47CA-8F81-0C1E4D71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94D2-FA91-4D40-AE87-EC1173221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70B9-8776-44F0-AFC2-60EF7550B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769A-8876-4881-8AA0-DA366758D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5503-D6D1-42F8-9ED2-4D2F4B7F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19EDB-F6D6-4699-BBBB-1657C68B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8E638-7C60-433E-A542-FAA87ED46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713F-6734-402B-A766-6E4312FE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CAB74-E869-4439-B768-869FAF876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DC7C-D677-4FC5-B091-50B574869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AC29-283B-423E-B213-D7B5C5FF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8484-894F-4C70-A946-8F3C90E77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A4358-CC0C-4803-9AEB-B2946A9E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7E565-3588-4EC7-A580-98D6CBA9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069E-8B0E-45E5-9F88-DE6F246A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2AB9-2021-44B4-90A9-78B973B2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9BE8C-403C-49E9-8B3A-6F1505980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DA16-5BD8-48D1-AB9E-57EFCE3F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54A-8D05-4EF3-8AB4-9AF2959D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7D09-323B-466E-B564-2FDFC8EE2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1AD-AE97-4258-8CF1-7F16CB22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E62F-C5E1-46B2-ABB2-F083F9A3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0F1C-2154-497A-A604-8A7310D4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FDB4-6605-471B-A014-7061EC71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293C-C96F-4D3D-8E32-A7D4CEE2C5BF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E0A6-D552-4065-A8B0-1228792714FD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422360"/>
            <a:ext cx="77724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RECUPERO DE 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solución Gral. AFIP Nro. 135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exo I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uesto Facturado – Su afect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ectación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ectación Indirec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exo V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men de Reintegro Simplifi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jetos comprendi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cio de 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sitos y condi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encia de la solicitud. Criterios de evalu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exo V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imiento para la consulta de Profesionales al archivo de información sobre provee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exo V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delos de Notas para trasferencia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exo VI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gimen de compensación con importes originados en regimenes de Retención y Percepción del 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imiento de Compens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mentos a presen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Arial"/>
              </a:rPr>
              <a:t>Anexo I</a:t>
            </a:r>
            <a:r>
              <a:rPr b="0" lang="es-AR" sz="3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ación por Orden y cuenta de Terceros – Especificaciones tecn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blece todas las características técnicas del sistema operativo ¨AFIP – Exportaciones por cuenta de terceros – Version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exo 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ación por cuenta y orden de terce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ciones al exterior realizadas por terceros en forma di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raciones de venta al exterior realizadas por el documentante a su no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exo X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égimen de reintegro del impuesto atribuible a operaciones de exportación sujeto a fiscalizació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cedencia de la solicitud se determina previa fiscalización y verificación del impuesto factur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exo X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venio para cancelar deudas previs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Arial"/>
              </a:rPr>
              <a:t>TITULO I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533520" y="990720"/>
          <a:ext cx="7772400" cy="5359320"/>
        </p:xfrm>
        <a:graphic>
          <a:graphicData uri="http://schemas.openxmlformats.org/drawingml/2006/table">
            <a:tbl>
              <a:tblPr/>
              <a:tblGrid>
                <a:gridCol w="7772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gimen General de Reintegro Atribuible a Exportaciones y Asimilab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eccionamiento de las Exportaci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usiones Subjetivas y Objeti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uesto Facturado. Lim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uesto Facturado . Afectación Indirect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ciones de Exportación y en el mercado Interno. Imputación del Impuesto Facturado e Ingresos Direc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turas o Documentos Equivalentes Obligacion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udes. Requisitos y Condiciones Complementari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udes de Acreditación, Devolución o Transferencia. Detrac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unicación de Pago. Autorización de Acreditación, Transferencia y Devolución. Observac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égimen de la Ley Nro. 24402 y Su modificator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licitud de Transfere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imiento para la Detracción de Diferencias Constat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22360"/>
            <a:ext cx="77724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TITULO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égimen de Compensación con Importes Originados en Regimenes de Retención y Percepción del Impuesto al Valor Agreg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TITULO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29528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Exportación por Cuenta y Orden de Terceros. Solicitudes de Acreditación, Devolución o Transfer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422360"/>
            <a:ext cx="7772400" cy="15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000000"/>
                </a:solidFill>
                <a:latin typeface="Arial"/>
              </a:rPr>
              <a:t>TITULO I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Arial"/>
              </a:rPr>
              <a:t>Reintegro del Impuesto Atribuible a Exportaciones Sujeto a Fiscal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800" spc="-1" strike="noStrike">
                <a:solidFill>
                  <a:srgbClr val="000000"/>
                </a:solidFill>
                <a:latin typeface="Arial"/>
              </a:rPr>
              <a:t>TITULO V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isposiciones Gener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Arial"/>
              </a:rPr>
              <a:t>Disposiciones Transitori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exo 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os a presentar por los expor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ción Aduan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orte Magnét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ularios de Declaración Jurada Números 404 y 443 (Op. Con ganado bovin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 para cada cesionario en caso de trans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tocopia del poder que acredite la personería jurídica del firm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nexo II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os a presentar por los sujetos especialmente autorizados a utilizar los procedimientos equivalentes a los expor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ación que permita constatar la procedencia de la solicitu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porte magnét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 en caso de transfer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tocopia del poder o documento que acredite la personería jurídica del presentan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nexo III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sitos formales a cumpli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emás de lo establecido en los Anexos I y II deberán cumplir con los siguientes requisi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s lo establecido en la RG 100 sobre facturación y registr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uesto facturado – lim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ción a suministr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uras o documentos equival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2:00:39Z</dcterms:created>
  <dc:creator>Vicente</dc:creator>
  <dc:description/>
  <dc:language>en-US</dc:language>
  <cp:lastModifiedBy>C.P.C.E.C.A.B.A.</cp:lastModifiedBy>
  <dcterms:modified xsi:type="dcterms:W3CDTF">2005-06-29T14:46:26Z</dcterms:modified>
  <cp:revision>23</cp:revision>
  <dc:subject/>
  <dc:title>RECUPERO DE IVA</dc:title>
</cp:coreProperties>
</file>