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12FA-81E8-4035-AAEE-1F83D23E0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5360-45DF-43AC-9BB6-19B708CD8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8367-36FE-47E1-9404-90D44690E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E998-6DCD-4124-93FF-A877F9AE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6B1F0-A91C-4D88-9D21-2D3DA5B2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783B-6B85-4C2C-8252-3FEFF5750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7E99-7A81-4F42-A054-EF2241173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4224-8FE1-4085-AE47-4BA129D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50A8-1832-413A-804D-39D2D24A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6BD12-5952-4C74-9C3B-BE3F0C5F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E679-2EBD-409C-A0FA-B12F00F2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0AC4-F3E3-484D-89E3-42ED3595D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9F663-4037-4B4D-B1EE-FB6DEE9E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8710-F8BF-4407-99F5-63DAE125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D9AB9-38DF-49D1-9D6F-97A21B564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F1E0-AE43-4AE4-A1B4-86BE39B0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128E2-353C-414D-B949-6C161856B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2BD4-8A9E-48B0-B0E6-AC5FA243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03B6-3F93-46F0-A68F-D60C4A6F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DF46-141E-45A5-9C29-10748D66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DC92-5A8A-483F-8C03-F17AB79F8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A5DE-3E11-47DA-AEE6-0924BF3B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6B5B-935A-4A51-9970-9BB51B89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0589-E554-41D2-919E-FC6F8CA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4F44B-24B6-462F-A203-29F9BE077B23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8E5C1-AADC-4FEE-AB2A-E68F6B2EFDDC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63400"/>
            <a:ext cx="77724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ertifica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R MD 18/2002 CPCECAB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47BFA-2199-49D3-A276-EC52ADA0C7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Anexo I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Pautas de Control y Procedimientos realizado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ondicion Subjetiva habili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ondicion Objetiva habilitan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7D70-15BC-44C5-983F-B55D9A407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Condicion Subjetiva Habilitant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 constatara que la empresa solicitante se halle inscripta en el Registro de Exp. – Imp. AFI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 determinara que el sujeto no se halle excluido de acuerdo al regimen de la RG AFIP 110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C3A9-093B-42FE-89C3-471425D1812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Condicion Objetiva Habilitant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Se verificara que las operaciones de devolucion se hallan perfeccionado dentro del periodo de exportacion presentado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Se compulsara toda la documentacion aduanera que certifique la realizacion y salida de la mercaderia y/o servicio de la aduana correspondiente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ahoma"/>
              </a:rPr>
              <a:t>Se corroborara que el valor FOB de la exportacion se ha declarado en la declaracion Jurada de IVA del mes de exportacion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3270-361E-4611-AC05-1ADE80415B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Condicion Objetiva Habilitante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(continuació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 realizaran y verificaran todos los datos volcados en la declaracion jurada del IV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 controlara la efectiva liquidacion de las divisas cobradas por la opera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Se analizara la capacidad operativa de la empresa y si guarda relacion con la exportacion efectu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00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3CFC-5672-4AF6-B569-0BE3E6E71ED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-525960"/>
            <a:ext cx="777240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Exportaciones – Objeto de auditoria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Se realizaran todas las operaciones de auditoria necesaria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Estan establecidas en las Normas de Auditoria Aprobadas por los Consejos Profesionales en Ciencias Economicas y la Federacion de Consejos Profesionale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La Resolucion Tecnica Numero 7 de la FACPCE establece las normas de Auditoria a ser aplicadas por todos los profesionales que certifiquen o auditen estados contables.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D308-4A02-42AA-8C34-E70C43214D8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-1602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3399"/>
                </a:solidFill>
                <a:latin typeface="Tahoma"/>
              </a:rPr>
              <a:t>Creditos Fiscales destinados a las operaciones de Exportacion – Objeto de Auditoria</a:t>
            </a: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Se aplicaran procedimientos de auditoria para verificar que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El monto del credito Fiscal corresponde efectivamente a operaciones de exportac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Se consulto en un 100% el estado Fiscal de los proveedores, las retenciones practicadas y los certificados emitido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Verificar la capacidad operativa del prove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Comprobar la aplicación de las normas legales de facturacion y registrac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</a:rPr>
              <a:t>Visualizacion de la existencia del proveed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B683-C51C-4B80-BC21-3D43F135C1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-284040"/>
            <a:ext cx="7772400" cy="18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Anexo II –</a:t>
            </a:r>
            <a:br>
              <a:rPr sz="3600"/>
            </a:b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Informe Especial de Procedimientos realizados</a:t>
            </a: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onstituye un informe de Auditoria donde se detalla: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Informacion sujeta a Revision Espec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Alcance de la Revision Espec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Aclaraciones Previas al informe espec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Informe especial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6E82-5D00-474B-B818-6CB72EA78F6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809280"/>
            <a:ext cx="77929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333399"/>
                </a:solidFill>
                <a:latin typeface="Tahoma"/>
              </a:rPr>
              <a:t>Documentacion Basica para Exportar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Factura Original y Dupli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Permiso de Embarque con cumplido realizado por funcionario de Aduana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Nota de Empaque o Packing – L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Certificado de Analisis y/o ca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ahoma"/>
              </a:rPr>
              <a:t>Intervencion de Organismos Especiales (SENASA, INTA, etc.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F264-9EFD-4048-90DD-CBDA20F5364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06-29T14:41:53Z</dcterms:modified>
  <cp:revision>12</cp:revision>
  <dc:subject/>
  <dc:title>Presentación de PowerPoint</dc:title>
</cp:coreProperties>
</file>