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BAF0-F257-43FA-A62B-BA53F798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E8F-1504-46C2-B60F-E22E6D5F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59D2-8976-418F-95A1-2185E916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1A2-3A59-483B-83E5-55EB0617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ADD6-2A8B-468D-A175-CDECAED2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E9D5-4766-48BF-B9DC-96E9BDB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AD58-CE4A-4A20-9D2A-11E0736E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7540-252C-45A9-A1DA-5100EECF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6A0F-970F-4AC4-BE21-26CE9298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548C-E2C0-417D-B7DF-6926870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6DC8-D717-425D-AE53-A8BCE049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B96-CEAE-4CAB-8195-FE653EFF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AEF2-6A6D-4EAE-8BC2-7B866D3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850F-58E7-4D9A-8796-EFB762D1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834E-978D-4D8E-88FF-C4157FE3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7363-D2B7-4CB2-889C-BFDE439B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F849-213B-499D-8842-CEAC2B5F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9BA-0B9E-4F78-AB76-768C8AD4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3F15-A221-4545-BCCA-1FFD340A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DB9F-98E4-46EF-BC0C-B7381A9A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E4E-5877-4B96-86DE-C1D88F62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953-9270-4C9D-9DA5-A5682776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6F7-053A-40C3-A594-38F6914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376-105D-4A8E-B067-A1A71F3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E0A5-678E-48CE-B409-25D96746E24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3206-C058-4FE3-99FD-211861825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2B3D-D71F-44EA-8989-301D3D75BF1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B215-56D4-4776-90B1-20713D364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cobrazil.com/gallery/images/corarara_jpg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cobrazil.com/gallery/images/embmaceio_jpg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Regime jurídico promocional das pequenas e médias empresas no Bras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sé Gabriel Assis de Almei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ogado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o de Janeiro, São Paulo Lisboa e Pa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essor Adjunto da UERJ e da Uni-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6E7F-9FD2-4F24-A8F9-1E593582EF7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CF6BD9D-5B9C-427D-BA66-E20C0A212D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CANAIS DE VEND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Os canais de venda vão se organizar através da relação que uma empresa argentina estabelece com uma empresa brasileir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Como vender produtos argentin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o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s no Brasil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Através de contratos de representação comercial, de contratos de agência, de contratos de distribuição, de contratos de comissão e de contratos de franqui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Tratam-se de contratos regidos explicitamente pelo direito brasileiro, em especial o Código Civil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Regência geral: Regras gerais sobre contrat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Regência específica: Regras específicas para cada tipo de contra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71E0-3841-4BEE-9C71-D7C9CC7123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2FCC9-18FA-4F2A-AA52-D299877C4C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CANAIS DE VEND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Em 12 de janeiro de 2003 entrou em vigor o “Novo Código Civil Brasileiro” (Lei nº 10.406, de 10.01.02), em substituição ao Código Civil de 1916, o qual disciplinou, por mais de 80 anos, uma vasta gama de relações jurídicas privadas no campo de incidência do Direito Civil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tre as principais inovações trazidas pelo Novo Código Civil, podemos mencionar as seguintes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i)</a:t>
            </a:r>
            <a:r>
              <a:rPr b="1" i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sciplina conjunta das obrigações civis e mercantis, revogando o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 Unicode MS"/>
              </a:rPr>
              <a:t>Código Comercial de 1850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ii) adoção das regras da “boa-fé objetiva”, da “função social dos contratos” e do “enriquecimento sem causa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E44-95A2-49E3-BCD3-AC9CE6E7417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257E0-1385-4B8C-BA3B-585B8A3F2E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CANAIS DE VEND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60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iii)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inclusão de novas modalidades de vício de consentimento, como o “estado de perigo” e a “lesão”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0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0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iv) modificação do limite legal de taxa de juros, que passa de um teto máximo de 12% ao ano para um percentual variável segundo condições de mercado, correspondendo à mesma taxa cobrada pelo Governo Federal para a correção de tributos de sua competência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0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0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v) maior objetivação da responsabilidade civil, pela adoção da teoria do risco, tendo em vista os interesses coletivos e dos consumidores, sem prejuízo da proteção constitucional à propriedade, à livre iniciativa e à economia de mercad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02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936-D19D-466B-8DA8-91964BFA22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13ACC-5FEF-4348-B493-8FCFCFBE7C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 algn="ctr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ETAPAS NECESSÁRIAS PARA COMEÇAR UMA JOINT VENTURE NO BRAS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just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onstituição de uma sociedade, de acordo com o direito brasileir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 algn="just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gistro na Junta Comercial ou no Registro Civil das Pessoas Jurídic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 algn="just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gistro no Ministério da Fazenda (CNPJ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 algn="just">
              <a:lnSpc>
                <a:spcPct val="7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gistro com as autoridades estaduais e municipais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just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gistro do investimento estrangeiro no Banco Central do Brasi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just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6)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utros registros eventuais(marcas e patentes no INPI, licenças ambientais do IBAMA, licenças setoriais ANATEL, ANP, etc.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just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7)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istos de trabalho ou residência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B60-9FCC-4EB2-904F-A2FF91D9C5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A643F-CC98-42A0-B81D-EF1B134D4C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JOINT-VENTURES: SOCIEDADE LIMITA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sócios podem ser pessoas naturais ou pessoas jurídicas, brasileiras ou estrangeir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brigatoriamente identificados (inexistência de quotas ao portador ou endossáveis; todas as quotas são nominativ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sponsabilidade limitada, solidária entre os sócios com relação a terceiros, pelo valor total do capital social ainda não integralizado (possibilidade de, em casos excepcionais, haver responsabilidade excedente, quando capital já estiver integralizado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B81-4A24-4E90-8D93-63EF87244E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04423-13E4-4B6E-BAB2-18A19A4881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JOINT VENTURES: SOCIEDADE LIMITA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Capital social com valor indicado em moeda nacional, sem limite legal máximo ou mínim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Contribuição com bens ou direitos, incluindo intangívei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Interdição de contribuição em serviço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Dividido em quotas (do mesmo valor ou de valores desiguais) indivisíveis, salvo em caso de cessã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Todas as quotas dão direito a voto (impossibilidade, em princípio, de “quotas preferenciais”; possibilidade de quotas com vantagens patrimoniai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3F3-BB02-4673-9ADC-9E2D70A1B8B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93B42-7306-4AE9-9928-A31A67564D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JOINT-VENTURES: SOCIEDADE LIMITA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s deliberações sociais têm quora próp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Quorum da totalidade do capital so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designação de administradores não sócios quando o capital não estiver integralizad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Quorum de 3/4 do capital so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alteração do contrato so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incorporação, fusão, (cisão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dissolu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cessação do estado de liquid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61A-AE88-4589-8525-54FD82033A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0F5EC-174E-46E3-9C76-625A59C13A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JOINT-VENTURES: SOCIEDADE LIMITA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Quorum de 2/3 do capital so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designação de administradores não sócios quando o capital estiver integralizad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destituição de sócio administrador nomeado no contrat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Quorum da maioria do capital so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designação e destituição de administradores (nas demais hipótese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remuneração dos administrado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pedido de concor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508-FB92-4F1B-B055-B83D8CD533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11F99-882D-4774-ACA1-46B45EAC7E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OINT-VENTURES: SOCIEDADE LIMITADA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Quorum da maioria do capital prese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aprovação das cont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nomeação e destituição de liquid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sz="2400" spc="-1" strike="noStrike">
                <a:solidFill>
                  <a:srgbClr val="ffffff"/>
                </a:solidFill>
                <a:latin typeface="Arial"/>
              </a:rPr>
              <a:t>- julgamento das contas dos liquida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Alteração contratual do quo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Nas hipóteses fixadas pela lei não há possibilidade de aumentar ou reduzir o quoru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ffff"/>
                </a:solidFill>
                <a:latin typeface="Arial"/>
              </a:rPr>
              <a:t>Nas demais hipóteses, há possibilidade de aumentar ou reduzir o quorum por cláusula contrat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0CC-A71F-4050-B293-F27B84250A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D2358-C717-4A9B-BDC1-B0BF48601C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JOINT-VENTURES: SOCIEDADE LIMITA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tagem dos voto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otação por participação no capital 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mpate: Decisão a favor do maior número de sócios (contagem por cabeç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m caso de novo empate, desempate pelo Jui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8C2-B2F5-463A-B698-24D843A0AB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4153D-5AF9-4EA6-88E7-7F87C6A592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ts val="1962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1962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População – 169,8 milhõ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Tamanho – aprox. 8,5 milhões km</a:t>
            </a:r>
            <a:r>
              <a:rPr b="1" lang="pt-BR" sz="1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Língua – Portuguê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PIB – US$ 531 bilhõ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Desemprego – 5.64% (média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Renda per capita – US$3,000 (aprox.)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Balança Comercial = (+) 17.5 bilhões (FOB).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4764" t="3405" r="1474" b="6527"/>
          <a:stretch/>
        </p:blipFill>
        <p:spPr>
          <a:xfrm>
            <a:off x="4541760" y="2060640"/>
            <a:ext cx="4602240" cy="29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C1F-E8BA-410A-B74B-8E18906394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B4966-8D6A-4920-9D31-6FDDB60590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JOINT-VENTURES: SOCIEDADE LIMITA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s Administradores podem ser os sócios ou terceir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brigatoriamente serão pessoas natur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tinção da figura do Gerente por Delegação ou Gerente Delega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ssibilidade apenas de nomeação de procuradores com poderes específic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cedimento formal de tomada de po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72E-1EF6-4A36-AF40-13A1D32ECF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C91D5-67A8-4DE5-923B-8B2F12861A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JOINT-VENTURES: SOCIEDADE LIMITADA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administradores têm poderes para praticar todos os atos de administração da socied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administradores não têm poderes para a venda ou a oneração de bens imóve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s sócios podem limitar os poderes dos administradores por cláusula contratual, sendo a limitação válida com relação a terceiros se, alternativamente (i) estiver arquivada na Junta Comercial (ii) o terceiro realmente sabia da limitação (iii) o negócio realizado era estranho ao objecto so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7C8-3A8A-4CE7-B2D9-CBA718DB9E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A11F4-35DE-493C-8937-D5F8466019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Arial"/>
              </a:rPr>
              <a:t>JOINT-VENTURES: SOCIEDADE LIMITAD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usência de responsabilidade pelos atos praticados (quem se obriga é a socieda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ão há responsabilidade se a sociedade tiver prejuízos decorrentes das suas atividades habitua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Há responsabilidade s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i) os atos forem praticados com culpa ou do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ii) os atos forem praticados em proveito próprio ou de terceiros, com o uso dos bens socia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139-129E-4D72-8375-8D0A276B38E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41AAF-1706-4ED0-A15F-44DFD2192B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OCIEDADES ESTRANGEIRA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ão consideradas sociedades estrangeiras todas as que não forem constituídas de acordo com a lei brasileira e não tiverem no Brasil a sede da sua administr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s sociedades estrangeiras podem participar no capital social de sociedades brasileiras, sem necessitar de autorização do Estado brasileir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s as sociedades brasileiras somente podem ser (i) sociedades anónimas, ou (ii) sociedades limitadas, regidas supletivamente pelas normas aplicáveis às sociedades anónimas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B9F-D3D7-43D1-BAB2-6E118EA0592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8745B-6889-483A-B056-37D051A1D7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OLUÇÕES JUDICI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ão há distinção de tratamento entre argentinos e brasileiro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s tribunais estão abertos para os argentino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istema de caução às custas e honorários não se aplica, em virtude de acordos no âmbito do Mercosu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ssibilidade de eleição de for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069-99DB-4F37-AB2A-E43551A842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AEF62-8F4D-407C-A1F7-2B08F6283B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BITRAG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Litígios podem ser dirimidos por arbitragem.  A Lei de Arbitragem brasileira (Lei nº 9307, de 1996) prevê a executividade de cláusulas arbitrais, sendo que o Supremo Tribunal Federal recentemente confirmou a constitucionalidade desse diploma legislativo. 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Sentenças arbitrais proferidas dentro do território brasileiro são consideradas títulos executivos judiciais, e podem ser executadas pelo Juízo de Direito competente.  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A execução de sentenças arbitrais proferidas fora do território nacional depende de homologação prévia pelo Superior Tribunal de Justiça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1188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Times New Roman"/>
              </a:rPr>
              <a:t>A homologação de laudo arbitral estrangeiro não mais depende de prévia chancela do Poder Judiciário do País de origem, afastando a obrigatoriedade de dupla homologação </a:t>
            </a:r>
            <a:r>
              <a:rPr b="1" lang="pt-BR" sz="1900" spc="-1" strike="noStrike">
                <a:solidFill>
                  <a:srgbClr val="ffffff"/>
                </a:solidFill>
                <a:latin typeface="Arial"/>
                <a:ea typeface="Arial Unicode MS"/>
              </a:rPr>
              <a:t>.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49F6-2E85-48D2-93D6-012A0EEE75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1A96F-428A-4B60-84AE-1FEF75D730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USTO DE SE IMPLANTAR NO BRASI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nsiderando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Todos os registros federais, estaduais e municipais necessário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m capital social de US$400 para uma sociedade limitada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O custo fixo é estimado em US$3,000 para constituir uma sociedade (custo com escritório, contador, advogado, etc.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ecessário considerar investimento mínimo de US$50,000 para os que desejam obter visto de residência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3C2-D0F9-4741-BD7A-8FAAF1581A5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49136-B4C1-4C62-B13C-47DCBA4113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GIME DE TRABALHO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s regras básicas das relações de emprego estão estabelecidas na Consolidação das Leis do Trabalho (“CLT”)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 CLT trata 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missão de empregad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missão de empregados (e respectiva indenizaçã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horários de trabal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icipação mínima de empregados brasileiros (2 terço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érias (30 dias, com abono de 1 terç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odificação do contrato de trabalho (transferência de loc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rev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drões de segurança no trabal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teção de determinadas classes de trabalhad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5B6-4CB8-4EC9-9030-A7AEB49D3FA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E4439-3A3A-4286-8D36-B9CF4B5BD7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ISTOS PARA ESTRANGEIR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Estrangeiros que tenham qualificação especial podem obter visto de residência para trabalhar em empresas brasileiras ou estrangeiras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Empresas que investirem US$50.000,00 ou mais podem requerer vistos de residentes para diretores. 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A Constituição Federal assegura aos estrangeiros com residência no País os mesmos direitos inerentes aos Brasileiros, se houver reciprocidade de tratamento. 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63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Arial Unicode MS"/>
              </a:rPr>
              <a:t>Brasil e Argentina celebraram vários tratados e acordos que, dentre outras medidas, isenta de visto a entrada para fins culturais, empresariais, jornalísticos ou turísticos por período de noventa dias; estabelece o reconhecimento recíproco de graus e títulos acadêmicos de ensino superior; e estimula a cooperação econômica e financeira.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A6A2-0FC4-45D0-A815-350033005E0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912E1-DB8D-483E-B912-668438F83E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eta-Bold"/>
              </a:rPr>
              <a:t>Se desejar uma cópia deste material ou maiores informações, favor contata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eta-Bold"/>
              </a:rPr>
              <a:t>José Gabriel Assis de Almeid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eta-Bold"/>
              </a:rPr>
              <a:t>Av. Rio Branco, 109, 21o and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eta-Bold"/>
              </a:rPr>
              <a:t>Rio de Janeiro R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eta-Bold"/>
              </a:rPr>
              <a:t>cep 20.040-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eta-Bold"/>
              </a:rPr>
              <a:t>Tel: 55-21/22.32.70.85 </a:t>
            </a:r>
            <a:r>
              <a:rPr b="1" lang="pt-BR" sz="2800" spc="-1" strike="noStrike">
                <a:solidFill>
                  <a:srgbClr val="ffffff"/>
                </a:solidFill>
                <a:latin typeface="Meta-Bold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Meta-Bold"/>
              </a:rPr>
              <a:t>Fax: 55-21/25.07.13.8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Meta-Bold"/>
              </a:rPr>
              <a:t>E-mail: jgaa1@terra.com.b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7A5-A8A5-438E-898B-82CC76A2B4D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064C8-2DE1-44F5-BD2C-36FD8B4D2B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1500" spc="-1" strike="noStrike">
                <a:solidFill>
                  <a:srgbClr val="ffffff"/>
                </a:solidFill>
                <a:latin typeface="Times New Roman"/>
              </a:rPr>
              <a:t>O Brasil é uma república federativa, dividida em 26 Estados e 1 Distrito Federal (Brasília) que compõem 5 regiõ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500" spc="-1" strike="noStrike" u="sng">
                <a:solidFill>
                  <a:srgbClr val="ffffff"/>
                </a:solidFill>
                <a:uFillTx/>
                <a:latin typeface="Times New Roman"/>
              </a:rPr>
              <a:t>Norte </a:t>
            </a:r>
            <a:r>
              <a:rPr b="1" lang="pt-BR" sz="15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pt-BR" sz="1500" spc="-1" strike="noStrike">
                <a:solidFill>
                  <a:srgbClr val="ffffff"/>
                </a:solidFill>
                <a:latin typeface="Times New Roman"/>
              </a:rPr>
              <a:t>compreendendo 7 estados e 14 milhões de habitantes (dos quais 62.4% vivem em áreas urbanas)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500" spc="-1" strike="noStrike" u="sng">
                <a:solidFill>
                  <a:srgbClr val="ffffff"/>
                </a:solidFill>
                <a:uFillTx/>
                <a:latin typeface="Times New Roman"/>
              </a:rPr>
              <a:t>Nordeste</a:t>
            </a:r>
            <a:r>
              <a:rPr b="0" lang="pt-BR" sz="1500" spc="-1" strike="noStrike">
                <a:solidFill>
                  <a:srgbClr val="ffffff"/>
                </a:solidFill>
                <a:latin typeface="Times New Roman"/>
              </a:rPr>
              <a:t> – compreendendo 9 estados e 47 milhões de habitantes (dos quais 65.2% vivem em áreas urbanas)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1500" spc="-1" strike="noStrike" u="sng">
                <a:solidFill>
                  <a:srgbClr val="ffffff"/>
                </a:solidFill>
                <a:uFillTx/>
                <a:latin typeface="Times New Roman"/>
              </a:rPr>
              <a:t>Meio-Oestes</a:t>
            </a:r>
            <a:r>
              <a:rPr b="0" lang="pt-BR" sz="1500" spc="-1" strike="noStrike">
                <a:solidFill>
                  <a:srgbClr val="ffffff"/>
                </a:solidFill>
                <a:latin typeface="Times New Roman"/>
              </a:rPr>
              <a:t> - compreendendo 3 estados e 11,5 milhões de habitantes (dos quais 84,4% vivem em áreas urbanas)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 u="sng">
                <a:solidFill>
                  <a:srgbClr val="ffffff"/>
                </a:solidFill>
                <a:uFillTx/>
                <a:latin typeface="Times New Roman"/>
              </a:rPr>
              <a:t>Sudeste</a:t>
            </a:r>
            <a:r>
              <a:rPr b="0" lang="pt-BR" sz="1500" spc="-1" strike="noStrike">
                <a:solidFill>
                  <a:srgbClr val="ffffff"/>
                </a:solidFill>
                <a:latin typeface="Times New Roman"/>
              </a:rPr>
              <a:t> – compreendendo 4 estados e 71 milhões de habitantes (dos quais 89,3% vivem em áreas urbanas)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 u="sng">
                <a:solidFill>
                  <a:srgbClr val="ffffff"/>
                </a:solidFill>
                <a:uFillTx/>
                <a:latin typeface="Times New Roman"/>
              </a:rPr>
              <a:t>Sul</a:t>
            </a:r>
            <a:r>
              <a:rPr b="0" lang="pt-BR" sz="1500" spc="-1" strike="noStrike">
                <a:solidFill>
                  <a:srgbClr val="ffffff"/>
                </a:solidFill>
                <a:latin typeface="Times New Roman"/>
              </a:rPr>
              <a:t> – compreendendo 3 estados e 23,5 milhões de habitantes (dos quais 84,4% vivem em áreas urbanas);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2367000"/>
            <a:ext cx="3809880" cy="3341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43800" y="1523880"/>
            <a:ext cx="1287360" cy="6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D90-8604-4665-BFE5-64CB2BA00E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9422D-D0E2-4F24-96BB-27D84F3E40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525780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34320" y="3276720"/>
            <a:ext cx="1341360" cy="1888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019920" y="1752480"/>
            <a:ext cx="2620800" cy="1484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705720" y="5181480"/>
            <a:ext cx="2262240" cy="109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4191120"/>
            <a:ext cx="64008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Times New Roman"/>
              </a:rPr>
              <a:t>Região Nort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Times New Roman"/>
              </a:rPr>
              <a:t>Esta é a maior e menos populosa região do Brasil. A floresta amazônica fica aqui situada e um terço das espécies do planeta são aqui encontradas.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Times New Roman"/>
              </a:rPr>
              <a:t>É um paraíso ecológico, representando a maior reserva biológica mundiais, com recursos naturais inigualáveis.</a:t>
            </a:r>
            <a:r>
              <a:rPr b="0" lang="pt-BR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Times New Roman"/>
              </a:rPr>
              <a:t>A economia local depende basicamente da atividade industrial da Zona Franca de Manaus e de atividades de extrativism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985-2D20-40BA-A752-C2295B3722F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E39BC-89F1-472E-BE5B-711F43460D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/>
          </p:cNvPr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4648320" y="5562720"/>
            <a:ext cx="1933560" cy="100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209680" y="4800600"/>
            <a:ext cx="1630440" cy="1031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446960" y="2205000"/>
            <a:ext cx="1697040" cy="2016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7315200" y="5410080"/>
            <a:ext cx="1639800" cy="876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95680" y="1905120"/>
            <a:ext cx="2667240" cy="33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Nordest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companhando a linha da costa, esta região foi a primeira a ser descoberta e desenvolvida pelos colonos portugues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 economia local funda-se, além do turismo, em diversas atividades como software, siderurgia, indústria naval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AC7-1D42-40EC-8956-145154488F8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87996-458B-41B7-96E8-7167CBF084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303360" cy="2361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2185920" cy="1401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486400" y="1752480"/>
            <a:ext cx="2901960" cy="172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38480" y="3809880"/>
            <a:ext cx="4572000" cy="27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Região do Meio-O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É a região de desenvolvimento mais rápido. Inclui os Estados de Mato Grosso, Mato Grosso do Sul e Goiá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Famosa pela beleza, é uma região de gado, agricultura e mineração. Nesta região situa-se Brasília, a capital do Brasil.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AC3-28C6-452D-957A-7F39C9B62BE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3027A-5A95-48A2-983A-E096251010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59200" cy="2233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2195640" cy="131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07960" y="4365720"/>
            <a:ext cx="2295720" cy="1395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7607160" y="2205000"/>
            <a:ext cx="1536840" cy="20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7453440" y="4365720"/>
            <a:ext cx="1690560" cy="202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8120" y="4419720"/>
            <a:ext cx="403848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 Região Sudeste é a região mais desenvolvida do Brasi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Com apenas 11% do território, contribui com 63% de toda a produção industrial e representa 44% da popul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EB71-E874-4B61-89C8-C0549B4CA01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DF746-E405-40F4-BD0D-5CB4628DA0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3225960" cy="1801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581280" y="1981080"/>
            <a:ext cx="315936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400800" y="4572000"/>
            <a:ext cx="2506680" cy="1538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934320" y="1981080"/>
            <a:ext cx="1904760" cy="1619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4114800"/>
            <a:ext cx="495288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nsiderada a Europa do Brasil, a Região Sul é a mais próspera de todas as regiõ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 imigração alemã, italiana e da Europa do Leste teve grande influência nos costumes, alimentação, arquitetura e economia desta regi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A1E-9249-453A-A4E4-2812B941DA0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E5BE7-4118-4700-87A8-379ACF81BD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ando se fala de estratégia contratual com empresas brasileiras e solução de conflitos se refer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Quais as modalidades de organização de um negócio no Brasil, em parceria com uma empresa brasileir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1) canais de venda de produtos argentinos no Brasi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2) joint-ven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Como prevenir e remediar conflitos que podem surgir com as empresas brasileir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CB9-346C-4521-A707-EB497C5AD2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4EA5A-A49D-4B22-891C-7778A42809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5-07-07T20:44:28Z</dcterms:modified>
  <cp:revision>8</cp:revision>
  <dc:subject/>
  <dc:title>PowerPoint Presentation</dc:title>
</cp:coreProperties>
</file>