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1DC-384D-491B-9DCA-F33DBAF5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859-A89C-4BED-BA55-46D44E59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6A5B-05CF-4402-ABB0-BDF0EB44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FDE3-C36A-4D55-AAE2-949E9B84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5AB-D20B-4EB4-85CE-F474866B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BE4-D83A-4799-AC34-A8F7B91F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E8B-EB67-4762-BFD7-024CDCDF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48D-8BCB-412C-9544-265E75EC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E71-CED2-4640-ADD4-5F981511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DDD-A7C7-4045-B030-0A717E78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4FC-BBA0-4306-84B7-7509423B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FE6-A177-4D7F-85D6-55E3BF08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85F7-2932-485F-8D16-22C5405C87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pabrasil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90600" y="262080"/>
            <a:ext cx="6561000" cy="633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11430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“ </a:t>
            </a:r>
            <a:r>
              <a:rPr b="1" i="1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El sistema simplificado de impuestos”</a:t>
            </a:r>
            <a:r>
              <a:rPr b="1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por Felipe Batista dos Reis Pestana, abogado y contador em Brasil, consultor empresarial e sócio do Grupo Pla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n esta parte estaremos abordando la tributación de las Pymes en Brasil, las posibilidads y diferencias del regimen simplificado, la tributación en algunas situaciones especificas, la tributación personal de los socios e trabajadores, y las modalidads de control de recaudación tributá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E – Imposto de Exportaçã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 sobre a exportação de produtos, em forma similar ao imposto de impor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ualmente só existe para a exportação de couros, com previsão de isenção a partir de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os outros produtos são atualmente isentos do Imposto de Expor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OF – Imposto sobre Operações Financeira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operações de crédito, câmbio e seguros ou operações relativas a valores mobiliá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 máxima de 1,5% ao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ior parte das operações tem a alíquota de 0,0041% ao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TR – Imposto sobre a Propriedade Territorial R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 sobre a propriedade de imóvel rural, fora de zona urbana de muni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íquotas calculadas em função da metragem e localização do imó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íquotas inversamente proporcionais à produtividade do imóvel, variando de 0,03% à 20%, para propriedade improdu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unidade da pequena propriedade r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s Estadu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operações relativas à circulação de mercadorias e prestação de serviços (IC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propriedade de veículo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otores (IPV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circulação de mercadorias e prestação de serviços (ICMS)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ide sobre circulação de produtos; serviços de transporte interestadual e intermunicipal; serviços de comunicação e telecomunicações; fornecimento de energia elétrica, combustíveis e minera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ão cumulativo (o tributo é repassado para as operações subseqüentes), à alíquota de 7%, 12% ou 18% e 19%, do valor do produto, conforme o est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ão incide sobre livros, jornais, periódicos e exportação de produtos industrializ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taurantes, bares e Cafés, no Rio de Janeiro, podem optar por pagar 4% sobre o faturam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propriedade de veículos automotores (IPVA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propriedade de veículos automotores de qualquer espécie, independente de seu efetivo u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s fixas ou percentuais, conforme a legislação de cada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io de Janeiro, varia de 1% a 3%, conforme a natureza do veíc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s Municip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serviços (I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a Propriedade Predial 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itorial Urbana (IPT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Serviç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prestação de diversos serviços, fora os abrangidos pelo ICM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devido no local onde se verificam os efeitos da prestação do serviç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a Propriedade Predial e Territorial Urban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propriedade de imóvel localizado em zona urbana de municíp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do em função da metragem e localização do imóv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ssoas jurídicas que alugam um imóvel geralmente têm a si repassadas a obrigação de pagar este tribu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ribuições Diversas de Interesse das Empre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de integração social (P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ão para o financiamento d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a de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guridade social (COFI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. Social sobre o Lucro Líquido (CS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to Naci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rida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(IN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ras entidades e f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tempo de serviço(FG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ões Sindic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 u="sng">
                <a:solidFill>
                  <a:srgbClr val="000000"/>
                </a:solidFill>
                <a:uFillTx/>
                <a:latin typeface="Times New Roman"/>
              </a:rPr>
              <a:t>Bras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ga tributá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 - Mão de o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ão de obra nas empresas infor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ão de obra nas empresas for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contratação de mão-de o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ão de obra infor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lho assalar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lho autôno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giá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va de mão-de-o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quisitos para a formalidade dos assalaria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rutamento e sel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unção regulamentada, inscrição no órgão de c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e médico na admissão, demissão e periód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 de trabalho e carteira de trabalho ass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e de po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vantes de salários, férias, 13º salário, rescis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sto da mão-de-obra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assalaria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alá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0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érias, 11,1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º Salá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8,3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S (Previdência Soci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9,00%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ceto Simp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G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8,50%. (Simples 8,0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le transp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utros benefícios da categoria, como alimentação e plano de saú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íodo de Experiência e Aviso Prév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brigações acessóri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ha de pag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, DIRF e DCT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ro de Registro de Empreg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ro de Inspeção do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 de Rendi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 (Programa de Alimentação do Trabalhad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SO (Programa de Controle Médico de Saúde Ocupac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RA (Programa de Prevenção de Riscos Ambien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sto com Pessoal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ratações Diversas</a:t>
            </a: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286000"/>
          <a:ext cx="6825960" cy="28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68259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 - O sistema simplificado de tributação -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nas um único imposto federal, que engloba IRPJ, Contrib. Social, Pis, Cofins e INSS Patronal (pode englobar o IPI, sendo a alíquota majorada em 0,5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ção de encargos sobre folha de pag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sa a empresas que faturem até R$ 100.000,00 mensais e utilizem muita mão-de-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uma listagem de atividades permitidas para este enquadr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adores de serviço: acréscimo de 50% nas alíquo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ributação das ME (Micro-Empres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690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ributação das EPP (Empresas de Pequeno Port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981080"/>
          <a:ext cx="77724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2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rga Tributária – Simples e Presumi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95480"/>
          <a:ext cx="784872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95480"/>
                    <a:ext cx="784872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apabrasil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s Simplificados de Tributação nos Estado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 Muni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Estado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 Municípios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odem celebrar convênio com a União Federal, embutindo o ICM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e o ISS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com os tributos federais na alíquota do SIMP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Estado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 Municípios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que não desejarem celebrar o convênio podem estabelecer condições próprias para seus próprios sistemas simplific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regime simplificado do ICMS no Rio de Janei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de-se recolher o ICMS através de valor fixo mensal (corrigido anualmente) em várias faixas, conforme o faturamento da empres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00200" y="3505320"/>
          <a:ext cx="623556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2355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 - TRIBUTOS DE INTERESSE DAS EMPRESAS N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s Fede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s Estadu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s Municip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ões Diversas e custo dos assalari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s Fed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6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mposto sobre a renda e proventos de qualquer natureza – pessoa jurídica (IRPJ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de Renda Retido na Fonte.(IRR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/ produtos industrializados (I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de importação 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de Exportação (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Operações Financeiras (IO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a Propriedade Territorial Rural (IT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 s/ a renda e proventos de qualquer natureza (IRPJ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renda, entendido como tal o acréscimo no patrimônio da pessoa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 de 15% sobre o luc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icional de 10% para o montante de lucro superior a R$ 20 mil / mê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ei possibilita a escolha da forma de tribut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osto de Renda Retido na Fonte (IRRF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igação de recolhimento pela fonte pagad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rendimentos tributáveis das pessoas físicas, e de pessoas jurídicas, principalmente sobre serviç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 máxima de 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PI- Impostos sobre produtos industrializa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fabricação de produtos e nas importações de mercadorias, máquinas e equipa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ento na exportação de produtos industri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crescido ao valor dos prod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 – Imposto de Importaçã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ide sobre a importação de produtos (tanto mercadorias para revenda, quanto bens, para consumo ou uso próp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íquo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específica 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lor fixo por quantidade ou volume da mercadoria (Ex.: R$ 100,00 por tonel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d valore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percentual sobre o valor total da impor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0:36:10Z</dcterms:created>
  <dc:creator>dos Reis Pesta</dc:creator>
  <dc:description/>
  <dc:language>en-US</dc:language>
  <cp:lastModifiedBy>C.P.C.E.C.A.B.A.</cp:lastModifiedBy>
  <dcterms:modified xsi:type="dcterms:W3CDTF">2005-07-01T18:27:15Z</dcterms:modified>
  <cp:revision>84</cp:revision>
  <dc:subject/>
  <dc:title>Brasil</dc:title>
</cp:coreProperties>
</file>