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10D-E7BE-4C45-9FB9-A3E861B3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E73-C6C8-4733-B74A-015807BB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DB5-4992-482C-B32A-565C05E1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844-560A-49F4-944B-DDCAA05F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37C4-9480-48D5-AD67-FE75BFE1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47B-1B47-4556-B0DE-F687FBC2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2CA-1B5B-4817-8228-104783C7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0EB9-C099-4D1D-94D3-6BEC6C64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367-59CC-4C1B-9BD0-2BDC9B6E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BCD-A5AF-41F3-A82D-2561036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813-C7A7-4DF1-9055-EF6D7E93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6D8-E62D-4128-978C-FA3B5A0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6B20-DCA6-4D87-801C-9E7DDDED7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pabrasil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290600" y="262080"/>
            <a:ext cx="6561000" cy="633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Brasi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ga tributá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II – PESSOAS FÍSICAS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TRIBUTAÇÃO E RESPONSABILIDA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 do trabalho assalariado, não assalariado e pró-labores.( Máximo de 27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s de aluguéis. (Máximo de 27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s de lucros de empresas.(Isento, desde que haja lucro contáb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imentos financeiros.(Máximo de 27,5%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 tributação na fonte, em três faixas, a primeira isenta, e as seguintes de 15% e 27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V - CONTROLE DA ARRECAD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essoas Juríd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MF. (0,38% sobre a movimentação financeir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s de Rendimentos, DIPJ, DCTF, DACON, DIRF,DARF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essoas Fís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PMF. (0,38% sobre a movimentação financeir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tões de créd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F, RAIS, DCTF, (DIPJ x IRPF), Informes de Rendi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ais exteriores de riqu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apabrasil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47676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 - O sistema simplificado de tributação -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enas um único imposto federal, que engloba IRPJ, Contrib. Social, Pis, Cofins e INSS Patronal (pode englobar o IPI, sendo a alíquota majorada em 0,5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ção de encargos sobre folha de pagam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sa a empresas que faturem até R$ 100.000,00 mensais e utilizem muita mão-de-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uma listagem de atividades permitidas para este enquadr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adores de serviço: acréscimo de 50% nas alíquo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ributação das ME (Micro-Empresa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67690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ributação das EPP (Empresas de Pequeno Port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1981080"/>
          <a:ext cx="77724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72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arga Tributária – Simples e Presumi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995480"/>
          <a:ext cx="7848720" cy="407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95480"/>
                    <a:ext cx="7848720" cy="40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s Simplificados de Tributação nos Estado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 Municíp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Estado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 Municípios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podem celebrar convênio com a União Federal, embutindo o ICM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e o ISS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com os tributos federais na alíquota do SIMP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Estado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 Municípios </a:t>
            </a:r>
            <a:r>
              <a:rPr b="0" lang="pt-BR" sz="3000" spc="-1" strike="noStrike">
                <a:solidFill>
                  <a:srgbClr val="000000"/>
                </a:solidFill>
                <a:latin typeface="Times New Roman"/>
              </a:rPr>
              <a:t>que não desejarem celebrar o convênio podem estabelecer condições próprias para seus próprios sistemas simplificad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regime simplificado do ICMS no Rio de Janeir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de-se recolher o ICMS através de valor fixo mensal (corrigido anualmente) em várias faixas, conforme o faturamento da empres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3505320"/>
          <a:ext cx="623556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505320"/>
                    <a:ext cx="623556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 -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POR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ação de Mercado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ão de PIS, COFINS, ICMS, IPI, 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ões se aplicam inclusive nas vendas à Trading Companies, visando a exportaçã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ação de Serviç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ão de PIS e COFINS se o serviço for prestado à PJ com sede n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enção de ISS, desde que o serviço prestado não produza efeito no Bras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0:36:10Z</dcterms:created>
  <dc:creator>dos Reis Pesta</dc:creator>
  <dc:description/>
  <dc:language>en-US</dc:language>
  <cp:lastModifiedBy>FELIPE</cp:lastModifiedBy>
  <dcterms:modified xsi:type="dcterms:W3CDTF">2005-06-27T23:17:27Z</dcterms:modified>
  <cp:revision>63</cp:revision>
  <dc:subject/>
  <dc:title>Brasil</dc:title>
</cp:coreProperties>
</file>