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E1F2-0870-43F1-8C33-E96398BC6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F6D-7C42-4FE3-B284-E72831BD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BAA-EEA7-42E0-88F9-C06FBDCB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79A-CAD0-490B-8EDA-3EF33817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6AC-2F1C-4446-A0B5-6B3CF244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D67-57EA-4C67-A6C0-8DF091DF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087B-FD71-4D37-BE52-3B2DC6D5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463-12DA-46F9-86DC-551AF62C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EFF-8F13-4D74-8B64-1CE2EEEE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DD5-BCB7-4D22-A514-7AED4A79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6DC-8DDC-4644-94AE-6CDF9AEC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3D7-60B5-4C2C-B4CB-64EB7CC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537-F46A-49C7-A626-1C102C3917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pabrasil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290600" y="262080"/>
            <a:ext cx="6561000" cy="633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76212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i="1" lang="es-AR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“ </a:t>
            </a:r>
            <a:r>
              <a:rPr b="1" i="1" lang="es-AR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La tributación general en Brasi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por Manoel Tito dos Reis Pesta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Diretor e idealizador do Grupo Planus, Diretor de Treinamento do SESCON-RJ - Sindicato das Empresas de Serviços Contábeis, Assessoramento, Perícias, Informações e Pesquisas do Estado do Rio de Janeiro</a:t>
            </a:r>
            <a:r>
              <a:rPr b="1" lang="pt-BR" sz="1200" spc="-1" strike="noStrike">
                <a:solidFill>
                  <a:srgbClr val="0000ff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ff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a palestra estaremos abordando variados aspectos tributarios existentes en Brasil, siempre tenendo en vista la análise de la carga tributaria incidente en las empresas, y la possibilidad de planeamiento fisc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blaremos de los variados tributos existentes en Brasil, en las esferas federales, estaduales e municipales, así como contribuciones variadas, carga tributaria sobre la contratación de trabajadores e modalidades de tributar en las empresa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 - CONTROLE DA ARRECAD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essoas Juríd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MF. (0,38% sobre a movimentação financeir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s de Rendimentos, DIPJ, DCTF, DACON, DIRF,DARF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essoas Fís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MF. (0,38% sobre a movimentação financeir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ões de créd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F, RAIS, DCTF, (DIPJ x IRPF), Informes de Rendi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ais exteriores de riqu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600" spc="-1" strike="noStrike" u="sng">
                <a:solidFill>
                  <a:srgbClr val="000000"/>
                </a:solidFill>
                <a:uFillTx/>
                <a:latin typeface="Times New Roman"/>
              </a:rPr>
              <a:t>Brasi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rga tributá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apabrasil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 – TRIBUTOS FEDERAIS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RMA DE TRIBUT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ucro Re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ucro Presumid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IM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ucro R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) Rece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-) Desp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=) Lucro/Prejuízo Contá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) Ad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-) Ex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=) Lucro/Prejuízo Fi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15% de Imposto de Re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10% de I.R. s/ lucro acima de R$ 20.000,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9% de Contribuição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 = 1,65% sobre a Receita Total, menos créd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FINS = 7,6% sobre a Receita Total, menos créd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ucro Presum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) Recei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8%, 16% ou 32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=) Lucro Presum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15% de Imposto de Re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10% de I.R. s/ lucro acima de R$ 20.000,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9% de Contribuição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 = 0,65% sobre a Receita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FINS = 3,00% sobre a Receita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 e COFINS não dão direito a créd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to de Renda, PIS, COFINS e CSLL e INSS do empregador ficam todos embutidos em uma única alíquota, que varia de 3% a 10,32%, sobre a Receita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ção do faturamento a R$ 100 mil / mê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imposto é recolhido em um único documento de arrecad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uma única declaração para estes imp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 -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POR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ação de Mercad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enção de PIS, COFINS, ICMS, IPI, 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enções se aplicam inclusive nas vendas à Trading Companies, visando a exportaçã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ação de Servi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enção de PIS e COFINS se o serviço for prestado à PJ com sede n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enção de ISS, desde que o serviço prestado não produza efeito no Bras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 – PESSOAS FÍSICAS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TRIBUTAÇÃO E RESPONSABILIDA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imento do trabalho assalariado, não assalariado e pró-labores.( Máximo de 27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imentos de aluguéis. (Máximo de 27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imentos de lucros de empresas.(Isento, desde que haja lucro contáb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imentos financeiros.(Máximo de 27,5%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 tributação na fonte, em três faixas, a primeira isenta, e as seguintes de 15% e 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0:36:10Z</dcterms:created>
  <dc:creator>dos Reis Pesta</dc:creator>
  <dc:description/>
  <dc:language>en-US</dc:language>
  <cp:lastModifiedBy>Sergio Alaniz</cp:lastModifiedBy>
  <dcterms:modified xsi:type="dcterms:W3CDTF">2005-06-29T14:26:28Z</dcterms:modified>
  <cp:revision>66</cp:revision>
  <dc:subject/>
  <dc:title>Brasil</dc:title>
</cp:coreProperties>
</file>