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5E1-631B-40D4-9EBC-79F7F324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B87-6511-4E7F-B272-F304798F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19F-2CD9-41B7-B9F7-C33AE139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7845-8A95-4B7F-8763-FF9AE74B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D4C-626C-4843-B3AA-81172BA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1CB-7C25-43A4-AB86-F7FD1199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AD9-732C-46CA-91B4-08EAD98C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C57-A109-4CBF-B072-CB8AB98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371-A3BA-49AA-8EA9-2F0B51D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C2E-E55F-4FA2-805A-86ECE27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32B-2027-4CF9-A9EE-0DDEF8E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EAB-5AB8-47C4-A4CD-94ECB289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8FB6-95C4-497B-9BC3-B100D767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pabrasil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0600" y="262080"/>
            <a:ext cx="6561000" cy="633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Bras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OF – Imposto sobre Operações Financeiras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operações de crédito, câmbio e seguros ou operações relativas a valores mobiliá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máxima de 1,5% ao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ior parte das operações tem a alíquota de 0,0041% ao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TR – Imposto sobre a Propriedade Territorial R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 sobre a propriedade de imóvel rural, fora de zona urbana de municí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calculadas em função da metragem e localização do imó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inversamente proporcionais à produtividade do imóvel, variando de 0,03% à 20%, para propriedade improdu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unidade da pequena propriedade r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Estadu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operações relativas à circulação de mercadorias e prestação de serviços (IC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propriedade de veículo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otores (IPV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circulação de mercadorias e prestação de serviços (ICMS)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ide sobre circulação de produtos; serviços de transporte interestadual e intermunicipal; serviços de comunicação e telecomunicações; fornecimento de energia elétrica, combustíveis e minera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ão cumulativo (o tributo é repassado para as operações subseqüentes), à alíquota de 7%, 12% ou 18% e 19%, do valor do produto, conforme o estad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ão incide sobre livros, jornais, periódicos e exportação de produtos industrializ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taurantes, bares e Cafés, no Rio de Janeiro, podem optar por pagar 4% sobre o faturamen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propriedade de veículos automotores (IPVA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opriedade de veículos automotores de qualquer espécie, independente de seu efetivo us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fixas ou percentuais, conforme a legislação de cada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io de Janeiro, varia de 1% a 3%, conforme a natureza do veícu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Municip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serviços (I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a Propriedade Predial 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itorial Urbana (IPT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Serviç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estação de diversos serviços, fora os abrangidos pelo ICM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devido no local onde se verificam os efeitos da prestação do serviç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imes New Roman"/>
              </a:rPr>
              <a:t>Imposto sobre a Propriedade Predial e Territorial Urbana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propriedade de imóvel localizado em zona urbana de municípi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do em função da metragem e localização do imóve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ssoas jurídicas que alugam um imóvel geralmente têm a si repassadas a obrigação de pagar este tribu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ribuições Diversas de Interesse das Empre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 de integração social (PI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ão para o financiamento d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a de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guridade social (COFI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. Social sobre o Lucro Líquido (CS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o Naciona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urida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(IN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ras entidades e f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o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tempo de serviço(FG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Sindic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 - Mão de o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nas empresas infor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nas empresas form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pabrasil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contratação de mão-de ob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ão de obra infor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lho assalar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balho autôno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giá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va de mão-de-ob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quisitos para a formalidade dos assalaria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rutamento e sele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função regulamentada, inscrição no órgão de c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e médico na admissão, demissão e periód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to de trabalho e carteira de trabalho ass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e de po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vantes de salários, férias, 13º salário, rescis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Custo da mão-de-obra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assalariad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alá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0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érias, 11,1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º Salá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8,3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SS (Previdência Social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9,00%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ceto Simp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G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8,50%. (Simples 8,0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e transp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outros benefícios da categoria, como alimentação e plano de saú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íodo de Experiência e Aviso Prév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brigações acessóri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ha de pag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S, DIRF e DCT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ro de Registro de Empreg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ro de Inspeção do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 de Rendi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 (Programa de Alimentação do Trabalh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SO (Programa de Controle Médico de Saúde Ocupacio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RA (Programa de Prevenção de Riscos Ambient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Custo com Pessoal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tratações Diversas</a:t>
            </a: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90720" y="2286000"/>
          <a:ext cx="6825960" cy="288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68259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II – TRIBUTOS FEDERAIS -  FORMA DE TRIBU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ucro Re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ucro Presumid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SIM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Lucro R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Rece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-) Despe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/Prejuízo Contá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Ad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(-) Ex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/Prejuízo Fi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5% de Imposto de R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0% de I.R. s/ lucro acima de R$ 20.000,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9% de Contribuiçã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= 1,65% sobre a Receita Total, menos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FINS = 7,6% sobre a Receita Total, menos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ucro Presumi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+) Recei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8%, 16% ou 32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=) Lucro Presum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5% de Imposto de Re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10% de I.R. s/ lucro acima de R$ 20.000,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9% de Contribuição 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= 0,65% sobre a Receita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FINS = 3,00% sobre a Receita 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 e COFINS não dão direito a crédi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to de Renda, PIS, COFINS e CSLL e INSS do empregador ficam todos embutidos em uma única alíquota, que varia de 3% a 10,32%, sobre a Receita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ção do faturamento a R$ 100 mil / mê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imposto é recolhido em um único documento de arrecad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uma única declaração para estes imp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 - TRIBUTOS DE INTERESSE DAS EMPRESAS NO BRAS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Feder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Estadu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s Municip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ições Diversas e custo dos assalari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s Feder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6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mposto sobre a renda e proventos de qualquer natureza – pessoa jurídica (IRPJ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Renda Retido na Fonte.(IRR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/ produtos industrializados (IP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importação (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de Exportação (I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Operações Financeiras (IO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-9684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sto sobre a Propriedade Territorial Rural (IT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osto s/ a renda e proventos de qualquer natureza (IRPJ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renda, entendido como tal o acréscimo no patrimônio da pesso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de 15% sobre o luc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icional de 10% para o montante de lucro superior a R$ 20 mil / mê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ei possibilita a escolha da forma de tribut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osto de Renda Retido na Fonte (IRRF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igação de recolhimento pela fonte pagad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rendimentos tributáveis das pessoas físicas, e de pessoas jurídicas, principalmente sobre serviç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 máxima de 1,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PI- Impostos sobre produtos industrializa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 sobre a fabricação de produtos e nas importações de mercadorias, máquinas e equipa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ento na exportação de produtos industrializ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acrescido ao valor dos prod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 – Imposto de Importação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ide sobre a importação de produtos (tanto mercadorias para revenda, quanto bens, para consumo ou uso próp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íquo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específica –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or fixo por quantidade ou volume da mercadoria (Ex.: R$ 100,00 por tonela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d valore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– percentual sobre o valor total da impor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E – Imposto de Exportaçã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 sobre a exportação de produtos, em forma similar ao imposto de impor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ualmente só existe para a exportação de couros, com previsão de isenção a partir de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os outros produtos são atualmente isentos do Imposto de Export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íquotas podem ser alteradas pelo Poder Execu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0:36:10Z</dcterms:created>
  <dc:creator>dos Reis Pesta</dc:creator>
  <dc:description/>
  <dc:language>en-US</dc:language>
  <cp:lastModifiedBy>FELIPE</cp:lastModifiedBy>
  <dcterms:modified xsi:type="dcterms:W3CDTF">2005-06-28T00:18:34Z</dcterms:modified>
  <cp:revision>82</cp:revision>
  <dc:subject/>
  <dc:title>Brasil</dc:title>
</cp:coreProperties>
</file>