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9774238" cy="6872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5DEDC-89F7-48C1-8BF3-C0EE78DF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2CF85-44FF-45DB-B1EF-11B5FDFD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CAD30-1BFC-48B4-8367-47742646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8584-F1ED-469E-9429-048FA176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B1DB-BF52-4DA0-9676-F72C8954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E50C-BC73-49F8-91AC-4182CECE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9625-1F36-47B2-A347-9C56068F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4A4C-BD21-435F-B789-C2C88C9B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1C2A-04C1-4537-B2B0-2E8489E7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D0DE-7865-4418-BCD3-DE9E15FD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B3B7-7DFE-4988-9386-D04172D9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23F45-9A6C-4326-96C3-BA307A79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DA7D-6AC7-4F6B-898F-6999E794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E261-5ADB-4FF0-9AB6-7A8AD834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9CA6-F709-456C-AD21-85145E72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071D-2750-4BFF-A4FB-2FC64B29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A87F-1EF9-4745-9CE1-A82A1A90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89898-ABDF-4550-87BC-60BB3EB7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91C72-697E-42CA-80F1-E3967059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8B58F-2CE8-468A-B72D-1D2491EB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F505B-FD10-4ABB-A7DE-415FC20E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C29FE-9036-468B-8E4E-D494A62B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CAE5A-0D25-4EB5-8F2B-A77C69C9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CD592-34C3-4D97-932F-D75719AB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29DB-B222-47CA-9793-6910A26D5C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8344080" y="5676840"/>
            <a:ext cx="74268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10E2-E0F8-4A12-8D14-224FCE54F4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344080" y="5676840"/>
            <a:ext cx="742680" cy="1123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CONGRESO DE DERECHO INTERNACIONAL Y DE MERCOSUR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IVERSIDAD DE BUENOS AIR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IVERSIDAD DEL ESTADO DE RIO DE JANEIR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VISTA DE DERECHO INTERNACIONAL Y DEL MERCOSU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357336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24000" y="371952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EL FRANCHISING EN EL MERCOSUR COMO POLÍTICA COMUNITÁ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4797360"/>
            <a:ext cx="828036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PROF. DR. LUIZ FELIZARDO BARRO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Garamond"/>
              </a:rPr>
              <a:t>FACULDAD DE DERECHO DE LA UNIVERSIDAD FEDERAL DE  RIO DE JANEI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5661000"/>
            <a:ext cx="2736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01 y  02 de Julio de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Buenos Ai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44080" y="5676840"/>
            <a:ext cx="7426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O BRASI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2205000"/>
            <a:ext cx="856908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678 redes atuando no país (73 estrangeiras. 48 US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56.000 unidades (franqueadas e  próprias do franquead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R$ 30 bilhões de fatura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3° país no mundo em cresci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90%  genuinamente nacion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500 mil empregos diret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800 mil empregos indiretos (1.300 vagas no paí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O BRASI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916280"/>
            <a:ext cx="460836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Empregos diretos: 500 m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28% a mais em relação a 2003 quando a ativ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cresceu 4% sobre 2002, com destaque p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3280" y="2852640"/>
            <a:ext cx="3097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limentação (6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ducação e treinamento (2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3500280"/>
            <a:ext cx="14400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76"/>
              </a:spcBef>
              <a:buClr>
                <a:srgbClr val="ffffff"/>
              </a:buClr>
              <a:buFont typeface="Garamond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spo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76"/>
              </a:spcBef>
              <a:buClr>
                <a:srgbClr val="ffffff"/>
              </a:buClr>
              <a:buFont typeface="Garamond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aú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76"/>
              </a:spcBef>
              <a:buClr>
                <a:srgbClr val="ffffff"/>
              </a:buClr>
              <a:buFont typeface="Garamond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elez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76"/>
              </a:spcBef>
              <a:buClr>
                <a:srgbClr val="ffffff"/>
              </a:buClr>
              <a:buFont typeface="Garamond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a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86064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levou em 29% seu faturamento apesar da redução de suas 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157720"/>
            <a:ext cx="151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ó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cor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es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5373720"/>
            <a:ext cx="439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umento de 19% e de 5% no n° de re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600 unidades novas em 200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2781360"/>
            <a:ext cx="216000" cy="5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76360" y="342900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35280" y="5084640"/>
            <a:ext cx="144360" cy="1368720"/>
          </a:xfrm>
          <a:custGeom>
            <a:avLst/>
            <a:gdLst>
              <a:gd name="textAreaLeft" fmla="*/ 0 w 144360"/>
              <a:gd name="textAreaRight" fmla="*/ 52200 w 14436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BRASIL – GRANDE EXPORTADOR DE FRANQUI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2060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Principal escopo (além de aumentar o faturamento, é claro): promoção institucional com 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Posicionamento de suas marcas como globalizad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3068640"/>
            <a:ext cx="8064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4869000"/>
            <a:ext cx="489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TORES EXPORTADORES DE FRANQU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64000" y="4724280"/>
            <a:ext cx="3168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LIMENT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FEC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NS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ALÇADOS E ACESSÓ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6720" y="4653000"/>
            <a:ext cx="287280" cy="1728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3068640"/>
            <a:ext cx="799308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AÍSES ATINGIDOS POR REDES BRASILEI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Garamond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GENTINA - ARÁBIA SAUDITA -   CATAR - LÍBANO – JAPÃ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Garamond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HILE -  ESPANHA – PORTUGAL -  ESTADOS UNIDOS –  PARAGUA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Garamond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ÉXICO - BOLÍV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BRASIL – GRANDE EXPORTADOR DE FRANQUI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22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REDES EXPORTAD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3068640"/>
            <a:ext cx="8064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3213000"/>
            <a:ext cx="8569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TRIBO DOS PÉS  -  CHILE E EUROPA (PORTUGAL E ESPANH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SCALINA (Meias e lingerie) –  MONTE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CASA DO PÃO DE QUEIJ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HABIB’S (MÉXICO -1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VIVENDA DO CAMAR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WIZARD – ESTADOS UNIDOS E  JAPÃO (4). Em breve, MÉXICO E PORTU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GOLDEN SERVICES  – MÉXICO E  PORTU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FISK – ARGENTINA (82);  JAPÃO (6);  PARAGUAI (2); REP.DOMINICAMA 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242100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2565360"/>
            <a:ext cx="60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PETROBRAS ( LOJAS DE CONVENIÊNCIA SPACIO 1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04000" y="2421000"/>
            <a:ext cx="187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ARGENTINA 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Garamond"/>
              </a:rPr>
              <a:t>BOLÍVIA 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242100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BRASIL – GRANDE EXPORTADOR DE FRANQUI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22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REDES EXPORTAD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3068640"/>
            <a:ext cx="8064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3789360"/>
            <a:ext cx="223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INDÚSTRI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TÊXTE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3284640"/>
            <a:ext cx="172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RIS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2421000"/>
            <a:ext cx="2305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GENTINA (30) BOLIVIA 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ENEZUELA 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ARAGUAI (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HILE 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Garamond"/>
              </a:rPr>
              <a:t>ARÁBIA SAUDI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0720" y="5013360"/>
            <a:ext cx="30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ÍB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AT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WA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27280" y="2492280"/>
            <a:ext cx="360360" cy="3600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720"/>
              <a:gd name="textAreaBottom" fmla="*/ 3507120 h 36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492280"/>
            <a:ext cx="289080" cy="2089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494172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BRASIL – GRANDE EXPORTADOR DE FRANQUI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3068640"/>
            <a:ext cx="8064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64000" y="3789360"/>
            <a:ext cx="3529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APÃO (3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LÍVIA (3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ARAGUA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U (3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RUGUAI  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RÁBIA SAUDI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67280" y="2565360"/>
            <a:ext cx="288720" cy="1008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 rot="10800000">
            <a:off x="324000" y="3140640"/>
            <a:ext cx="216360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O BOTICÁ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2.240 loj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turamento em 200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$ 1,5 bilhõ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00360" y="2924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ÓP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00360" y="48690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ANQUE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2708280"/>
            <a:ext cx="273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ÉXICO (48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SBOA (6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40000" y="2492280"/>
            <a:ext cx="360360" cy="3961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2960 h 3961080"/>
              <a:gd name="textAreaBottom" fmla="*/ 385812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88000" y="3860640"/>
            <a:ext cx="504720" cy="2592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67320 h 2592720"/>
              <a:gd name="textAreaBottom" fmla="*/ 2525400 h 25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RRUBANDO FRONTEIRA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92360" y="1125360"/>
          <a:ext cx="6264360" cy="532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125360"/>
                    <a:ext cx="626436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11280" y="1700280"/>
            <a:ext cx="698508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OLÍTICA COMUNITÁ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mplantada em 199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rientar a internacionalização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Franquias no Continente Latino - American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95640" y="3068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95640" y="2565360"/>
            <a:ext cx="71640" cy="716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MAPA DAS MARCAS EXPORTADAS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MÉRICA LATIN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676600" y="1633680"/>
            <a:ext cx="37908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BRASIL QUER EXPORTAR MAIS FRANQUIAS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358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guindo uma tendência natural do franchis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ara a internacionalizaçã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 redes dos setores mais desenvolvid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4221000"/>
            <a:ext cx="41767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Esgotaram suas possibilidade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expansão no país e pensam 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expor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076640"/>
            <a:ext cx="388764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pt-BR" sz="3200" spc="-1" strike="noStrike">
                <a:solidFill>
                  <a:srgbClr val="ffcc00"/>
                </a:solidFill>
                <a:latin typeface="Garamond"/>
              </a:rPr>
              <a:t>perfu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i="1" lang="pt-BR" sz="3200" spc="-1" strike="noStrike">
                <a:solidFill>
                  <a:srgbClr val="ffcc00"/>
                </a:solidFill>
                <a:latin typeface="Garamond"/>
              </a:rPr>
              <a:t>fast-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pt-BR" sz="3200" spc="-1" strike="noStrike">
                <a:solidFill>
                  <a:srgbClr val="ffcc00"/>
                </a:solidFill>
                <a:latin typeface="Garamond"/>
              </a:rPr>
              <a:t>m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pt-BR" sz="3200" spc="-1" strike="noStrike">
                <a:solidFill>
                  <a:srgbClr val="ffcc00"/>
                </a:solidFill>
                <a:latin typeface="Garamond"/>
              </a:rPr>
              <a:t>serviços de educ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11640" y="4149720"/>
            <a:ext cx="289080" cy="2232000"/>
          </a:xfrm>
          <a:custGeom>
            <a:avLst/>
            <a:gdLst>
              <a:gd name="textAreaLeft" fmla="*/ 0 w 289080"/>
              <a:gd name="textAreaRight" fmla="*/ 104400 w 28908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8120" y="1044720"/>
            <a:ext cx="3120840" cy="4689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826920" y="260280"/>
            <a:ext cx="7705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dvocacia Felizardo Barroso e Associad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54200" y="5805360"/>
            <a:ext cx="7705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rofessor Luiz Felizardo Barros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39640" y="2133720"/>
            <a:ext cx="352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ara exportar, é preciso investig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 Cul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 Hábi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Legisla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Burocra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Potencial de cresci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24922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go que cons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56360" y="227664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Garamond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Tem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Garamond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Paciê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Garamond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Dinheiro</a:t>
            </a: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71640" y="4365720"/>
            <a:ext cx="432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ndo necessário, ainda,  levar a efei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 Aclimatação dos produ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daptação a outros fatore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59280" y="5229360"/>
            <a:ext cx="35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Pizza Hut – no Bras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Amor aos pedaços - U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Habib’s – USA e Méx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2133720"/>
            <a:ext cx="360360" cy="1582560"/>
          </a:xfrm>
          <a:custGeom>
            <a:avLst/>
            <a:gdLst>
              <a:gd name="textAreaLeft" fmla="*/ 0 w 360360"/>
              <a:gd name="textAreaRight" fmla="*/ 129960 w 360360"/>
              <a:gd name="textAreaTop" fmla="*/ 41040 h 1582560"/>
              <a:gd name="textAreaBottom" fmla="*/ 1541520 h 15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2060640"/>
            <a:ext cx="217440" cy="1728720"/>
          </a:xfrm>
          <a:custGeom>
            <a:avLst/>
            <a:gdLst>
              <a:gd name="textAreaLeft" fmla="*/ 138960 w 217440"/>
              <a:gd name="textAreaRight" fmla="*/ 217800 w 21744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56000" y="5084640"/>
            <a:ext cx="358920" cy="1152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95280" y="263700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Estabelecimento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00720" y="2482920"/>
            <a:ext cx="1366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2060640"/>
            <a:ext cx="244764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pt-BR" sz="2000" spc="-1" strike="noStrike">
                <a:solidFill>
                  <a:srgbClr val="ffcc00"/>
                </a:solidFill>
                <a:latin typeface="Garamond"/>
              </a:rPr>
              <a:t>Licenci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pt-BR" sz="1800" spc="-1" strike="noStrike">
                <a:solidFill>
                  <a:srgbClr val="ffcc00"/>
                </a:solidFill>
                <a:latin typeface="Garamond"/>
              </a:rPr>
              <a:t>Joint – Ven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pt-BR" sz="2000" spc="-1" strike="noStrike">
                <a:solidFill>
                  <a:srgbClr val="ffcc00"/>
                </a:solidFill>
                <a:latin typeface="Garamond"/>
              </a:rPr>
              <a:t>Investimento dire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pt-BR" sz="1800" spc="-1" strike="noStrike" u="sng">
                <a:solidFill>
                  <a:srgbClr val="ffcc00"/>
                </a:solidFill>
                <a:uFillTx/>
                <a:latin typeface="Garamond"/>
              </a:rPr>
              <a:t>Master franqueado </a:t>
            </a:r>
            <a:r>
              <a:rPr b="0" lang="pt-BR" sz="1800" spc="-1" strike="noStrike">
                <a:solidFill>
                  <a:srgbClr val="ffcc00"/>
                </a:solidFill>
                <a:latin typeface="Garamond"/>
              </a:rPr>
              <a:t> - preferível porque ele já conhe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4508640"/>
            <a:ext cx="882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assar primeiro por países de lín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Garamond"/>
              </a:rPr>
              <a:t>Não há como operar no Mercosul sem primeiro passar pela Argentina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76720" y="45086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ortuguesa 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spanho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59280" y="1989000"/>
            <a:ext cx="288720" cy="1800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16360" y="4221000"/>
            <a:ext cx="216000" cy="115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4720" y="2924280"/>
            <a:ext cx="25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Cultura, Hábitos, Legislação, Burocracia e Potencial de Cresc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6000" y="2924280"/>
            <a:ext cx="288720" cy="1296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1628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O QUE A EXPERIÊNCIA NOS ENS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24000" y="3284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Garamond"/>
              </a:rPr>
              <a:t>VANTAGEM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92360" y="2133720"/>
            <a:ext cx="511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Como o franchising tem uma propensão  natural à internacionalização, uma lei uniforme de franchising facilitaria enormemente a expansão, além fronteira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Garamond"/>
              </a:rPr>
              <a:t>das franquias naciona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L’UNIDROIT vem estudando o assunto em âmbito mund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55640" y="1916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MEIOS DE SE OBTER UNIFORMIDADE DE UMA LEGISLAÇÃO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3068640"/>
            <a:ext cx="273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EGRAS UNIFOR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ÓDIGOS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EONTOLOGIA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2349360"/>
            <a:ext cx="48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Provenientes de Tratados ou Convençõ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x: Convenção de Geneb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ítulos de Crédi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Oriundas dos usos de comércio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x: Crédito Documentário e os usos e costumes internaciona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87640" y="4365720"/>
            <a:ext cx="5761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bjetivo: o de evitar a elaboração de um diploma legal ou regulamentar restri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Inconvenien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1) Só obrigam os integrantes  de    determinada comun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2)Tribunais só lhes dão força quando os  contratos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les se referem.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16360" y="2492280"/>
            <a:ext cx="360360" cy="1513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56000" y="4437000"/>
            <a:ext cx="215640" cy="2087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24000" y="2060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NECESSIDADE  DE UMA LEI UNIFORM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3500280"/>
            <a:ext cx="20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OUTRIN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UAS CORRENTE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2997360"/>
            <a:ext cx="6119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Filiada à </a:t>
            </a:r>
            <a:r>
              <a:rPr b="1" i="1" lang="pt-BR" sz="2000" spc="-1" strike="noStrike">
                <a:solidFill>
                  <a:srgbClr val="ffffff"/>
                </a:solidFill>
                <a:latin typeface="Garamond"/>
              </a:rPr>
              <a:t>Common Law</a:t>
            </a: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: dá como suficiente a legislação exist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Filiada à </a:t>
            </a:r>
            <a:r>
              <a:rPr b="1" i="1" lang="pt-BR" sz="2000" spc="-1" strike="noStrike">
                <a:solidFill>
                  <a:srgbClr val="ffffff"/>
                </a:solidFill>
                <a:latin typeface="Garamond"/>
              </a:rPr>
              <a:t>Civil Law</a:t>
            </a: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: necessária uma lei uniforme porque a legislação pertinente  dos diversos países é esparsa e encontra-se disper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- devendo, entretanto, cingir-se à fase pré-contratual.</a:t>
            </a: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5640" y="2852640"/>
            <a:ext cx="503280" cy="2808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50920" y="1484280"/>
            <a:ext cx="86421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CIVIL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Fase pré-contrat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Relacionamento direto franqueador/ franque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3068640"/>
            <a:ext cx="79218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DIRETRIZ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. Extinção dos Contratos por inadimple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- Meios ardilosos: franqueador terá que indeniz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- Espontâneo: franqueado terá direito à indenização pelos investimentos vultosos exigidos pelo franquead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Garamond"/>
              </a:rPr>
              <a:t>Hoje, não há previsão legal numa nem noutra hipóte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71640" y="1628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IVIL LAW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3429000"/>
            <a:ext cx="187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Fase contra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Consequências da Extinçã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dos Contratos</a:t>
            </a:r>
            <a:r>
              <a:rPr b="0" lang="pt-BR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68360" y="2997360"/>
            <a:ext cx="179892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E FRANQUIA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27640" y="2637000"/>
            <a:ext cx="43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Mantêm-se os contratos de subfranquias,  desvinculados do franqueador principal, pois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o   </a:t>
            </a:r>
            <a:r>
              <a:rPr b="1" i="1" lang="pt-BR" sz="2400" spc="-1" strike="noStrike">
                <a:solidFill>
                  <a:srgbClr val="ffffff"/>
                </a:solidFill>
                <a:latin typeface="Garamond"/>
              </a:rPr>
              <a:t>master </a:t>
            </a: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franqueado ou subfranqueador </a:t>
            </a:r>
            <a:r>
              <a:rPr b="1" i="1" lang="pt-BR" sz="24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pt-BR" sz="2400" spc="-1" strike="noStrike">
                <a:solidFill>
                  <a:srgbClr val="ffffff"/>
                </a:solidFill>
                <a:latin typeface="Garamond"/>
              </a:rPr>
              <a:t>assumirá tu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24360" y="2637000"/>
            <a:ext cx="360360" cy="2879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2637000"/>
            <a:ext cx="289080" cy="2952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971640" y="1628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IVIL LAW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3429000"/>
            <a:ext cx="180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Fase Contra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Consequências da Extinçã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dos Contratos</a:t>
            </a:r>
            <a:r>
              <a:rPr b="0" lang="pt-BR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24000" y="2205000"/>
            <a:ext cx="194328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de </a:t>
            </a:r>
            <a:r>
              <a:rPr b="1" i="1" lang="pt-BR" sz="1800" spc="-1" strike="noStrike">
                <a:solidFill>
                  <a:srgbClr val="ffffff"/>
                </a:solidFill>
                <a:latin typeface="Garamond"/>
              </a:rPr>
              <a:t>master 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franqueado por “N”  mo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de </a:t>
            </a:r>
            <a:r>
              <a:rPr b="1" i="1" lang="pt-BR" sz="1800" spc="-1" strike="noStrike">
                <a:solidFill>
                  <a:srgbClr val="ffffff"/>
                </a:solidFill>
                <a:latin typeface="Garamond"/>
              </a:rPr>
              <a:t>master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  franqueado pelo   decurso do tem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67280" y="2133720"/>
            <a:ext cx="468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Extinguem-se automaticamente os contratos dos subfranqueados, pois o acessório segue a sorte do princip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Extinguindo-se  o contrato de </a:t>
            </a:r>
            <a:r>
              <a:rPr b="1" i="1" lang="pt-BR" sz="1800" spc="-1" strike="noStrike">
                <a:solidFill>
                  <a:srgbClr val="ffffff"/>
                </a:solidFill>
                <a:latin typeface="Garamond"/>
              </a:rPr>
              <a:t>master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-franqueado, o franqueador relacionar-se-ia diretamente com os subfranqueados que passariam a franqueados diretos do franqueador principal (e  estrangeiro, se for o ca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Solução considerada equilibrada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11640" y="5445000"/>
            <a:ext cx="424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Questão deixada às partes contratantes para que decidam livre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08000" y="2133720"/>
            <a:ext cx="360360" cy="4103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51280" y="2133720"/>
            <a:ext cx="216000" cy="280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73080 h 2808000"/>
              <a:gd name="textAreaBottom" fmla="*/ 2734920 h 28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95640" y="5229360"/>
            <a:ext cx="216000" cy="129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EI BRASILEIRA COMO PARADIGMA PARA UMA LEI UNIFORME NO MERCOSUL E DEMAIS PAÍSES DA AMÉRICA LATINA.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1700280"/>
            <a:ext cx="84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Garamond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or q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Brasil  4º país do mundo em número de franqueadores 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° país do mundo em número de unidades próprias e franque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3500280"/>
            <a:ext cx="7488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AÍS                            N° DE REDES                    N° DE 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SA                              3.000                                 21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ANADÁ                     1.000                                   65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JAPÃO                            714                                   4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RASIL                           678                                   56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ANÇA                         500                                   3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EI BRASILEIRA COMO PARADIGMA PARA UMA LEI UNIFORME NO MERCOSUL E DEMAIS PAÍSES DA AMÉRICA LATINA.</a:t>
            </a:r>
            <a:br>
              <a:rPr sz="24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"/>
          <p:cNvSpPr/>
          <p:nvPr/>
        </p:nvSpPr>
        <p:spPr>
          <a:xfrm>
            <a:off x="684360" y="1700280"/>
            <a:ext cx="748800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Garamond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or q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ei Brasileira moderna e já testada há 10 a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Modernizada pelo anteprojeto de lei proposto pelo Fórum Setorial da Franquia Empresarial, que se reúne há mais de 6 anos no Ministério do Desenvolvimento Indústria e Comércio Exterior, congregando os principais atores do Sistema de Franchising no Brasil (Franqueadores, Franqueados e Consultores) individualmente e através de suas Associações de Classe, para, dentre outros, aperfeiçoar a Lei de Franquia Empresarial Brasilei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(Lei n° 8.955 de 1994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UMÁRI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ARTE CONJUNTUR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*  CONCEITO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*  HISTÓRICO DAS FRANQUI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*  PANORAMA DAS FRANQUIAS NO BRASI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*  BRASIL GRANDE EXPORTADOR DE FRANQUI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*  INTERNACIONALIZAÇÃO NÃO É FÁCI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44080" y="5676840"/>
            <a:ext cx="7426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Garamond"/>
              </a:rPr>
              <a:t>ALGUMAS CARACTERÍSTICAS DA LEI BRASILEIRA QUE PODERÃO CREDENCIÁ-LA PARA SUA ADOÇÃO COMO PARADIGMA DE UMA LEI UNIFORME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"/>
          <p:cNvSpPr/>
          <p:nvPr/>
        </p:nvSpPr>
        <p:spPr>
          <a:xfrm>
            <a:off x="971640" y="162864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Inovações trazidas pe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Anteprojeto de  modificação  da Lei  Brasilei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4292640"/>
            <a:ext cx="396072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tratos Internacionais de franquia, mesmo sendo uma só das partes domiciliada no exterior e seus efeitos para fora do Território Nacional pelo Artigo 11 Parágrafo Único do anteprojeto  prevalecerã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479736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gislação 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ro brasilei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32720" y="4365720"/>
            <a:ext cx="201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alvo se no Contrato estiver estipulado de outro mo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84720" y="4221000"/>
            <a:ext cx="287280" cy="201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27640" y="4149720"/>
            <a:ext cx="289080" cy="2087640"/>
          </a:xfrm>
          <a:custGeom>
            <a:avLst/>
            <a:gdLst>
              <a:gd name="textAreaLeft" fmla="*/ 0 w 289080"/>
              <a:gd name="textAreaRight" fmla="*/ 104400 w 2890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2637000"/>
            <a:ext cx="26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tratos entre partes domiciliadas                  cujos efeitos produzir-se-ão exclusivamente (art. 11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48000" y="29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o Bras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2708280"/>
            <a:ext cx="324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digidos em língua portugue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gidos por lei brasil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2565360"/>
            <a:ext cx="287280" cy="1224000"/>
          </a:xfrm>
          <a:custGeom>
            <a:avLst/>
            <a:gdLst>
              <a:gd name="textAreaLeft" fmla="*/ 0 w 287280"/>
              <a:gd name="textAreaRight" fmla="*/ 10368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7640" y="2565360"/>
            <a:ext cx="215640" cy="1224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Garamond"/>
              </a:rPr>
              <a:t>ALGUMAS CARACTERÍSTICAS DA LEI BRASILEIRA QUE PODERÃO CREDENCIÁ-LA PARA SUA ADOÇÃO COMO PARADIGMA DE UMA LEI UNIFORME</a:t>
            </a:r>
            <a:br>
              <a:rPr sz="2000"/>
            </a:b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"/>
          <p:cNvSpPr/>
          <p:nvPr/>
        </p:nvSpPr>
        <p:spPr>
          <a:xfrm>
            <a:off x="900000" y="3068640"/>
            <a:ext cx="705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Garamond"/>
              </a:rPr>
              <a:t>Relações entre o master franqueado e seus subfranqueados serão as mesmas, tal q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00"/>
                </a:solidFill>
                <a:latin typeface="Garamond"/>
              </a:rPr>
              <a:t>se eles fossem franqueador e franque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58920" y="1557360"/>
            <a:ext cx="640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Anteprojeto de  modificação  da Lei  Brasilei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Anteprojeto de  modificação  da Lei  Brasileira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3500280"/>
            <a:ext cx="324000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INFORMANDO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51280" y="2637000"/>
            <a:ext cx="4897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Comic Sans MS"/>
              </a:rPr>
              <a:t>Prazo de vigência do contrato de Master Franqu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Comic Sans MS"/>
              </a:rPr>
              <a:t>Condições de sua renovaçã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ffcc00"/>
                </a:solidFill>
                <a:latin typeface="Comic Sans MS"/>
              </a:rPr>
              <a:t>Seu território de atuaçã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ffcc00"/>
                </a:solidFill>
                <a:latin typeface="Comic Sans MS"/>
              </a:rPr>
              <a:t>Metas de abertura de novas unidad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ffcc00"/>
                </a:solidFill>
                <a:latin typeface="Comic Sans MS"/>
              </a:rPr>
              <a:t>Regras de transferência do contrato e suces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Comic Sans MS"/>
              </a:rPr>
              <a:t>– </a:t>
            </a:r>
            <a:r>
              <a:rPr b="0" lang="pt-BR" sz="2400" spc="-1" strike="noStrike">
                <a:solidFill>
                  <a:srgbClr val="ffcc00"/>
                </a:solidFill>
                <a:latin typeface="Comic Sans MS"/>
              </a:rPr>
              <a:t>Se exist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" y="1197000"/>
            <a:ext cx="7848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Garamond"/>
              </a:rPr>
              <a:t>Artigo 3º, inciso XVII do anteproje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Garamond"/>
              </a:rPr>
              <a:t>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Garamond"/>
              </a:rPr>
              <a:t>Subfranqueador com a obrigatoriedade de fazer o </a:t>
            </a:r>
            <a:r>
              <a:rPr b="1" i="1" lang="pt-BR" sz="2000" spc="-1" strike="noStrike">
                <a:solidFill>
                  <a:srgbClr val="ffcc00"/>
                </a:solidFill>
                <a:latin typeface="Garamond"/>
              </a:rPr>
              <a:t>disclosure</a:t>
            </a:r>
            <a:r>
              <a:rPr b="1" lang="pt-BR" sz="2000" spc="-1" strike="noStrike">
                <a:solidFill>
                  <a:srgbClr val="ffcc00"/>
                </a:solidFill>
                <a:latin typeface="Garamond"/>
              </a:rPr>
              <a:t> em respeito ao seu franqueador principal, para seus subfranque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92360" y="2924280"/>
            <a:ext cx="287640" cy="3313080"/>
          </a:xfrm>
          <a:custGeom>
            <a:avLst/>
            <a:gdLst>
              <a:gd name="textAreaLeft" fmla="*/ 183960 w 287640"/>
              <a:gd name="textAreaRight" fmla="*/ 288000 w 28764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e5e5ff"/>
                </a:solidFill>
                <a:latin typeface="Garamond"/>
              </a:rPr>
              <a:t>Porque o franchising dá certo ?</a:t>
            </a:r>
            <a:br>
              <a:rPr sz="4200"/>
            </a:br>
            <a:r>
              <a:rPr b="1" lang="en-US" sz="4200" spc="-1" strike="noStrike">
                <a:solidFill>
                  <a:srgbClr val="e5e5ff"/>
                </a:solidFill>
                <a:latin typeface="Garamond"/>
              </a:rPr>
              <a:t>Mercado Promissor</a:t>
            </a: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2060640"/>
          <a:ext cx="8435880" cy="38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60640"/>
                    <a:ext cx="843588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CONCLUSÃ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ÉRCIO INTERNACIONAL =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LEMENTO DE POLÍTICA COMUNITÁ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364500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PANSÃO EXITOSA DA FRANQUIA PRESSUPÕ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40360" y="3500280"/>
            <a:ext cx="4176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DAPTAÇÃO CORREL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ODUTOS E SERVIÇ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ÀS ESPECIFICAÇÕES LOCA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19640" y="3213000"/>
            <a:ext cx="504720" cy="1944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CONCLUSÃ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"/>
          <p:cNvSpPr/>
          <p:nvPr/>
        </p:nvSpPr>
        <p:spPr>
          <a:xfrm>
            <a:off x="468360" y="4005360"/>
            <a:ext cx="31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PORTAÇÃO  DAS REDES VIA ESCOLHA MASTER FRANQUE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95640" y="3933720"/>
            <a:ext cx="16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NFATIZ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ACERB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64000" y="3573360"/>
            <a:ext cx="431640" cy="1656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8360" y="1773360"/>
            <a:ext cx="3240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USCA DESTAS CONDIÇÕES IDEAIS  E POSTERIOR   FUNCIONAMENTO DAS REDES CONSTITU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140360" y="177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LE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940360" y="1557360"/>
            <a:ext cx="194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G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FICA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40360" y="256536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 POLÍTICA COMUNITÁ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6000" y="393372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ENEFÍCIOS COMO ELEMENTO DE POLÍTICA COMUNITÁ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3573360"/>
            <a:ext cx="287280" cy="1727280"/>
          </a:xfrm>
          <a:custGeom>
            <a:avLst/>
            <a:gdLst>
              <a:gd name="textAreaLeft" fmla="*/ 0 w 287280"/>
              <a:gd name="textAreaRight" fmla="*/ 103680 w 287280"/>
              <a:gd name="textAreaTop" fmla="*/ 45000 h 1727280"/>
              <a:gd name="textAreaBottom" fmla="*/ 16822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08360" y="1557360"/>
            <a:ext cx="216000" cy="1511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651640" y="1413000"/>
            <a:ext cx="215640" cy="1008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CONCLUSÃ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"/>
          <p:cNvSpPr/>
          <p:nvPr/>
        </p:nvSpPr>
        <p:spPr>
          <a:xfrm>
            <a:off x="468360" y="4581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EXPANSÃO RECÍPROCA DE REDES DE FRANQUIA, ATRAVÉS DA ESCOLHA DO MASTER NO MERCOSUL É FORTE ELEMENTO DE POLÍTICA COMUNITÁ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8360" y="1700280"/>
            <a:ext cx="43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O SÓ O MATER FRANQUEADO POSSUI CONDIÇÕES IDEAIS DE AMALGAMAR O CONCEITO DE NEGÓCIO ORIGINAL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35640" y="1773360"/>
            <a:ext cx="370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ULTU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ÁB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EGISL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UROCR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IMA DE NEGÓCIOS L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76720" y="1700280"/>
            <a:ext cx="287280" cy="2089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UMÁRI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PARTE DOUTRINÁ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*  LEI UNIFORM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*  MEIOS DE SE OBT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*  NECESSIDA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*  DUAS CORRENTES DOUTRINÁRI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*  LEI BRASILEIRA COMO PARADIGM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*  INOVAÇÕES TRAZIDAS PELO ANTEPROJET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*  RELAÇÕES DO MASTER FRANQUEAD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Garamond"/>
              </a:rPr>
              <a:t>CONCLUSÃ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* EXPANSÃO DA FRANQUIA DEMANDA ADAPTAÇÃO CORRELAT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* ADAPTAÇÃO AMÁLGAMA EXPANSÃO RECÍPROC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* POLÍTICA COMUNITÁR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44080" y="5676840"/>
            <a:ext cx="7426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84200" y="209376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88676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FINIÇÃO LEGAL DO ANTEPROJE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DE LEGE FERENDA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anquia empresarial é o sistema pelo qual um franqueador </a:t>
            </a: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autoriza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um franqueado a usar marcas e outros objetos de propriedade intelectual, sempre associados ao direito de produção ou distribuição exclusiva ou semi-exclusiva de produtos ou serviços e também ao direito de uso de métodos e sistemas de implantação e administração de negócios ou sistema operacional, desenvolvidos ou detidos pelo franqueador, mediante remuneração direta ou indireta, sem que, no entanto, se caracterize </a:t>
            </a: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relação de consumo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formação de um mesmo grupo econômico ou vínculo empregatício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, seja em relação ao franqueado ou seus empregados, ainda que durante o </a:t>
            </a: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período de treinamento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Art. 2° do anteproje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404640"/>
            <a:ext cx="770400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FRANQUIA EMPRESAR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(NOVO CONCEI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44080" y="5676840"/>
            <a:ext cx="7426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5e5ff"/>
                </a:solidFill>
                <a:latin typeface="Garamond"/>
              </a:rPr>
              <a:t>Conceito de Franchising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95280" y="2324160"/>
          <a:ext cx="8291520" cy="36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24160"/>
                    <a:ext cx="829152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84200" y="209376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4400280"/>
            <a:ext cx="849780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RANQUEADO É AQUELE QUE ADQUIRE CONTRATUALMENTE O DIREITO DE COMERCIALIZAR O BEM OU SERVIÇO, DENTRO DE UM MERCADO EXCLUSIVO, UTILIZANDO OS BENEFÍCIOS DA MARCA E O APOIO PARA O GERENCIAMENTO DO NEGÓ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260280"/>
            <a:ext cx="7490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OS PERSONAGENS DA REL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O PAPEL DO FRANQUEAD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E DO FRANQUE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256536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RANQUEADOR É AQUELE QUE DETÉM A MARCA E O 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KNOW-HOW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DE COMERCIALIZAÇÃO DE UM DETERMINADO BEM OU SERVIÇO, CEDENDO CONTRATUALMENTE OS DIREITOS DE REVENDA E USO, E PROMOVENDO ASSISTÊNCIA NA ORGANIZAÇÃO, GERENCIAMENTO E ADMINISTRAÇÃO DO NEGÓCIO PARA OS SEUS FRANQUE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44080" y="5676840"/>
            <a:ext cx="7426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84200" y="209376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3273480"/>
            <a:ext cx="813744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75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É AQUELE QUE TEM A SEU CARGO, NA QUALIDADE DE SUB-FRANQUEADOR, DESENVOLVER DETERMINADA ÁREA, EXPANDINDO A FRANQUIA EM MERCADOS ESPECÍFICOS, DE DIFÍCIL ACESSO OU SIMPLESMENTE DISTANTES DA REDE DA EMPRESA FRANQUEADORA, PELA PROSPECÇÃO DE SUB-FRANQUEADO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260280"/>
            <a:ext cx="74901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Garamond"/>
              </a:rPr>
              <a:t>OS PERSONAGENS DA RELAÇ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Garamond"/>
              </a:rPr>
              <a:t>O Master Franquead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pt-BR" sz="3600" spc="-1" strike="noStrike">
                <a:solidFill>
                  <a:srgbClr val="ffcc00"/>
                </a:solidFill>
                <a:latin typeface="Garamond"/>
              </a:rPr>
              <a:t>(Sub-Franqueado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26920" y="333360"/>
            <a:ext cx="741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 - Histórico das Franquias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1384200" y="2093760"/>
            <a:ext cx="35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1344600"/>
            <a:ext cx="554508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Garamond"/>
              </a:rPr>
              <a:t>NO MU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pt-BR" sz="1800" spc="-1" strike="noStrike">
                <a:solidFill>
                  <a:srgbClr val="ffffff"/>
                </a:solidFill>
                <a:latin typeface="Garamond"/>
              </a:rPr>
              <a:t>EE.U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Século pass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Singer Machine 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Século XX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Anos 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- Ex-combat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General Moto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Coca-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K.F.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McDonald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- Em 195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- Hoje,  aproximadamente 30 mil lojas em todo mun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- Há quatro anos passados o Brasil gerava 70% dos lucros do McDonald’s na América Lati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16720" y="2060640"/>
            <a:ext cx="23763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URGER 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WEND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IZZA H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OMINO’S PIZ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ACO B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V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ERT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HOLIDAY IN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19:07:57Z</dcterms:created>
  <dc:creator>beth</dc:creator>
  <dc:description/>
  <dc:language>en-US</dc:language>
  <cp:lastModifiedBy>C.P.C.E.C.A.B.A.</cp:lastModifiedBy>
  <dcterms:modified xsi:type="dcterms:W3CDTF">2005-07-06T21:20:21Z</dcterms:modified>
  <cp:revision>49</cp:revision>
  <dc:subject/>
  <dc:title>Slide 1</dc:title>
</cp:coreProperties>
</file>