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6BD-F5E0-47A4-8014-DD4685EA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FF4-0129-4C2B-93BF-3B1878BD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D18-446B-4971-8125-0D104336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27E-1572-43F7-9D00-8A39275D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B60F-31EB-46E2-89AB-DBA16CFF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70F6-91B3-49F9-852F-6127A75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B52F-708F-4399-BB06-97B81B1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465-48AB-4F00-86CB-2C22C62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6E4-E7BD-4BE9-ACB4-CF6E540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1E4-C309-40DF-993A-17F11FA3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58D-E010-452E-90A0-928AFD7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986-77D7-43F7-8EC0-08BD4B6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22B-3847-4C4F-B056-8DD9122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F97B-694D-43F7-9856-1D7B5E88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B18D-56C5-466D-AEBF-6AA5A054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B3F7-CDC6-48A9-BE10-891F10D0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D503-7AE2-4964-9277-AA7B5B59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F8B-EC2D-41A0-8B05-639D4D6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2EB-476A-4384-92F3-ED47985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1FF-F8B4-4BA2-8A0C-44408FF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289-5A37-482D-BA9F-669F8923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4DC-0415-4E33-8FDE-8CFDED27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AEF-8B44-4B11-82D8-5708A16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CB0-BA58-4C0B-A517-832E16A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5E8-3D56-45EA-9D75-EF29EF2241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C05D-EDC3-478E-8BD7-00A1179D36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ASPECTOS IMPOSITIVO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57800" y="297180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590920"/>
            <a:ext cx="838080" cy="609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124080"/>
            <a:ext cx="838080" cy="609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43400" y="2590920"/>
            <a:ext cx="914400" cy="5331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89548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124080"/>
            <a:ext cx="914400" cy="5335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AS OBLIGACIONES FORM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MISION DE COMPROB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STRACION DE OPER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DUCCIONES ADMIT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TIDADES DEBEN ESTAR RECONOC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PE DEL 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 LA RG 1815 Reconocimiento de la Exen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Régimen de empadronamien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Reconocimiento y denegación de exen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érdida del reconocimiento y renovación del certifica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Acreditación frente a tercer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lazo especial para presentación de DDJ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Incumplimientos: efectos y sancio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 LA RG 1815 Régimen de Información de Don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Procedimientos a observar por donantes y donatari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Empleador como informa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No obligatoriedad de informar ciertas donaciones periódicas o eventu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Carácter de las donaciones a ser informadas por las donatari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GENERAL 1815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ONES JUR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esto a las Gana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esto a la Ganancia Mínima Presu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SOLUCIÓN GENERAL 1815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IFICACIONES POSTERI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G 1853 (prórroga p/vencimientos de DDJ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G 1872 (nuevos aplicativos p/PF y P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LÁUSULA DE DISOLU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 vez realizados todos los bienes y pagadas todas las deudas, el remanente se destinará a una Institución de bien común sin fines de lucro con personería jurídica, domiciliada en el país, con exención vigente otorgada y reconocida por la Administración Federal de Ingresos Públicos – Dirección General Impositiva o al Estado Nacional, Provincial o Municip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 LAS GANANCI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JETOS DEL IMPU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ASA A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BERES FOR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L VALOR AGREGAD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ARÁCTER OBJE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RAS, LOCACIONES Y SERVICIOS GRAV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OBJETOS GRAV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artículo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Venta de cosa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33"/>
                </a:solidFill>
                <a:latin typeface="Times New Roman"/>
              </a:rPr>
              <a:t>b) Obras, locaciones y prestaciones de servicios incluídas en el art. 3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Importaciones defin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) Prestaciones comprendidas en el inc. e) del art. 3º realizadas en el exteri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836280"/>
            <a:ext cx="40384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OBRAS, LOCACIO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) Trabajos s/Inmueble aj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) Obras sobre Inmueble prop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) Elaboración o fabric. de cosa 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) Obtención de bienes de la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33"/>
                </a:solidFill>
                <a:latin typeface="Times New Roman"/>
              </a:rPr>
              <a:t>e) Locaciones y prestaciones que se indican a contin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2920" y="3645000"/>
            <a:ext cx="38149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iso e) del Art. 3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. Efectuada por bares,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staurante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 Efectuada por hoteles, host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5. Efectuadas por peluqu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7. Efectuadas por tintorerías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33"/>
                </a:solidFill>
                <a:latin typeface="Times New Roman"/>
              </a:rPr>
              <a:t>21. Restantes locaciones y prestaciones a título oneroso</a:t>
            </a:r>
            <a:r>
              <a:rPr b="1" lang="es-ES_tradnl" sz="16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 s/ LEY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Objetiva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. 7, Inc. h, punto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lación directa con los fines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olicitud de ex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XENCIONES SUBJETIV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STRUCCIÓN 28/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STRUCCIÓN 5/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CTAMEN P.T.N. 46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EY 25.920 (B.O. 09/09/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IMPUESTO A LA GANANCIA MINIMA PRESUNT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HECHO IMPON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J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CAPITAL FEDERAL</a:t>
            </a: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 GEN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XENCIONE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CAPITAL FEDERAL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MPADRONAMIENTO A TASA C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GENCIA Y OTORG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ECAN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ECHA PRESENT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MPUESTO SOBRE LOS INGRESOS BRUTOS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(PROVINCIA DE BUENOS AIRE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STACION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CTIVIDADES COMERCIALES E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onto 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cedente de ese m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QUISITOS PARA SOLICITAR EX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IMPUESTO DE SELL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NACIONAL (Deroga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) PROVINCIA DE BUENOS 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OTROS GRAVAMENE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(PROVINCIA DE BUENOS AIR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MPUESTO INMOBILI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MPUESTO AUTOMO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IVAS - SUBJE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. 20 – Inc.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INCIPIO DE REALIDAD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SOBRE LOS DEBITOS Y CREDITOS 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N LAS TRANSACCIONES FINANCIER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OS TEMAS DE INTE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GO DE AUTONO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RECHOS DE IMPORT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ASPECTOS IMPOSITIVO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L ART. 20 INC. 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IC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Objeto: asistencia soc., salud pública, caridad, benefic., educación, científicas (enunciativo y no taxativ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b) las ganancias y el patrimonio social se destinen a los fines de su cre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c) en ningún caso se distribuyan, directa o indirectamente, entre los so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508640"/>
            <a:ext cx="73454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XCLUS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entidades que obtienen sus recursos, en todo o en parte, de  la explotación de espectáculos públicos, juegos de azar, carreras de caballos y actividades simila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L ART. 20 INC. F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APLIC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) fundaciones y asociaciones o entidades civiles de carácter gremial que desarrollen actividades industriales y/o comer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b) Abonen remuneraciones a elencos directivos, ejecutivos y de contralor por encima de determinada suma (Ley 24475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c) Entidades que tengan vedado el pago de esas remuneraciones (cualquiera sea su mon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CONOCIMIENTO DE LA EXENC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LIGACION DE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REACION DEL REGISTRO DE ENTIDADES EX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CUENCIAS DE NO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RETEN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ME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BRE SUEL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BENEFICIARIOS DEL EX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INFORM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TENCIONES EFECT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OSICION DEL CUERPO DIR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ANTES Y DONACIONES EN DINERO Y EN ESPE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ON DE DECLARACIONES JU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ÓN DE BCES. GRALES.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(solo p/grandes contribuye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21:33:15Z</dcterms:created>
  <dc:creator>Pedro</dc:creator>
  <dc:description/>
  <dc:language>en-US</dc:language>
  <cp:lastModifiedBy>C.P.C.E.C.A.B.A.</cp:lastModifiedBy>
  <dcterms:modified xsi:type="dcterms:W3CDTF">2005-07-21T18:04:32Z</dcterms:modified>
  <cp:revision>83</cp:revision>
  <dc:subject/>
  <dc:title>ASOCIACIONES CIVILES Y FUNDACIONES</dc:title>
</cp:coreProperties>
</file>