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FE12-BC4C-402C-B6EE-0086CF1F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7487-DB12-4E44-AB13-E9B0983DD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CD23F-2D57-43DF-BE4B-E5F8B8A94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384B-C960-4991-BE7B-210DB2896A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630228-E82F-47F7-B868-E9B4D0362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9CFDBC-6FE7-44F9-8E50-763B5BF3E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5A7FEE-6C5B-434D-B5E1-38394D9BE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0FA4E5-6263-4ADE-909F-C7D7F7C1F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57E5C0-763F-4A26-9CB2-CE123524F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57F948-E63D-4F2F-9108-3395AE3B9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D4DC1-73EC-4F69-9148-41DF3928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9AF3-4453-4BF3-A4A7-C34DDDCC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24A64B3-5336-458A-8B62-1F7D020D7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BF6693-0B6D-4D72-8159-A57E9FD8F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0FDFF-EDE9-43CC-99F8-699E8364C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B2BD75-3207-45D3-A7BA-7526BC862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754B40-C05B-49D4-9164-A9759B427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3C5D-0C53-4F74-93C3-3BC90FBD7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A58CA-3FDD-49A6-8C63-C62B6185A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D350-7441-4320-B1E1-6AB485718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36C9-4BE6-4C99-B2C6-53189F820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B8F81-5AA9-4819-A058-FD5DC9E37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1F87-0165-4DE1-8EB5-567E51006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6D2-FBEB-43ED-B20E-80A3FD7C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A98F2-6BEF-4613-8CAA-2DAE8F26C69C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D8ED9-0AA6-4654-A601-EB12A38EEED3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9080"/>
          <a:ext cx="9144000" cy="68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080"/>
                    <a:ext cx="9144000" cy="68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0" y="1844640"/>
            <a:ext cx="91440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jo     Azul     Verde  Amar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                      45.000       -      20.000        -     2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os VARIABLES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8.000       -        8.000        -     1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--------  ---------   --------   ---------  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ibución marginal  27.000      -      12.000  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-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os NO VARIABLES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6.200    4.000    2.000      200   1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--------   --------   --------    -------   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ado neto             10.800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4.000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.000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00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UESTO 5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0" y="-15840"/>
          <a:ext cx="9144000" cy="6873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15840"/>
                    <a:ext cx="9144000" cy="687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" name=""/>
          <p:cNvSpPr/>
          <p:nvPr/>
        </p:nvSpPr>
        <p:spPr>
          <a:xfrm>
            <a:off x="53352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UESTO 6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1484280"/>
            <a:ext cx="9144000" cy="53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jo     Azul     Verde  Amar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                      45.000      --     20.000       --       2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os VARIABLES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8.000      --       8.000       --       1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--------  ---------   --------   ---------  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ibución marginal  27.000     -- 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3.000        --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os NO VARIABLES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16.200    --        4.000       200     12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--------   --------   --------    -------   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ado neto            10.800    --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.000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  200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3" name=""/>
          <p:cNvGraphicFramePr/>
          <p:nvPr/>
        </p:nvGraphicFramePr>
        <p:xfrm>
          <a:off x="0" y="0"/>
          <a:ext cx="9144000" cy="685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2362320" y="228600"/>
            <a:ext cx="467028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UESTO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ahoma"/>
              </a:rPr>
              <a:t>CORREGI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844640"/>
            <a:ext cx="91440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            Azul     Verde        Amar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ntas                   45.000        20.000        --            2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os variables 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 18.000          8.000        --            1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--------        --------      -----        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tr. Marginal    27.000         12.000       --             1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os no variab. 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16.200           4.000      200           12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---------       ---------     -----        ----------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ado neto     10.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.000     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200           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0" y="0"/>
          <a:ext cx="9144000" cy="686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6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609480" y="228600"/>
            <a:ext cx="82296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UESTO 7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10199"/>
                </a:solidFill>
                <a:latin typeface="Tahoma"/>
              </a:rPr>
              <a:t>VERDADERA SITUACIÓN INICIAL NO CONOCIDA HASTA AHO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1523880"/>
            <a:ext cx="9144000" cy="50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jo     Azul     Verde  Amar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                      78.000   15.000   20.000   18.000   2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os VARIABLES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44.000     5.000    8.000    21.000   1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--------  ---------   --------   ---------  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ibución marginal  34.000   10.000   12.000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3.000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os NO VARIABLES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6.200   10.000    4.000       200   12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--------   --------   --------    -------   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ado neto              7.800        0        8.000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3.200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ades ACTUALES       4.000    1.000    1.000      1.000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as. POTENCIALES      14.000    5.000    2.000      2.000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PACIDAD PRODUCTIVA 8.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0"/>
          <a:ext cx="9144000" cy="6913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91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840400" y="304920"/>
            <a:ext cx="34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UESTO 8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4200" y="1143000"/>
            <a:ext cx="910080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jo     Azul   Verde  Amar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                     180.000   15.000  40.000      ---    12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os VARIABLES 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71.000     5.000  16.000      ---   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--------  ---------   --------   ---------  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ibución marginal 109.000  10.000   24.000      ---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os NO VARIABLES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6.200   10.000    4.000     200     12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--------   --------   --------    -------   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ado neto             86.200        0     20.000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200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63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ades ACTUALES       8.000    1.000    2.000         0  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as. POTENCIALES      14.000    5.000    2.000     2.000 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CAPACIDAD PRODUCTIVA 8.000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ahoma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76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457200" y="9144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El costo de no conocer los costos es casi INFINITO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No hay límites para cuantificar el costo de 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Tahoma"/>
              </a:rPr>
              <a:t>PERDER UNA DECISIÓN ALTERNATIVA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1:08:10Z</dcterms:created>
  <dc:creator>Carolina</dc:creator>
  <dc:description/>
  <dc:language>en-US</dc:language>
  <cp:lastModifiedBy>C.P.C.E.C.A.B.A.</cp:lastModifiedBy>
  <dcterms:modified xsi:type="dcterms:W3CDTF">2005-05-05T20:00:12Z</dcterms:modified>
  <cp:revision>28</cp:revision>
  <dc:subject/>
  <dc:title>Diapositiva 1</dc:title>
</cp:coreProperties>
</file>