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E298-9A4C-4B07-BD60-3E8AC24B7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5C58-20A8-4D44-BA49-0D1CCC53A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E1D99-2D2B-4C7F-A94F-D60B44C2F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E13CC-4574-4C8F-99EF-F7A9DE486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1541A9-09FC-4ED9-83CC-052156ED9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AC4F3B-9A76-450B-B23F-46FCCDFFC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2ABB98-8446-45C4-AE03-5331AC00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885202-2F05-4625-A34A-A60A2394F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6CA1C09-DDD8-4D90-BF7E-B299DE9E8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4DC8C9-1DC8-4889-B4F6-1D0A5E51A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5ECC4B-4AA7-49B2-81C8-7DB889D32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ED51-2FD1-4B3F-B395-5049DCC44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38F1C5-1E0A-42F6-BF55-AE2F4E39F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2F285-05F1-4EA0-8294-586966714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791E02-0A32-4629-8C70-6A5EA0D5E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6FB223-67E2-42D7-8B27-C681BA3FF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8DC9E-1FF9-4E39-B15F-555FBF2FD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3C627-0328-4392-93AC-4A195932B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B74F-64BF-4A8C-B7EA-93144EBCE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C1B7-2E88-4792-824E-B39FE9AC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30B02-192C-4FEA-B6C9-D9A962D12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7882-CD82-4D89-82B2-D254545F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126F-1F7E-4861-A311-B72D4A071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B142-AF93-4AC6-BCBC-6DD0FF1C8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50FA-6FA2-4036-BBA8-C0E81B5922A5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118D0-0F4B-4D98-A4BD-33BD1C45AB61}" type="slidenum">
              <a:rPr b="0" lang="es-MX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09480" y="1219320"/>
            <a:ext cx="77724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¿</a:t>
            </a:r>
            <a:r>
              <a:rPr b="1" i="1" lang="es-MX" sz="4400" spc="-1" strike="noStrike">
                <a:solidFill>
                  <a:srgbClr val="ffffff"/>
                </a:solidFill>
                <a:latin typeface="Tahoma"/>
              </a:rPr>
              <a:t>CUÁL ES EL COSTO DE NO CONOCER LOS COSTOS?</a:t>
            </a:r>
            <a:br>
              <a:rPr sz="4400"/>
            </a:b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3 de mayo de 200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27432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Expositores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Dra. C.P. Liliana R. Barrionuev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Dr. C.P. Pablo D. Wagne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Coordinador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125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Dr. C.P. Gerónimo Torres Bar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3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Comisiones organizado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ctr">
              <a:lnSpc>
                <a:spcPct val="3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JÓVENES PROFESIONALES - DESARROLLO PROFE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3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PROGRAMA DE DESARROLLO PROFES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 algn="r">
              <a:lnSpc>
                <a:spcPct val="3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PARA NUEVOS GRADUAD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4114800"/>
            <a:ext cx="822960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ahoma"/>
              </a:rPr>
              <a:t>¿CÓMO LA USAMOS?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"/>
          <p:cNvSpPr/>
          <p:nvPr/>
        </p:nvSpPr>
        <p:spPr>
          <a:xfrm>
            <a:off x="533520" y="3049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LA INFORMACIÓN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ES UNA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ahoma"/>
              </a:rPr>
              <a:t>NECESIDAD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utgkjgkjgj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0" y="0"/>
          <a:ext cx="9144000" cy="681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1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914400" y="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PUESTO 1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29528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Ventas                           78.0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ostos y gastos            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70.2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                                     </a:t>
            </a:r>
            <a:r>
              <a:rPr b="1" lang="en-US" sz="3200" spc="-1" strike="noStrike">
                <a:solidFill>
                  <a:srgbClr val="cc3300"/>
                </a:solidFill>
                <a:latin typeface="Tahoma"/>
              </a:rPr>
              <a:t>----------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Resultado neto               7.80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a.-no está mal una ganancia líquida del 10% no está nada m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b.-tengo una inversión de $2.500.00  y a este ritmo tardaré 26 años y 8 meses en recuperarla, está TODO MAL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c.- el problema son  las VENTAS, me pongo en campaña para aumentarl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d.- voy a contratar publicidad y/o un analista de </a:t>
            </a: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market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94840" indent="-294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0" y="-9360"/>
          <a:ext cx="9144000" cy="6813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-9360"/>
                    <a:ext cx="9144000" cy="681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PUESTO 2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773360"/>
            <a:ext cx="91440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         Rojo         Azul     Verde  Amar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ntas                 78.000   15.000   20.000   18.000   2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os y gastos 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70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                          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-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ado neto     7.8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73200" y="507960"/>
            <a:ext cx="8229600" cy="13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0" y="44280"/>
          <a:ext cx="9144000" cy="681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4280"/>
                    <a:ext cx="9144000" cy="681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"/>
          <p:cNvSpPr/>
          <p:nvPr/>
        </p:nvSpPr>
        <p:spPr>
          <a:xfrm>
            <a:off x="0" y="1844640"/>
            <a:ext cx="91440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ojo     Azul     Verde  Amar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ntas                78.000      15.000   20.000   18.000   2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os y gastos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70.200      19.000   10.000   21.200   2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---------    ---------   --------   ---------  --------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ado neto       7.800   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4.000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.000    </a:t>
            </a:r>
            <a:r>
              <a:rPr b="0" lang="en-US" sz="2400" spc="-1" strike="noStrike">
                <a:solidFill>
                  <a:srgbClr val="cc3300"/>
                </a:solidFill>
                <a:latin typeface="Tahoma"/>
              </a:rPr>
              <a:t>3.200 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PUESTO 3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0" y="44280"/>
          <a:ext cx="9144000" cy="681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44280"/>
                    <a:ext cx="9144000" cy="681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"/>
          <p:cNvSpPr/>
          <p:nvPr/>
        </p:nvSpPr>
        <p:spPr>
          <a:xfrm>
            <a:off x="2611800" y="685800"/>
            <a:ext cx="3472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SUPUESTO 4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0" y="1844640"/>
            <a:ext cx="9144000" cy="42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otal                Azul             Amarill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Ventas                   45.000         20.000             25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stos y gastos   </a:t>
            </a:r>
            <a:r>
              <a:rPr b="1" lang="en-US" sz="2400" spc="-1" strike="noStrike">
                <a:solidFill>
                  <a:srgbClr val="cc3300"/>
                </a:solidFill>
                <a:latin typeface="Tahoma"/>
              </a:rPr>
              <a:t> 34.2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----------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ado neto     10.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¿por qué no estoy ganando 15.000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¡no tendré más remed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que contrata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 un analista de costos!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2T11:08:10Z</dcterms:created>
  <dc:creator>Carolina</dc:creator>
  <dc:description/>
  <dc:language>en-US</dc:language>
  <cp:lastModifiedBy>C.P.C.E.C.A.B.A.</cp:lastModifiedBy>
  <dcterms:modified xsi:type="dcterms:W3CDTF">2005-05-05T19:58:09Z</dcterms:modified>
  <cp:revision>28</cp:revision>
  <dc:subject/>
  <dc:title>Diapositiva 1</dc:title>
</cp:coreProperties>
</file>