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981E9-A40B-4B25-B600-39B041729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BEAB-DEE5-4A45-A2D9-7FB1F28A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7988-0F32-4C23-87AD-A35C21372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9621-5D08-4429-B8ED-684F697D6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9325E-416C-4A87-B33C-C83A5924CB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175F-647F-4F3C-B07F-4E0F45CCE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E884F-9366-47F7-B844-E7A5F9CCA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9CE9-1446-4014-A42F-FC8F35D3C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E22D-5040-41A4-A253-4D4366A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B9AF-41B1-42C0-B41D-2FA0562AF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5B4352-2632-46B7-B0D9-918C846FE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F5F74-647B-40D1-A64E-210C8ADA4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A68DB-EAB3-4823-B375-BCD443826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68AA-8278-44CD-8627-1E04629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8D2C3-1D2B-49ED-B2F5-90CF4856F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D4691-4E1C-429A-896D-C4A911880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3A6A8-60E1-4E47-88E1-C1A718112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EB76-11B1-45EA-94D3-4A8447626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CD9A7-AD9D-4166-88A0-F046BF271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73421-040D-417C-9A6C-53419D90F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600BB-3B0B-4BD0-9F3B-B6791336A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E238F-2146-4BF6-A91F-EB4022E14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8B85-AD24-4DB1-8CCD-EC2B7C036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57F4E-B656-4D71-9D8A-BBA925156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52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blo D. Wag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pwagner@cponline.org.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740B9-D2C3-42B6-94DE-3D59412BB69F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468360" y="1125360"/>
            <a:ext cx="8207280" cy="142920"/>
          </a:xfrm>
          <a:prstGeom prst="rect">
            <a:avLst/>
          </a:prstGeom>
          <a:gradFill rotWithShape="0">
            <a:gsLst>
              <a:gs pos="0">
                <a:srgbClr val="cdcde5">
                  <a:alpha val="56078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082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01E51-6B37-4328-B9C6-E8F994C47BBA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sto por diferencia de inv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56000" y="1628640"/>
            <a:ext cx="3887640" cy="863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0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908000" y="2565360"/>
            <a:ext cx="432000" cy="432000"/>
          </a:xfrm>
          <a:prstGeom prst="plus">
            <a:avLst>
              <a:gd name="adj" fmla="val 25000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08000" y="4005360"/>
            <a:ext cx="432000" cy="21564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4200" y="2852640"/>
            <a:ext cx="3888000" cy="863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0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556000" y="4076640"/>
            <a:ext cx="3887640" cy="863640"/>
          </a:xfrm>
          <a:prstGeom prst="rect">
            <a:avLst/>
          </a:prstGeom>
          <a:gradFill rotWithShape="0">
            <a:gsLst>
              <a:gs pos="0">
                <a:srgbClr val="33ccff"/>
              </a:gs>
              <a:gs pos="50000">
                <a:srgbClr val="00ffff"/>
              </a:gs>
              <a:gs pos="100000">
                <a:srgbClr val="33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332000" y="5157720"/>
            <a:ext cx="6553080" cy="2174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b9b9d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5591160"/>
            <a:ext cx="6480000" cy="86364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2700360" y="170028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xistencia Inicial</a:t>
            </a:r>
            <a:endParaRPr b="0" lang="en-US" sz="20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2700360" y="292428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ras y Gastos</a:t>
            </a:r>
            <a:endParaRPr b="0" lang="en-US" sz="20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2700360" y="4125960"/>
            <a:ext cx="360036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3366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xistencia Final</a:t>
            </a:r>
            <a:endParaRPr b="0" lang="en-US" sz="2000" spc="1" strike="noStrike">
              <a:ln w="0">
                <a:noFill/>
              </a:ln>
              <a:solidFill>
                <a:srgbClr val="3366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1476360" y="5661000"/>
            <a:ext cx="619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sto por Diferencia de Inventario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ones con el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800" spc="-1" strike="noStrike">
                <a:solidFill>
                  <a:srgbClr val="000000"/>
                </a:solidFill>
                <a:latin typeface="Arial"/>
              </a:rPr>
              <a:t>Preguntas que “se responden” con los cos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medir el uso de recursos? (cost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Que elementos influyen en el costo? ¿Y cóm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hacer para cambiar el uso de los recursos y mejorar la organización de forma de optimizar los cos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Cómo establecer un parámetro de costo? ¿Cómo establecer su desviació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informació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ecesidad de clasificación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Vari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jos de capac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ij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mifi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Para que sirve clasificar los costos por variabili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informació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de clasificación de costos por </a:t>
            </a: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Variabil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tribución Marg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nto de Equilib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nto de Nivel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rgen de Segur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de 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539640" y="1798560"/>
          <a:ext cx="8136000" cy="4510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798560"/>
                    <a:ext cx="813600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995640" y="3860640"/>
            <a:ext cx="216000" cy="216000"/>
          </a:xfrm>
          <a:prstGeom prst="flowChartConnector">
            <a:avLst/>
          </a:prstGeom>
          <a:solidFill>
            <a:srgbClr val="ff00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300720" y="350208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rot="16200000">
            <a:off x="5220360" y="4796640"/>
            <a:ext cx="216000" cy="2376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156360" y="2492280"/>
            <a:ext cx="216000" cy="216000"/>
          </a:xfrm>
          <a:prstGeom prst="flowChartConnector">
            <a:avLst/>
          </a:prstGeom>
          <a:solidFill>
            <a:srgbClr val="00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90720" y="3567240"/>
            <a:ext cx="66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PEQ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921280" y="215280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cc00"/>
                </a:solidFill>
                <a:latin typeface="Arial"/>
              </a:rPr>
              <a:t>PN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642000" y="5681520"/>
            <a:ext cx="52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850000" y="373680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00720" y="2565360"/>
            <a:ext cx="142920" cy="934920"/>
          </a:xfrm>
          <a:custGeom>
            <a:avLst/>
            <a:gdLst>
              <a:gd name="textAreaLeft" fmla="*/ 0 w 142920"/>
              <a:gd name="textAreaRight" fmla="*/ 51480 w 142920"/>
              <a:gd name="textAreaTop" fmla="*/ 24120 h 934920"/>
              <a:gd name="textAreaBottom" fmla="*/ 910800 h 93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510160" y="306216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COM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La información</a:t>
            </a: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stos para la toma de deci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 la información disponible no es completa ni razonable, y el sistema de costos es desordenado, tiene sentido calcular los cos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La contabilidad tradicional brinda el detalle necesario para estudiar los cos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Los costos son los únicos factores a tomar en cuent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ara que puedo utilizar la información de costo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la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Jura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costos de prevención, evaluación, fallas internas y fallas extern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ming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la falla en las empresas por competir en los mercados es por falta de atención a la calid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rosby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hacer las cosas bien desde la primera vez para minimizar los c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Monden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: todos son responsables por el mantenimiento y las mejor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¿Qué relación existe entre la calida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2400" spc="-1" strike="noStrike">
                <a:solidFill>
                  <a:srgbClr val="000000"/>
                </a:solidFill>
                <a:latin typeface="Arial"/>
              </a:rPr>
              <a:t>y la productivida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1523880" y="1219320"/>
          <a:ext cx="579132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219320"/>
                    <a:ext cx="579132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4" name=""/>
          <p:cNvSpPr/>
          <p:nvPr/>
        </p:nvSpPr>
        <p:spPr>
          <a:xfrm>
            <a:off x="1216440" y="5156280"/>
            <a:ext cx="43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oca Planificación y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8960" y="5765760"/>
            <a:ext cx="495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7c80"/>
                </a:solidFill>
                <a:latin typeface="Times New Roman"/>
              </a:rPr>
              <a:t>Altos Costos por Corrección y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la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50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1521000" y="1219320"/>
          <a:ext cx="5790960" cy="3873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1000" y="1219320"/>
                    <a:ext cx="5790960" cy="38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9" name=""/>
          <p:cNvSpPr/>
          <p:nvPr/>
        </p:nvSpPr>
        <p:spPr>
          <a:xfrm>
            <a:off x="1218960" y="5156280"/>
            <a:ext cx="500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Bajos Costos por Corrección y Fal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16440" y="5765760"/>
            <a:ext cx="427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66ff33"/>
                </a:solidFill>
                <a:latin typeface="Times New Roman"/>
              </a:rPr>
              <a:t>Alta Planificación y Preven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la C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5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4000"/>
                            </p:stCondLst>
                            <p:childTnLst>
                              <p:par>
                                <p:cTn id="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838080" y="1268280"/>
            <a:ext cx="784872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Son los costos que “posee” una empresa por no estar adecuadamente organizada en los </a:t>
            </a:r>
            <a:r>
              <a:rPr b="1" lang="es-ES_tradnl" sz="2300" spc="-1" strike="noStrike">
                <a:solidFill>
                  <a:srgbClr val="000000"/>
                </a:solidFill>
                <a:latin typeface="Times New Roman"/>
              </a:rPr>
              <a:t>factores</a:t>
            </a:r>
            <a:r>
              <a:rPr b="1" i="1" lang="es-ES_tradnl" sz="2300" spc="-1" strike="noStrike">
                <a:solidFill>
                  <a:srgbClr val="000000"/>
                </a:solidFill>
                <a:latin typeface="Times New Roman"/>
              </a:rPr>
              <a:t> operativos</a:t>
            </a:r>
            <a:r>
              <a:rPr b="0" i="1" lang="es-ES_tradnl" sz="2300" spc="-1" strike="noStrike">
                <a:solidFill>
                  <a:srgbClr val="000000"/>
                </a:solidFill>
                <a:latin typeface="Times New Roman"/>
              </a:rPr>
              <a:t> y/o </a:t>
            </a:r>
            <a:r>
              <a:rPr b="1" i="1" lang="es-ES_tradnl" sz="2300" spc="-1" strike="noStrike">
                <a:solidFill>
                  <a:srgbClr val="000000"/>
                </a:solidFill>
                <a:latin typeface="Times New Roman"/>
              </a:rPr>
              <a:t>humanos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de forma que encuentra en estos costos los principales obstáculos para desarrollarse efectivamente como organización en el plano económico y soci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4076640"/>
            <a:ext cx="723924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el modo de trabajar,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la desorganización a ultranza,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mprovisació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la ignorancia técnica y humana para trabaja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n gente motivada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00000" y="3500280"/>
            <a:ext cx="202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 u="sng">
                <a:solidFill>
                  <a:srgbClr val="000000"/>
                </a:solidFill>
                <a:uFillTx/>
                <a:latin typeface="Times New Roman"/>
              </a:rPr>
              <a:t>Manifest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7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9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898920" y="1440000"/>
            <a:ext cx="481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¿Cómo afectan a los Costo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2200" y="2098800"/>
            <a:ext cx="524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ostos calculados en forma simpli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0400" y="2817720"/>
            <a:ext cx="657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so de prejuicios en vez de datos de la re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81840" y="3537000"/>
            <a:ext cx="4345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Manipulación de Inform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82200" y="4255920"/>
            <a:ext cx="703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No hay seguimiento de razonabilidad de los Cos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959440" y="1295280"/>
            <a:ext cx="2057400" cy="1390680"/>
          </a:xfrm>
          <a:prstGeom prst="rect">
            <a:avLst/>
          </a:prstGeom>
          <a:ln w="0">
            <a:noFill/>
          </a:ln>
        </p:spPr>
      </p:pic>
      <p:pic>
        <p:nvPicPr>
          <p:cNvPr id="172" name="" descr=""/>
          <p:cNvPicPr/>
          <p:nvPr/>
        </p:nvPicPr>
        <p:blipFill>
          <a:blip r:embed="rId2"/>
          <a:stretch/>
        </p:blipFill>
        <p:spPr>
          <a:xfrm>
            <a:off x="4587840" y="4648320"/>
            <a:ext cx="3124080" cy="18889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stos de Organiz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500"/>
                            </p:stCondLst>
                            <p:childTnLst>
                              <p:par>
                                <p:cTn id="71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500"/>
                            </p:stCondLst>
                            <p:childTnLst>
                              <p:par>
                                <p:cTn id="83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4000"/>
                            </p:stCondLst>
                            <p:childTnLst>
                              <p:par>
                                <p:cTn id="90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500"/>
                            </p:stCondLst>
                            <p:childTnLst>
                              <p:par>
                                <p:cTn id="97" nodeType="afterEffect" fill="hold" presetClass="entr" presetID="17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7000"/>
                            </p:stCondLst>
                            <p:childTnLst>
                              <p:par>
                                <p:cTn id="10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sto por diferencia de inv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de fácil aplic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ermite obtener el costo de forma glob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Bien utilizado sirve para cumplir con los requerimientos formales de la contabilidad de uso ex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sto por diferencia de inv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95280" y="1312560"/>
            <a:ext cx="8229600" cy="564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CONT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al utilizado puede incluir resultados por ten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uede incluir sustracciones y otras diferencias de inventario que no se originen en el c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control “ex – post”, no sirve para garantizar una seguridad razonable sobre los activ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 un costo global, no tiene el detalle necesario para analizar los componentes que lo determin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No sirve para entender como optimizar el co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osto por diferencia de inventari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6648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Preguntas que no se pueden contestar con este métod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Cuánto gano por cada producto que vend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El costo determinado incluye ineficiencia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Qué ineficiencias se produjeron y cuál es su causa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¿Puede ser que un producto esté subsidiando a otr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200" spc="-1" strike="noStrike">
                <a:solidFill>
                  <a:srgbClr val="000000"/>
                </a:solidFill>
                <a:latin typeface="Arial"/>
              </a:rPr>
              <a:t>No permite aparear ingresos con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ey de Pare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general del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Relación válida entre los resultados y los recursos necesarios para lograrlo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500" spc="-1" strike="noStrike">
                <a:solidFill>
                  <a:srgbClr val="000000"/>
                </a:solidFill>
                <a:latin typeface="Arial"/>
              </a:rPr>
              <a:t>Objetivo: </a:t>
            </a:r>
            <a:r>
              <a:rPr b="0" lang="es-ES_tradnl" sz="2500" spc="-1" strike="noStrike">
                <a:solidFill>
                  <a:srgbClr val="000000"/>
                </a:solidFill>
                <a:latin typeface="Arial"/>
              </a:rPr>
              <a:t>Construir esquemas de análisis que permitan vincular los factores empleados con los resultados obtenidos, a través de la definición de las relaciones existentes entre las diferentes acciones que componen el proceso productivo o de servicios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042920" y="5445000"/>
            <a:ext cx="1728720" cy="576360"/>
          </a:xfrm>
          <a:prstGeom prst="rect">
            <a:avLst/>
          </a:prstGeom>
          <a:gradFill rotWithShape="0">
            <a:gsLst>
              <a:gs pos="0">
                <a:srgbClr val="0468fa"/>
              </a:gs>
              <a:gs pos="50000">
                <a:srgbClr val="33ccff"/>
              </a:gs>
              <a:gs pos="100000">
                <a:srgbClr val="0468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curs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Fact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851280" y="5445000"/>
            <a:ext cx="1728720" cy="576360"/>
          </a:xfrm>
          <a:prstGeom prst="rect">
            <a:avLst/>
          </a:prstGeom>
          <a:gradFill rotWithShape="0">
            <a:gsLst>
              <a:gs pos="0">
                <a:srgbClr val="0468fa"/>
              </a:gs>
              <a:gs pos="50000">
                <a:srgbClr val="33ccff"/>
              </a:gs>
              <a:gs pos="100000">
                <a:srgbClr val="0468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ces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588000" y="5445000"/>
            <a:ext cx="1729080" cy="576360"/>
          </a:xfrm>
          <a:prstGeom prst="rect">
            <a:avLst/>
          </a:prstGeom>
          <a:gradFill rotWithShape="0">
            <a:gsLst>
              <a:gs pos="0">
                <a:srgbClr val="0468fa"/>
              </a:gs>
              <a:gs pos="50000">
                <a:srgbClr val="33ccff"/>
              </a:gs>
              <a:gs pos="100000">
                <a:srgbClr val="0468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Result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Produc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16360" y="5516640"/>
            <a:ext cx="718920" cy="476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68fa"/>
              </a:gs>
              <a:gs pos="50000">
                <a:srgbClr val="33ccff"/>
              </a:gs>
              <a:gs pos="100000">
                <a:srgbClr val="0468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724360" y="551664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0468fa"/>
              </a:gs>
              <a:gs pos="50000">
                <a:srgbClr val="33ccff"/>
              </a:gs>
              <a:gs pos="100000">
                <a:srgbClr val="0468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00000" y="5229360"/>
            <a:ext cx="7559640" cy="10080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general del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tiene dos componentes con distintas version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ís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rmal /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 (standard / estim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onet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R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Normal / promed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Predeter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Reposición (valor de entra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-1987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NR (valor de salid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92120" indent="0">
              <a:lnSpc>
                <a:spcPct val="45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84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i hay distintas formas de medir el costo, entonces… ¿El costo es objetivo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general del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Subjetivida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l costo combina elementos objetivos con subjetividades propias del estilo de direc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gestión del negocio no tiene que compartir todos los criterios de la contabilidad de uso exte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La subjetividad debe estar dada en función a la individualidad de la empresa y a sus decisiones, no en función de la manipulación de inform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eoría general del C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Definición de la unidad de coste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ubjetividad en función de la unidad de coste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Necesarie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ceptos de Costo, Gasto y Pérd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106fee"/>
            </a:gs>
            <a:gs pos="50000">
              <a:srgbClr val="ffffff"/>
            </a:gs>
            <a:gs pos="100000">
              <a:srgbClr val="106fe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Relaciones con el entor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476360" y="1773360"/>
            <a:ext cx="5977080" cy="3817800"/>
          </a:xfrm>
          <a:prstGeom prst="ellipse">
            <a:avLst/>
          </a:prstGeom>
          <a:gradFill rotWithShape="0">
            <a:gsLst>
              <a:gs pos="0">
                <a:srgbClr val="00ffff"/>
              </a:gs>
              <a:gs pos="50000">
                <a:srgbClr val="106fee"/>
              </a:gs>
              <a:gs pos="100000">
                <a:srgbClr val="00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95640" y="2349360"/>
            <a:ext cx="4535280" cy="252108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43280" y="2852640"/>
            <a:ext cx="3313080" cy="14400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00"/>
                </a:solidFill>
                <a:latin typeface="Arial"/>
              </a:rPr>
              <a:t>Empres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679920" y="2060640"/>
            <a:ext cx="1684080" cy="28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ontex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157800" y="321300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2050920" y="321264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 rot="5400000">
            <a:off x="4163040" y="4487040"/>
            <a:ext cx="718920" cy="476280"/>
          </a:xfrm>
          <a:custGeom>
            <a:avLst/>
            <a:gdLst>
              <a:gd name="textAreaLeft" fmla="*/ 89640 w 718920"/>
              <a:gd name="textAreaRight" fmla="*/ 629280 w 7189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6200000">
            <a:off x="4118400" y="232632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8100000">
            <a:off x="2771280" y="422064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8900000">
            <a:off x="5437080" y="2420640"/>
            <a:ext cx="719280" cy="476280"/>
          </a:xfrm>
          <a:custGeom>
            <a:avLst/>
            <a:gdLst>
              <a:gd name="textAreaLeft" fmla="*/ 89640 w 719280"/>
              <a:gd name="textAreaRight" fmla="*/ 629640 w 71928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2700000">
            <a:off x="5486400" y="4270680"/>
            <a:ext cx="720720" cy="475920"/>
          </a:xfrm>
          <a:custGeom>
            <a:avLst/>
            <a:gdLst>
              <a:gd name="textAreaLeft" fmla="*/ 90000 w 720720"/>
              <a:gd name="textAreaRight" fmla="*/ 630720 w 720720"/>
              <a:gd name="textAreaTop" fmla="*/ 118800 h 475920"/>
              <a:gd name="textAreaBottom" fmla="*/ 357120 h 475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3500000">
            <a:off x="2771280" y="2447280"/>
            <a:ext cx="720720" cy="476280"/>
          </a:xfrm>
          <a:custGeom>
            <a:avLst/>
            <a:gdLst>
              <a:gd name="textAreaLeft" fmla="*/ 90000 w 720720"/>
              <a:gd name="textAreaRight" fmla="*/ 630720 w 720720"/>
              <a:gd name="textAreaTop" fmla="*/ 119160 h 476280"/>
              <a:gd name="textAreaBottom" fmla="*/ 357480 h 476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3635280" y="5013360"/>
            <a:ext cx="1684440" cy="28872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Context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1:22:58Z</dcterms:created>
  <dc:creator>Pablo Wagner</dc:creator>
  <dc:description/>
  <dc:language>en-US</dc:language>
  <cp:lastModifiedBy>C.P.C.E.C.A.B.A.</cp:lastModifiedBy>
  <dcterms:modified xsi:type="dcterms:W3CDTF">2005-05-05T19:56:54Z</dcterms:modified>
  <cp:revision>1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956029357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aniel Wagner</vt:lpwstr>
  </property>
  <property fmtid="{D5CDD505-2E9C-101B-9397-08002B2CF9AE}" pid="5" name="_EmailSubject">
    <vt:lpwstr>Presentación Costos Mayo</vt:lpwstr>
  </property>
</Properties>
</file>