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6B48-8D5B-4347-AAF6-F6BF1E713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5991E-F3D7-44CF-83E3-F2D4FAEBD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EB981-58A0-45FF-A516-409C41507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0E8E-8A1A-440D-9CE8-CE098A968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F89C86-72F2-4067-9915-FB54E2BCC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C2F64-7C2E-4B06-98FC-7AF0E88F6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438122-0201-4D7B-A710-4C5BA2FD6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45F203-17FF-45D0-9F07-92C3DD02D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6EF932-0F74-4535-B25A-EC2C0D4C29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9B6A43-2DD7-4E7B-A643-8F07516A2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A969B9-C404-47D4-B29B-DE095B2CC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D866-D027-4ECB-B054-9FB30D913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8D20E3-54CD-40A0-B8D5-8087382E8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313B46-5FA6-4A45-A509-D2336E94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3B1A8E-1EB4-45BA-8898-722018BC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6ED802-2E0C-4BD1-8124-3160523BE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F647B-201C-4A0D-9F80-7431804E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5191-E21D-48D7-B11B-E98E53E2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3B02-8488-49F8-A7EB-84A7BE8A3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AD26-F73F-4335-9244-133C00D53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F1F1-1B2E-4805-B98A-8E393F93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EDB17-7AD9-4F42-94E1-12C668D49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722E-81F8-460E-A805-9000AE76A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3FEE-B9B8-4784-B90D-07BA09EDC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48160-D746-4032-B075-E21E2841EFDB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80093-A4BC-48BC-9EB3-2B6757B405B5}" type="slidenum"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18960"/>
            <a:ext cx="77724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i="1" lang="en-US" sz="4400" spc="-1" strike="noStrike">
                <a:solidFill>
                  <a:srgbClr val="ffffff"/>
                </a:solidFill>
                <a:latin typeface="Tahoma"/>
              </a:rPr>
              <a:t>¿</a:t>
            </a:r>
            <a:r>
              <a:rPr b="1" i="1" lang="es-MX" sz="4400" spc="-1" strike="noStrike">
                <a:solidFill>
                  <a:srgbClr val="ffffff"/>
                </a:solidFill>
                <a:latin typeface="Tahoma"/>
              </a:rPr>
              <a:t>CUÁL ES EL COSTO DE NO CONOCER LOS COSTOS?</a:t>
            </a:r>
            <a:br>
              <a:rPr sz="4400"/>
            </a:br>
            <a:r>
              <a:rPr b="1" lang="es-MX" sz="2400" spc="-1" strike="noStrike">
                <a:solidFill>
                  <a:srgbClr val="ffffff"/>
                </a:solidFill>
                <a:latin typeface="Tahoma"/>
              </a:rPr>
              <a:t>3 de mayo de 2005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2819520"/>
            <a:ext cx="8305920" cy="42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Expositor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Dra. C.P. Liliana R.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Dr. C.P. Pablo D. Wagn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oordinador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Dr. C.P. Gerónimo Torres Bar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ahoma"/>
              </a:rPr>
              <a:t>Comisiones organizador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Tahoma"/>
              </a:rPr>
              <a:t>JÓVENES PROFESIONALES - DESARROLLO PROFE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PROGRAMA DE DESARROLLO PROFES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i="1" lang="es-MX" sz="2000" spc="-1" strike="noStrike">
                <a:solidFill>
                  <a:srgbClr val="ffffff"/>
                </a:solidFill>
                <a:latin typeface="Tahoma"/>
              </a:rPr>
              <a:t>PARA NUEVOS GRADUAD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8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ahoma"/>
              </a:rPr>
              <a:t>PROCESO DECISORIO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250920" y="1196640"/>
            <a:ext cx="8642160" cy="42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INFORMACIÓN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ffffff"/>
                </a:solidFill>
                <a:latin typeface="Tahoma"/>
              </a:rPr>
              <a:t>PROFESIONAL EN CIENCIAS ECONÓMICAS</a:t>
            </a:r>
            <a:endParaRPr b="0" lang="en-US" sz="3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50920" y="1915920"/>
            <a:ext cx="8642160" cy="35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INFORMACIÓN        DECISIÓN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16360" y="234936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716360" y="2349360"/>
            <a:ext cx="863640" cy="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Generar información APTA para la toma de decision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¿Cuándo la información es APTA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Cuando cumple con determinadas CUALIDADE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50920" y="0"/>
            <a:ext cx="86421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Atributos indiscutibles: 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Pertinent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onfiab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oincidencia razonable con la realidad: esencial, neutral, completa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Verificab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Sistemática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omparab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Comprensible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Oportuna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726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ahoma"/>
              </a:rPr>
              <a:t>Económica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s decir que NO se puede disponer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 información APTA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 no se dispone de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formación sobre los COST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Cómo asegurar la generación de información APTA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rganización – Siste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rol intern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más principios de una sana administr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250920" y="2060640"/>
            <a:ext cx="8642160" cy="34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¿TIENE QUE VER CON EL TAMAÑO DEL EN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EFINITIVAMENTE  </a:t>
            </a: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NO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250920" y="1773360"/>
            <a:ext cx="8642160" cy="369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500" spc="-1" strike="noStrike">
                <a:solidFill>
                  <a:srgbClr val="ffffff"/>
                </a:solidFill>
                <a:latin typeface="Tahoma"/>
              </a:rPr>
              <a:t>ROMPER CON EL MITO</a:t>
            </a:r>
            <a:endParaRPr b="0" lang="en-US" sz="6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ahoma"/>
              </a:rPr>
              <a:t>(Continúa Pablo Wagn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57200" y="228600"/>
            <a:ext cx="822960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AGEND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troduc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ol del Profesional en Ciencias Económ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Proceso Deciso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Información Apta para toma de decis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mo asegurar la generación de información apt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omper con el mi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sto por Diferencia de Inventar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Teoría General del Cos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Relaciones con el Entorn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La información de cos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stos para Toma de Decis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stos de la Calida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s-ES_tradnl" sz="2400" spc="-1" strike="noStrike">
                <a:solidFill>
                  <a:srgbClr val="ffffff"/>
                </a:solidFill>
                <a:latin typeface="Tahoma"/>
              </a:rPr>
              <a:t>Costos de Organiz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684000" y="981000"/>
            <a:ext cx="784836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Hay UN solo mecanismo 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operativo cotidiano que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provee INGRESOS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539640" y="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odos,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ABSOLUTAMENTE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TODO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los demás se dedican a GASTAR,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500" spc="-1" strike="noStrike">
                <a:solidFill>
                  <a:srgbClr val="ffffff"/>
                </a:solidFill>
                <a:latin typeface="Tahoma"/>
              </a:rPr>
              <a:t>a incurrir en COSTOS</a:t>
            </a:r>
            <a:endParaRPr b="0" lang="en-US" sz="5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68360" y="765000"/>
            <a:ext cx="8229600" cy="54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no conocer los costos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equivale a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NO CONOCER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11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Tahoma"/>
              </a:rPr>
              <a:t>LO QUE SE HACE EN UN ENTE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920" y="1844640"/>
            <a:ext cx="8642160" cy="36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¿CUÁL ES EL COSTO DE NO CONOCER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ahoma"/>
              </a:rPr>
              <a:t>LO QUE SE HACE EN UN ENTE?</a:t>
            </a:r>
            <a:endParaRPr b="0" lang="en-US" sz="3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250920" y="907920"/>
            <a:ext cx="8642160" cy="456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¿cuál es el costo de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NO tener INFORMACIÓN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¿cuál es el costo de NO contar con u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ROFESIONAL EN CIENCIAS ECONÓMICAS?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836640"/>
            <a:ext cx="8642160" cy="46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Tahoma"/>
              </a:rPr>
              <a:t>ROL DEL PROFESIONAL</a:t>
            </a:r>
            <a:endParaRPr b="0" lang="en-US" sz="6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Tahoma"/>
              </a:rPr>
              <a:t>EN</a:t>
            </a:r>
            <a:endParaRPr b="0" lang="en-US" sz="6100" spc="-1" strike="noStrike">
              <a:solidFill>
                <a:srgbClr val="ffffff"/>
              </a:solidFill>
              <a:latin typeface="Tahoma"/>
            </a:endParaRPr>
          </a:p>
          <a:p>
            <a:pPr marL="322200" indent="0" algn="ctr">
              <a:spcBef>
                <a:spcPts val="15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Tahoma"/>
              </a:rPr>
              <a:t>CIENCIAS ECONÓMICAS</a:t>
            </a:r>
            <a:endParaRPr b="0" lang="en-US" sz="6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250920" y="1267920"/>
            <a:ext cx="8642160" cy="42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l profesional en ciencias económicas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es el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Tahoma"/>
              </a:rPr>
              <a:t>PRINCIPAL PROVEEDOR DE INFORMACIÓN</a:t>
            </a:r>
            <a:endParaRPr b="0" lang="en-US" sz="3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395280" y="6021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Tahoma"/>
              </a:rPr>
              <a:t>Liliana Barrionuev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09:08:29Z</dcterms:created>
  <dc:creator>Carolina</dc:creator>
  <dc:description/>
  <dc:language>en-US</dc:language>
  <cp:lastModifiedBy>C.P.C.E.C.A.B.A.</cp:lastModifiedBy>
  <cp:lastPrinted>2005-05-03T18:35:24Z</cp:lastPrinted>
  <dcterms:modified xsi:type="dcterms:W3CDTF">2005-05-05T19:56:09Z</dcterms:modified>
  <cp:revision>41</cp:revision>
  <dc:subject/>
  <dc:title> ¿CUÁL ES EL COSTO DE NO CONOCER LOS COSTOS?</dc:title>
</cp:coreProperties>
</file>