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4A9-0465-4365-ACE1-6AA889FB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AD2-B0C7-4C11-A51D-89ABC2F4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3E4-C000-4E2F-8771-EFD35990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02B-BF3F-4A44-9543-39EC8A1C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F23-2D10-4B75-9D07-E86471A6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CA2-AFC9-4608-B039-9BBED292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A87-0552-47C4-ADF0-9A7CEAD1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804-6346-430F-BBD9-9587E6B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798-00E9-4A06-99B6-FC68941D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3AF-199A-4F5F-8AF8-C1C3BBF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BED-7768-40D8-9A60-EF35F2DB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121-456C-4950-AFAC-352FA30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184F-1F11-4AF9-A78D-865A3AA1BD4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égimen de Empadronamiento – Sujetos oblig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ntidades exentas de impuestos por ley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ociedades cooperativas de cualquier natural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nstituciones religio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sociaciones, fundaciones y entidades civ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ntidades mutual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sociaciones deportivas y de cultur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nstituciones internacionales sin fines de lu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érdida reconocimiento exención o certificado de empadronamiento en trámite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b) Sujetos con exención reconocida: a partir de la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echa que determine juez administra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l resultado de tal acto se publicará en la página web, sin perjuicio de sanciones que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udieran correspon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Terceros donantes y agentes de retención  o percepción: los efectos se producirán a partir de la publicación de la situación en la página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ichos sujetos deberán determinar e ingresar el impuesto a las ganancias y,o, iva. A su vez, estarán imposibilitados de acreditar ante 3º  su condición impositiva, a fines de evitar que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érdida reconocimiento exención o certificado de empadronamiento en trámite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es practiquen retenciones o percepciones, en caso de correspon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onaciones realizadas por 3º: no serán deducibles en el impuesto a las gana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a entidad deberá devolver en la dependencia, el certificado de exención otorgado, dentro de 5 días siguientes a la fecha en que quedó firme el acto administra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isconformidad: el acto podrá recurrirse a través del Recurso de Apelación para ante el Director General (art. 74 DR Ley 1168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creditación ant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xhib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) F. 409 - Empadronamiento en trám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b) F. 709 o F. 709 ( Nuevo Modelo) – Certificado de Reconocimiento de Exen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Obligaciones de terceros intervin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os agentes de retención, percepción o donantes, deberán verificar en la página web el estado o vigencia de la condición impositiva e imprimir y archivar en una carpeta el reporte de la consulta, ordenada cronológica y alfabét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Obligaciones de terceros intervinientes (cont.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nvalidez exención invocada: deberán informar a la AFIP tal situación dentro de los 5 días, mediante presentación de nota ante la dependencia en la que se encuentren inscriptos con los siguientes requis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1- Apellido y nombre o razón social y CUIT del presen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2- Denominación o razón social y CUIT de la entidad que alega la exen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3- Breve exposición de motivos que dan lugar a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4- Firma del informante y carácter invo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lta de cumplimiento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sanción art. 39 Ley 116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resentación de declaración ju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ujetos obligados: entidades empadronadas en el Regi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mpuesto a las Ganancias e Informe para Fines Fisc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jercicios anuales cerrados a partir del 31 de agosto de 2003, inclu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ujetos excluíd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1- Asociaciones cooperadoras esco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2- Asociaciones, fundaciones y demás personas de existencia ideal sin fines de lucro que destinen los fondos a promoción de actividades hospitalarias (Administración Pública) y, o, de bomberos volu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resentación de declaración jurada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3- Comunidades indígenas inscriptas en el RENACI, y asociaciones sin fines de lucro inscriptas en la IG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4- Instituciones religiosas inscriptas en el registro existente (Secretaría de Cult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Incumpl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alta de presentación de dd.jj.(Impuesto a las Ganancias, Informe para Fines Fiscales o Régimen de Información de Donac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alta de contestación total o parcial de requerimientos de información y,o docu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Incumplimiento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alta de denuncia del domicilio fiscal o cuando el denunciado fuere inexis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las entidades empadronadas perderán su condición de exentas, hasta tanto regularicen la situación. Por lo tanto se encontrarán impedidas de utilizar los formularios respectivos a efectos de acreditar su condición impositiva ante 3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Sujetos con exención en trámite con anterioridad a la entrada en vigencia de la RG 1815: archivo de la solicit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Incumplimiento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ujetos con solicitud de reconocimiento de exención presentada a partir de la vigencia de RG 1815: archivo de solicitud y decaimiento de los beneficios citados en el artículo 3º , último párrafo, desde la fecha de presentación de la misma. En relación a los agentes de retención o percepción, tal situación producirá efectos a partir de su publicación en la página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Don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ducción de donaciones en dinero y en especie realizadas a sujetos del inciso e) art. 20 y a determinados  sujetos del inciso f) del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Depósito de la d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pósito bancario a nombre dona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or intermedio emple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Efectuar depósitos individuales por cada       empleado don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Entregarles a cada empleado, dentro de los 10 días, fotocopia de las boletas de depósito, certificadas por los donatarios, donde dejarán constancia de los siguientes datos del don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) apellido y no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b) domicilio fi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) número de C.U.I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pósito global de la donación por emple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Opción: la obligación por parte del empleador, pódrá ser sustituída por un depósito global mensual para cada donatario. El mismo comprenderá la suma de los importes destinados  a la donación, siempre que se encuentren deducidos en los respectivos recib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i los empleadores optan por este procedimiento, deberán entregar a cada donante, dentro de los 10 días, un comprobante en el que constará el detalle de las donaciones respectivas realizadas a su no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quisitos: deberá ejercerse a partir de la primera donación en cada año calendario y manifestarse mediante nota (RG 112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Formalidades a cumpl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. 699 (Nuevo Mode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lementos Anexo II RG 1815 y mod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) Constancia de inscripción en AFIP-D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B1) Sujetos con reconocimiento de exención al momento de empadronarse (RG 729): resolución que acredite reconocimiento exen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B2) Empadronados por RG 729: certificado de exención – F.7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B3) Empadronados por RG 1815: certificado de exención – F.709 (Nuevo mode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Régimen de información de don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uje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Emple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Don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) Personas físicas responsables del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mpue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b) Sucesiones indivisas y personas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juríd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Dona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rogramas aplicativos a uti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mpleadores: “Donaciones en dinero y en especie. Empleadores. Versión 1.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onantes y donatarios: “Ganancias – Sociedades – Versión 6.0”, o “Ganancias – Personas Físicas – Versión 7.0”, según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de personas que no lleven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ble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la presentación será realizada por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ocio con participación social mayoritaria, o e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aso de participaciones iguales, por el que pos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.U.I.T. Men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* La información deberá remitirse mediante transferencia electrónica de datos a través de  página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Vencimiento para la 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mpleadores: hasta el 26 de marzo de cada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onantes y donatarios: juntamente conla presentación de la dd.jj. del Impuesto  a las Ganancias del período fiscal a infor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fectos del incumpl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rt. 36, régimen de información y depósito de donación (art. 34) sin intervención de empleador: para el donante implicará la impugnación de la deducción computada en la dd.jj. Resp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beres impuestos al empleador (art. 34 b) o art. 35): sanción art. 39 Ley 1168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fectos del incumplimiento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) Deber de información: aplicación de sanción prevista en artículo agregado a cont. de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rtículo 39 Ley 1168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xcepciones al presente régi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ujet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Emple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Donantes, excepto personas fisicas que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fectúen su donación por intermedio del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mple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xcepciones al presente régi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onaciones periódicas que no superen $1.200 por cada donante en un mismo período fis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onaciones eventuales que no superen $600 por cada donante, a cada institución, en un mismo período fis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onaciones en especie: a efectos de determinar la excepcion a la obligación de informar, los productos que las integren deberán valuarse de acuerdo al valor en pla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Formalidades a cumpli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) Estatutos o normas que rijan su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) Modificaciones del punto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) Última acta vigente de nombramiento de autor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) Estados de situación patrimonial o balance general, estado de recursos y gastos, estado de evolución del PN, y estado de origen y aplicación de fondos y memorias; de los últimos 3 ejercicios fiscales vencidos a la fecha de la solic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G) Datos actualizados conforme RG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Formalidades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 a cumplir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) Acuse de recibo de presentación DD.J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1) Impuesto a las Gan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2) Rég. Información RG 4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3) Rég. Información Don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lementos complement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1) Entidades exentas Leyes Nacion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1.1) Ley que estableció ex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2) Cooperativas y Ent. Mutualis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2.1) Acreditación personería jurídica e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nscripción en INA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Formalidades a cumpli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3) Asociaciones, fundaciones y entidades ci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3.1) Acreditación personerí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4) Asociaciones deportivas y cultura fís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4.1) Acreditación  personerí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4.2) Nota suscripta por peticionaria con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talle de inversiones y gastos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stinados a tales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Formalidades a cumpli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xce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*  Instituciones religiosas: certificado inscripción en Registro – Secretaría Cu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*  Asociaciones, cooperadoras escolares: autorización extendida por autoridad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*  Comunidades indígenas: inscripción en RENACI, o en la IGJ bajo la forma de asociación sin fines de lu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*  Instituciones internac. sin fines de lucro (sede paí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Acreditación personerí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Normas que regulan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Formalidades a cumpli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Modificaciones en funcionamiento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osteriores al comienzo del trám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*   Instituciones internac. sin fines lucro – 2º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árrafo inc. r) art. 2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Norma que la declara de interés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 Documentación que pruebe su exist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TIDAD NO INSCRIPTA EN AFIP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podr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olicitar conjuntamente la inscripción (F.460) y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nclusión en el Regi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Denegación de solicitud de ex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solución fundada de juez administra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Notificación por art. 100 Ley 1168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rocedimiento para expresar disconform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lazo 15 días: Presentación de nota (RG 1128) acompañada de elementos por los que desee hacer valer su recl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lazo 20 días: el organismo puede requerir otros ele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lazo 20 días: Resolución por juez administrativo sobre procedencia o no del recurso formu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Notificación por art. 100 Ley 116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érdida reconocimiento exención o certificado de empadronamiento en trámite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tección de irregularidades en datos decla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solución fundada  y notificada:  la AFIP puede dejar sin efecto el reconocimiento exentivo (F.709 o F. 709 Nuevo Modelo) o el certificado de empadronamiento en trámite (F. 40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f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) Sujetos con empadronamiento en trámite: desde la presentación de la solicit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3:09:00Z</dcterms:created>
  <dc:creator>C.P.C.E.C.A.B.A.</dc:creator>
  <dc:description/>
  <dc:language>en-US</dc:language>
  <cp:lastModifiedBy>C.P.C.E.C.A.B.A.</cp:lastModifiedBy>
  <dcterms:modified xsi:type="dcterms:W3CDTF">2005-06-24T16:44:19Z</dcterms:modified>
  <cp:revision>24</cp:revision>
  <dc:subject/>
  <dc:title>Régimen de Empadronamiento – Sujetos obligados</dc:title>
</cp:coreProperties>
</file>