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64711-8A79-4D5B-B27F-FF49E42BD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D0C5-370C-4413-8DF2-8979D06F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698BC-1C7C-4C58-953C-551EB0ED5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82213-8099-4627-9795-92C2E234F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26BB6-6104-4662-B7A6-12D94C48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1A98F-0ADA-44C1-BAB4-CCC3F051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9241-B000-41E5-921D-59529E685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93C8-0616-41C3-A525-69F1889CD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54D5D-E32A-4393-9294-A7DCF7E2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6656-A8FC-47F0-9D59-52DAFFB03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C624-734D-43CA-BCD3-137545F3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8929-3EE5-485A-A2E4-14D6C6329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B03C-7E33-4BBA-8FE2-F6BE8A78ABB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uesto a las Ganancias</a:t>
            </a:r>
            <a:br>
              <a:rPr sz="4400"/>
            </a:br>
            <a:r>
              <a:rPr b="0" lang="en-US" sz="4400" spc="-1" strike="noStrike">
                <a:solidFill>
                  <a:srgbClr val="000000"/>
                </a:solidFill>
                <a:latin typeface="Times New Roman"/>
              </a:rPr>
              <a:t>Marco Normativo</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y del Impuesto a las Ganancias (LI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0 inc d) e) f) g) m) 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0 último párrafo (limitació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creto Reglamentari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34</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35 (cooperativ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44</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G (AFIP) 1.81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leadores -Depósito Global de la donació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obligación puede sustituirse por un depósito global mensual para cada donatario</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empleadores deberán entregar al empleado donante un comprobante con el detalle de las donaciones realizadas a su nombre, dentro de los diez días. De no recibir este comprobante, el empleado deberá informar a la AFIP mediante nota con carácter de declaración jurad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ción por este procedimiento deberá informase por nota con carácter de declaración jurada con la primer donación del año calendario.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aciones – Régimen de Información – Sujetos Obligado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eadores: por las donaciones por cuenta y orden de sus empleado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ntes: Por las donaciones que efectúen, excepto personas físicas que donen por medio del empleado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tarios: por las donaciones que reciban en el año calendario. Deberán efectuar la presentación aunque no hubieran recibido donaciones en el perío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aciones – Régimen de Información – Aplicativ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mpleadores: “DONACIONES EN DINERO Y EN ESPECIE - EMPLEADORES - Versión 1.0”.</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onantes y donatarios: “DONACIONES EN DINERO Y EN ESPECIE - DONANTES Y DONATARIOS - Versión 1.0”</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mbos casos la presentación deberá hacerse por Internet, salvo que la información tenga un tamaño igual o superior a 2 Mg en cuyo caso se presentará en Ag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aciones – Régimen de Información – Vencimiento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mpleadores :hasta el día 26 del mes de marzo de cada año.</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onantes: hasta el mismo día del mes inmediato siguiente al del vencimiento general de la declaración jurada del impuesto a las ganancias del período fiscal a informar</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Donatarios:</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ujetos que hubieren obtenido el formulario F. 409: hasta el día 26 del mes de enero de cada año.</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ntidades con reconocimiento de exención mediante formularios F. 411, F. 709 o, en su caso, F. 709 (Nuevo Modelo): hasta el día 26 de mayo de cada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égimen de Información – Efectos del incumplimiento </a:t>
            </a:r>
            <a:endParaRPr b="0" lang="en-US" sz="4400" spc="-1" strike="noStrike">
              <a:solidFill>
                <a:srgbClr val="000000"/>
              </a:solidFill>
              <a:latin typeface="Times New Roman"/>
            </a:endParaRPr>
          </a:p>
        </p:txBody>
      </p:sp>
      <p:sp>
        <p:nvSpPr>
          <p:cNvPr id="68"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onantes: El incumplimiento acarreará la impugnación de la deducción en la declaración jurada del Impuesto a las Ganancia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mpleadores y donatarios: Infracción a los deberes formales (art. 39 de la ley 11.683)</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égimen de Información – Excepciones </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onantes y empleadores estarán exceptuados de cumplir con el régimen de información cuando se trate de:</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aciones periódicas que no superen la suma de MIL DOSCIENTOS PESOS ($ 1.200) por cada donante -asociado o adherente- en un mismo período fiscal.</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aciones eventuales que no superen la suma de SEISCIENTOS PESOS ($ 600) por cada donante, a cada institución, en un mismo período fiscal.</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excepción no sera aplicable cuando el conjunto de donaciones efectuadas por el contribuyente supere la suma de DOS MIL CUATROCIENTOS ($ 2.400) en el período fis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ndo para Educación y Promoción Cooperativa – Ley 23.427</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grava el capital de las Cooperativas inscriptas en el Registro Pertin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apital cooperativo surgirá de la diferencia entre el activo y pasivo al fin de cada período anual, de acuerdo con las normas de valuación y determinación que se establecen en la presente 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ndo para Educación y Promoción Cooperativa - Exencio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rán exentos de la contribución espe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bienes situados en el Territorio Nacional de la Tierra del Fuego, Antártida e Islas del Atlántico Sur, en las condiciones previstas por la ley 19640;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diante la L. 25879 (BO: 15/4/2004) se establece que las participaciones y tenencias accionarias de las cooperativas en sociedades de capital no integran la base imponible sujeta a la contribución especial del fondo para educación y promoción cooperativ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uotas sociales de cooperativ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enes No  Computabl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sultarán computab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bienes situados con carácter permanente en el exteri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bienes exento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ivo Computab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el activo estuviese únicamente integrado por bienes computables a efectos de la liquidación de la contribución especial, el pasivo se deducirá íntegramente del valor de los mismos considerándose capital a la diferencia resultante; </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el activo estuviese integrado por bienes computables y no computables a los efectos de la liquidación de la contribución especial, el pasivo deberá prorratearse en función de los valores correspondientes a tales bienes. El capital resultará de la diferencia entre el valor de los bienes computables del activo y la proporción del pasivo atribuible a los mism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bros no considerados como Activo o Pasiv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s efectos de la liquidación de la presente contribución especial no se considerarán como activo los saldos de cuotas suscriptas pendientes de integración de los asoci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onsiderarán, asimismo, como pasivo las deudas originadas en contratos regidos por la ley de transferencia de tecnología, cuando las mismas no se ajusten a las previsiones de dich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os deducibles del Capital</a:t>
            </a:r>
            <a:endParaRPr b="0" lang="en-US" sz="4400" spc="-1" strike="noStrike">
              <a:solidFill>
                <a:srgbClr val="000000"/>
              </a:solidFill>
              <a:latin typeface="Times New Roman"/>
            </a:endParaRPr>
          </a:p>
        </p:txBody>
      </p:sp>
      <p:sp>
        <p:nvSpPr>
          <p:cNvPr id="54" name="PlaceHolder 2"/>
          <p:cNvSpPr>
            <a:spLocks noGrp="1"/>
          </p:cNvSpPr>
          <p:nvPr>
            <p:ph/>
          </p:nvPr>
        </p:nvSpPr>
        <p:spPr>
          <a:xfrm>
            <a:off x="609120" y="1447920"/>
            <a:ext cx="8153640" cy="411480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las sumas que se otorguen a los miembros del consejo de administración y de la sindicatura en concepto de reembolso de gastos y remuneraciones;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 las habilitaciones y gratificaciones al personal que se paguen o pongan a disposición dentro de los 5 (cinco) meses de cerrado el ejercicio social;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el retorno en dinero efectivo de los excedentes repartibles que vote la asamblea que trate el balance y demás documentación correspondiente al ejercicio social que sirvió de base para la liquidación de la presente contribución especial.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ontribución especial resultante de la liquidaciónformulada de acuerdo con las normas precedentes no es deducible a efectos de la determinación del capital cooperativo sujeto a la mis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ícuot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rcicios iniciados desde el 31/12/199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jercicio: 1,2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uientes ejercicios: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ción Mínima exenta: $ 908,6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computarse el impuesto sobre los créditos bancarios con las limitaciones establecidas para el Impuesto a las Gananc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naciones – Formalidades </a:t>
            </a:r>
            <a:br>
              <a:rPr sz="4400"/>
            </a:br>
            <a:r>
              <a:rPr b="0" lang="es-ES" sz="4400" spc="-1" strike="noStrike">
                <a:solidFill>
                  <a:srgbClr val="000000"/>
                </a:solidFill>
                <a:latin typeface="Times New Roman"/>
              </a:rPr>
              <a:t>RG 1815 art. 34</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berán realizarse mediante depósito bancario a nombre de los donatario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uando las donaciones se efectúen por intermedio del empleador, éste además queda obligado a:</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fectuar depósitos individuales por cada empleado donante y,</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ntregarle a cada uno, dentro de los DIEZ (10) días de efectuado el depósito, fotocopias de las boletas de depósito de las donaciones realizadas, certificadas por los donatarios, quienes dejarán constancia en ellas de los datos del donante(Apellido y nombre-domicilio-CU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22:24:15Z</dcterms:created>
  <dc:creator>Marcelo Santiago Bergé</dc:creator>
  <dc:description/>
  <dc:language>en-US</dc:language>
  <cp:lastModifiedBy>C.P.C.E.C.A.B.A.</cp:lastModifiedBy>
  <dcterms:modified xsi:type="dcterms:W3CDTF">2005-06-24T16:45:21Z</dcterms:modified>
  <cp:revision>23</cp:revision>
  <dc:subject/>
  <dc:title>Presentación de PowerPoint</dc:title>
</cp:coreProperties>
</file>