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586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82720" y="465912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BBB-7441-4EF8-9972-57CD054C43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6040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82720" y="4659120"/>
            <a:ext cx="485784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EE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6040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2720" y="4659120"/>
            <a:ext cx="485784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6040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82720" y="4659120"/>
            <a:ext cx="485784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6040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82360" y="5996160"/>
            <a:ext cx="44290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SON PREGUNTAS TO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RT 17  NCP DESARROLLO DE CUESTIONES DE APLIACIÓN GENERA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6F5-E14E-47B2-9D6C-263312EF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852-73C1-4E86-8920-41163AA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3CB-8A87-4B28-9D1C-F4E59868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72B-31BB-4216-B166-B1752A51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4380-4D44-492B-B43D-83F4D21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374D-F884-47E4-86C8-B9C0F97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F66C-5FCC-41C0-98F3-19C89259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CA83-923C-450B-9066-410B67FF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921-7F74-4010-B098-EDB6D806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0B6-FC5E-40E1-8A40-3C1C0CC6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E78-8082-4822-AAB8-FB2D7D7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EEF-A536-4BA5-8062-582AA777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E75-50D3-4B3F-BE26-2EEDB64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B2DF-F324-4FF4-A11B-5415AB0A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E060-879A-42FA-A7D4-F7D48B4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9376-4AB5-44CC-8A58-0A36905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B25D-ACB3-4F19-847A-17FED87A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3F0-A573-4676-9BBC-420AB99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5D7-99BB-44E4-9001-5A004E45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44F-EA4B-45D4-8E80-BD38CA0C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C30-62EF-461E-9C79-82AAEC7D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650-8B97-4C17-AD8C-851B8DE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44D-53B5-4F3D-BC77-97C1DE5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F98-8062-409B-A238-54FE4BC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07D7-4212-4171-BD60-3E235C7F1A5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2709-98D5-447D-81B1-F024B1D986B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mailto:ebpaille@infovia.com.ar" TargetMode="External"/><Relationship Id="rId2" Type="http://schemas.openxmlformats.org/officeDocument/2006/relationships/hyperlink" Target="mailto:ebpaille@infovia.com.ar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333399"/>
                </a:solidFill>
                <a:latin typeface="Tahoma"/>
              </a:rPr>
              <a:t>TEMA A DESARROLLAR</a:t>
            </a:r>
            <a:br>
              <a:rPr sz="6000"/>
            </a:br>
            <a:r>
              <a:rPr b="1" lang="es-MX" sz="6000" spc="-1" strike="noStrike">
                <a:solidFill>
                  <a:srgbClr val="333399"/>
                </a:solidFill>
                <a:latin typeface="Tahoma"/>
              </a:rPr>
              <a:t>RES. MD 01/2005</a:t>
            </a:r>
            <a:br>
              <a:rPr sz="6000"/>
            </a:br>
            <a:br>
              <a:rPr sz="6000"/>
            </a:br>
            <a:r>
              <a:rPr b="1" lang="es-MX" sz="6000" spc="-1" strike="noStrike">
                <a:solidFill>
                  <a:srgbClr val="ff0066"/>
                </a:solidFill>
                <a:latin typeface="Tahoma"/>
              </a:rPr>
              <a:t>ADOPTA RT 22 de la FACPC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EDUARDO B.A. PAIL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17A-74BE-472B-91C2-316247631D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62012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CRITERIO DE MEDICIÓN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 COSTO</a:t>
            </a: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vs. </a:t>
            </a: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VN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1909800"/>
          <a:ext cx="7772400" cy="4033800"/>
        </p:xfrm>
        <a:graphic>
          <a:graphicData uri="http://schemas.openxmlformats.org/drawingml/2006/table">
            <a:tbl>
              <a:tblPr/>
              <a:tblGrid>
                <a:gridCol w="3810240"/>
                <a:gridCol w="1699920"/>
                <a:gridCol w="2262240"/>
              </a:tblGrid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DA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GO 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TRIGO 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$ IMPLAN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KG.COSECH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3.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$/KG.ACTIV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0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$/VNRCOSECH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ALOR PRODUC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 u="sng">
                          <a:solidFill>
                            <a:srgbClr val="ff6600"/>
                          </a:solidFill>
                          <a:uFillTx/>
                          <a:latin typeface="Tahoma"/>
                        </a:rPr>
                        <a:t>3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84B-6839-44CB-8E85-2F8B4688F0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ESTADO PATRIMONIAL A INICIO Y A COSECHA DEL TRIG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58920" y="2093760"/>
          <a:ext cx="7467480" cy="40402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676160"/>
                <a:gridCol w="205740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DA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NI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A 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CIERRE A V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TRI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3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PAS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AP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UT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CC1-84A4-49C4-8A4B-B1FE2EA50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ff"/>
                </a:solidFill>
                <a:latin typeface="Tahoma"/>
              </a:rPr>
              <a:t>CLASIFICACIÓN PROCESOS BIOLO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Tahoma"/>
              </a:rPr>
              <a:t>ANIM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Tahoma"/>
              </a:rPr>
              <a:t>PROCESOS CONTINUOS-GANADE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Tahoma"/>
              </a:rPr>
              <a:t>VEGE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Tahoma"/>
              </a:rPr>
              <a:t>CON PROCESOS TERMINALES-</a:t>
            </a:r>
            <a:r>
              <a:rPr b="1" lang="es-AR" sz="2400" spc="-1" strike="noStrike">
                <a:solidFill>
                  <a:srgbClr val="339933"/>
                </a:solidFill>
                <a:latin typeface="Tahoma"/>
              </a:rPr>
              <a:t>CERE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Tahoma"/>
              </a:rPr>
              <a:t>CON PROCESOS CORTOS-LEGUMB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00"/>
                </a:solidFill>
                <a:latin typeface="Tahoma"/>
              </a:rPr>
              <a:t>CON PROCESOS PROLONGADOS-ÁRB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D23-9AE8-4D14-83F6-986D79B69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1828800"/>
            <a:ext cx="5257800" cy="2209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EN DESARROLLO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SEMENTER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TERNERAS/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962520"/>
            <a:ext cx="4343400" cy="243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EN PRODUCCIÓN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PLANTAS FRUT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VIENT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886200"/>
            <a:ext cx="4267080" cy="2666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OBTENIDO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CERE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FRUTAS NOVILL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65520"/>
            <a:ext cx="6933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DIFERENTES ESTADIOS DE LOS ACTIVOS BIOLÓGICO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438280"/>
            <a:ext cx="1524240" cy="20574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867280"/>
            <a:ext cx="2971800" cy="60984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2438280"/>
            <a:ext cx="1523880" cy="221004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399960 h 2210040"/>
              <a:gd name="textAreaBottom" fmla="*/ 15458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1" stAng="-5400000" swAng="5400000"/>
                <a:lnTo>
                  <a:pt x="21600" y="11198"/>
                </a:lnTo>
                <a:arcTo wR="21600" hR="7821" stAng="0" swAng="2160957"/>
                <a:lnTo>
                  <a:pt x="9630" y="20780"/>
                </a:lnTo>
                <a:lnTo>
                  <a:pt x="0" y="17331"/>
                </a:lnTo>
                <a:lnTo>
                  <a:pt x="9630" y="12241"/>
                </a:lnTo>
                <a:lnTo>
                  <a:pt x="9630" y="14822"/>
                </a:lnTo>
                <a:arcTo wR="21600" hR="7821" stAng="2160957" swAng="-1886319"/>
                <a:lnTo>
                  <a:pt x="21091" y="9510"/>
                </a:lnTo>
                <a:arcTo wR="21600" hR="7821" stAng="-274638" swAng="-5125362"/>
                <a:close/>
              </a:path>
              <a:path fill="darkenLess" w="21600" h="21600">
                <a:moveTo>
                  <a:pt x="0" y="0"/>
                </a:moveTo>
                <a:arcTo wR="21600" hR="7821" stAng="-5400000" swAng="5400000"/>
                <a:lnTo>
                  <a:pt x="21600" y="11198"/>
                </a:lnTo>
                <a:arcTo wR="21600" hR="7821" stAng="0" swAng="-274638"/>
                <a:lnTo>
                  <a:pt x="21091" y="9510"/>
                </a:lnTo>
                <a:arcTo wR="21600" hR="7821" stAng="-274638" swAng="-512536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9D2-F218-48F3-864E-EA72F2F9AB33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885600"/>
            <a:ext cx="779292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ff"/>
                </a:solidFill>
                <a:latin typeface="Tahoma"/>
              </a:rPr>
              <a:t>ESTADIOS BI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66"/>
                </a:solidFill>
                <a:uFillTx/>
                <a:latin typeface="Tahoma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RODEOS GANADEROS DE CRÌ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ARBOLES FRU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9900"/>
                </a:solidFill>
                <a:uFillTx/>
                <a:latin typeface="Tahoma"/>
              </a:rPr>
              <a:t>EN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PERÍO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CORTOS - 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MEDIANOS – CAÑA DE AZÙC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ARGOS - FORES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cc"/>
                </a:solidFill>
                <a:uFillTx/>
                <a:latin typeface="Tahoma"/>
              </a:rPr>
              <a:t>PRODUCTO 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ANIMAL-NOVILLO EN CONDICIÒN FAEN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VEGETAL-TRIGO COSE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650-FD86-4D65-8B81-E45A581C5A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790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MODELO CONTABLE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RT1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3392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ahoma"/>
              </a:rPr>
              <a:t>MONEDA DE CU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ahoma"/>
              </a:rPr>
              <a:t>CRITERIOS DE MEDICIÓN CO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ahoma"/>
              </a:rPr>
              <a:t>CAPITAL A MAN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ahoma"/>
              </a:rPr>
              <a:t>(para que exist</a:t>
            </a:r>
            <a:r>
              <a:rPr b="1" lang="es-MX" sz="20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es-ES" sz="2000" spc="-1" strike="noStrike">
                <a:solidFill>
                  <a:srgbClr val="0000ff"/>
                </a:solidFill>
                <a:latin typeface="Tahoma"/>
              </a:rPr>
              <a:t> gananc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95600" y="2133720"/>
            <a:ext cx="3848040" cy="4495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HOMOGEN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DE LOS A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DESTINO+PROB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DE LOS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INTENCIÓN y PO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INANCI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D83-C41A-47C5-9C1D-3E40E6378F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63200"/>
            <a:ext cx="779292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ff"/>
                </a:solidFill>
                <a:latin typeface="Tahoma"/>
              </a:rPr>
              <a:t>PERÍODOS</a:t>
            </a:r>
            <a:br>
              <a:rPr sz="4400"/>
            </a:b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ONTABLES</a:t>
            </a: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vs.  </a:t>
            </a: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VEGETATIV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NU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RIMEST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ENSU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ahoma"/>
              </a:rPr>
              <a:t>VARIA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ahoma"/>
              </a:rPr>
              <a:t>EN ESARROL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ahoma"/>
              </a:rPr>
              <a:t>TERMIN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024-96A8-43E9-937D-C34B97A418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0"/>
            <a:ext cx="7848720" cy="129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DESAFÍO ES CONCILIAR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BIENES BIOLÓGICOS CON N.C.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876920"/>
            <a:ext cx="2819520" cy="1676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5105520"/>
            <a:ext cx="2743200" cy="1752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E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913680" y="1371600"/>
            <a:ext cx="2514600" cy="838080"/>
          </a:xfrm>
          <a:prstGeom prst="flowChartAlternateProcess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B.B.=C.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048120"/>
            <a:ext cx="2514600" cy="99036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3886200"/>
            <a:ext cx="1219320" cy="1523880"/>
          </a:xfrm>
          <a:prstGeom prst="downArrow">
            <a:avLst>
              <a:gd name="adj1" fmla="val 50000"/>
              <a:gd name="adj2" fmla="val 3124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590920"/>
            <a:ext cx="312444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3505320"/>
            <a:ext cx="1371600" cy="76176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9144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1676520"/>
            <a:ext cx="1905120" cy="761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FÍ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124080"/>
            <a:ext cx="1752840" cy="1447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6600"/>
                </a:solidFill>
                <a:uFillTx/>
                <a:latin typeface="Times New Roman"/>
              </a:rPr>
              <a:t>TRA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ff6600"/>
                </a:solidFill>
                <a:uFillTx/>
                <a:latin typeface="Times New Roman"/>
              </a:rPr>
              <a:t>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2096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22096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2860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334120"/>
            <a:ext cx="1904760" cy="1143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ff6600"/>
                </a:solidFill>
                <a:uFillTx/>
                <a:latin typeface="Times New Roman"/>
              </a:rPr>
              <a:t>C.P.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657600"/>
            <a:ext cx="533520" cy="1371600"/>
          </a:xfrm>
          <a:prstGeom prst="downArrow">
            <a:avLst>
              <a:gd name="adj1" fmla="val 50000"/>
              <a:gd name="adj2" fmla="val 6427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3341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49568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6C3-3771-45EB-8375-362F183D05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617040"/>
            <a:ext cx="7012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MX" sz="6000" spc="-1" strike="noStrike">
                <a:solidFill>
                  <a:srgbClr val="0000ff"/>
                </a:solidFill>
                <a:latin typeface="Tahoma"/>
              </a:rPr>
              <a:t>ALTERNATIVA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ADAPTAR LOS BIENES BIOLÓGICOS A LOS CRITERIOS CONTABLES DE MEDICIÓ</a:t>
            </a: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ctr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339933"/>
                </a:solidFill>
                <a:latin typeface="Comic Sans MS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ctr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omic Sans MS"/>
              </a:rPr>
              <a:t>ADAPTAR LOS CRITERIOS CONTABLES DE MEDICIÓN A LOS BIENES BIOLÓG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C78-2D84-432B-824C-73FBA4EC4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0"/>
            <a:ext cx="586764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438280"/>
            <a:ext cx="2743200" cy="15242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NIC 4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14600"/>
            <a:ext cx="2743200" cy="1523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RT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91440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85800"/>
            <a:ext cx="1295280" cy="25909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3962520"/>
            <a:ext cx="533520" cy="1371600"/>
          </a:xfrm>
          <a:prstGeom prst="downArrow">
            <a:avLst>
              <a:gd name="adj1" fmla="val 50000"/>
              <a:gd name="adj2" fmla="val 6427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886200"/>
            <a:ext cx="533160" cy="1447920"/>
          </a:xfrm>
          <a:prstGeom prst="downArrow">
            <a:avLst>
              <a:gd name="adj1" fmla="val 50000"/>
              <a:gd name="adj2" fmla="val 67893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5257800"/>
            <a:ext cx="2895480" cy="1219320"/>
          </a:xfrm>
          <a:prstGeom prst="hexagon">
            <a:avLst>
              <a:gd name="adj" fmla="val 59367"/>
              <a:gd name="vf" fmla="val 11547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NCP A B.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5334120"/>
            <a:ext cx="2895480" cy="1218960"/>
          </a:xfrm>
          <a:prstGeom prst="hexagon">
            <a:avLst>
              <a:gd name="adj" fmla="val 59384"/>
              <a:gd name="vf" fmla="val 11547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.B. A NCP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267080"/>
            <a:ext cx="220968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ADAP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819160" y="4648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146-0BC3-480F-9EA0-7F28CCC1C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s. MD. 1/2005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.P.C.E.C.A.B.A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ADA B.O. 12/2/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RUEBA LA SEGUNDA PARTE DE LA RT. 22 de la FACP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RMAS CONTABLES PROFESIONALES: ACTIVIDAD AGROPECU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VIG. EJ. INIC. 01/06/200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4F8-27F3-440B-A626-00A87FFC8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333399"/>
                </a:solidFill>
                <a:latin typeface="Tahoma"/>
              </a:rPr>
              <a:t>DISPOSICIONES RT 22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PRUEBA NCP para ACT. AGR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EMPLAZA SECCIONES RT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DICIONA PÁRRAFOS RT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COMIENDA A LOS CP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RATAMIENTO ACTA CATAMAR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IGENCIA EECC INICIO (1/1/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VITA CPCE CA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ADOPTA por RES. MD. 1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igencia balances iniciados el 1/7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24D-9308-4A6F-AECC-539070928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7160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2 ACTIVIDAD AGROPECU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</a:rPr>
              <a:t>3 ALC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4 AMBITO A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66ff"/>
                </a:solidFill>
                <a:latin typeface="Tahoma"/>
              </a:rPr>
              <a:t>5 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66ff"/>
                </a:solidFill>
                <a:latin typeface="Tahoma"/>
              </a:rPr>
              <a:t>6 RECONOC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ahoma"/>
              </a:rPr>
              <a:t>7 MEDI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ahoma"/>
              </a:rPr>
              <a:t>8 EX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960560" y="617400"/>
            <a:ext cx="6647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cc"/>
                </a:solidFill>
                <a:latin typeface="Tahoma"/>
              </a:rPr>
              <a:t>RT 22</a:t>
            </a:r>
            <a:br>
              <a:rPr sz="4400"/>
            </a:br>
            <a:r>
              <a:rPr b="0" lang="es-AR" sz="4400" spc="-1" strike="noStrike">
                <a:solidFill>
                  <a:srgbClr val="0033cc"/>
                </a:solidFill>
                <a:latin typeface="Tahoma"/>
              </a:rPr>
              <a:t>CONTENI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BBA-8D0E-4022-9F72-F85B491497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T 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rt. 1° OBJETIV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ahoma"/>
              </a:rPr>
              <a:t>CRITERIOS DE MEDI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ahoma"/>
              </a:rPr>
              <a:t>PAUTAS EXPOSI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rt. 2° ACTIVIDAD AGROPECUARI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9933"/>
                </a:solidFill>
                <a:latin typeface="Tahoma"/>
              </a:rPr>
              <a:t>DEFINI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7FC-72C8-4765-8E7D-D7DF5ACD73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T 22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26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Tahoma"/>
              </a:rPr>
              <a:t>Art. 3° ALC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CTIVOS B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OS AGROPECU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HASTA SU DISPOS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UTILIZACIÓN COMO </a:t>
            </a:r>
            <a:r>
              <a:rPr b="1" lang="es-MX" sz="2400" spc="-1" strike="noStrike" u="sng">
                <a:solidFill>
                  <a:srgbClr val="ff3300"/>
                </a:solidFill>
                <a:uFillTx/>
                <a:latin typeface="Comic Sans MS"/>
              </a:rPr>
              <a:t>INSUMO 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TRIBUÍDOS PROD. AGR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9C3-15A6-46B8-9D87-FB4CD397BA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8680" y="693720"/>
            <a:ext cx="76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ahoma"/>
              </a:rPr>
              <a:t>RT 22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t. 3°. ALCANCE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Esta resolución técnica no incluye  otros rubros que no tienen o no tuvieron desarrollo biológico, tales como la tierr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No obstante, si el uso agropecuario disminuye sus condiciones, el deterioro es un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No incluye el tratamiento del procesamiento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posterior a su obtención (uva-vi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EB0-E31E-414E-B4ED-1C851D87EF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T 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rt. 4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ÁMBITO DE APL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ODOS LOS ENTES QUE DESARROLLAN ACTIVIDAD AGROPECURIA, INCLUYENDO AQUELLAS QUE HACEN UN USO MENOR O NULO DE LA TI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168-2A03-4875-BE15-6ADCCE94A7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3300"/>
                </a:solidFill>
                <a:latin typeface="Tahoma"/>
              </a:rPr>
              <a:t>TRANSFORMACIÓN BIO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ACTIVOS B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OBTENCIÓN DE PROD. AGR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PRODUCTOS AGROPECU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MERCADO AC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INICIAL DE DES. BI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SIGUIENTE DEL DES. BI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ff"/>
                </a:solidFill>
                <a:uFillTx/>
                <a:latin typeface="Tahoma"/>
              </a:rPr>
              <a:t>RT 22 -  5-</a:t>
            </a:r>
            <a:r>
              <a:rPr b="1" lang="es-MX" sz="4400" spc="-1" strike="noStrike" u="sng">
                <a:solidFill>
                  <a:srgbClr val="0000ff"/>
                </a:solidFill>
                <a:uFillTx/>
                <a:latin typeface="Tahoma"/>
              </a:rPr>
              <a:t>	</a:t>
            </a:r>
            <a:r>
              <a:rPr b="1" lang="es-MX" sz="4400" spc="-1" strike="noStrike" u="sng">
                <a:solidFill>
                  <a:srgbClr val="0000ff"/>
                </a:solidFill>
                <a:uFillTx/>
                <a:latin typeface="Tahoma"/>
              </a:rPr>
              <a:t>DEFINI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92F-A09E-4C32-A888-64FA48F78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3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RCADO AC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REQUISITOS A CUMP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ducto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AR" sz="4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mogéneos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radores y vendedore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uficientes en forma habitual, es decir que deben existir </a:t>
            </a:r>
            <a:r>
              <a:rPr b="1" lang="es-AR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ciones en la fecha o fechas cercana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 la de las mediciones contable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os </a:t>
            </a:r>
            <a:r>
              <a:rPr b="1" lang="es-AR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cios 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las transacciones deben ser </a:t>
            </a:r>
            <a:r>
              <a:rPr b="1" lang="es-AR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ocido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or los entes que operan en dichos mercad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175-AC9E-40F3-BB41-7C794B6604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ff"/>
                </a:solidFill>
                <a:latin typeface="Tahoma"/>
              </a:rPr>
              <a:t>ART. 6° RECONOC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ENTES DESCRIPTOS DEBEN RECONOCER LA EXISTENCIA DE UN ACTIVO BIOLÓGICO O DE UN PRODUCTO AGROPECUARIO SÓLO CUANDO SE HAYAN SATISFECHO  REQUISITOS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ECCIÓN 5 de la RT 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CAP. 4 (ELEMENTOS DE LOS EECC) ver 4.2.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CAP. 3 punto 3.1.2. (Confiabilidad cred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ECCIÓN 2.1 DE LA RT 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0A9-471F-4940-BC27-8C910E3A27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129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ahoma"/>
              </a:rPr>
              <a:t>VALOR LÍMITE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ahoma"/>
              </a:rPr>
              <a:t>RT 17 4.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NINGÚN ACTIVO PODRÁ  TE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UN VALOR SUPERIOR 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3300"/>
                </a:solidFill>
                <a:uFillTx/>
                <a:latin typeface="Tahoma"/>
              </a:rPr>
              <a:t>VALOR RECUPERAB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QUE ES EL MAYOR ENTRE VNR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su VALOR USO (FFFesperad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080-04A0-4F07-9754-777CDBAE80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1219320"/>
            <a:ext cx="6629400" cy="51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AN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) Los comentarios recibidos oportunamente sobre el tema de la Comisiones de Actuación profesional en Empresas Agropecuarias y de Estudios sobre Contabilidad de este Cons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) La inclusión entre los cometarios recibidos de la CAPEA de dos recomendaciones referidas a la conveniencia de introducir algunas adecuaciones al texto de la Resolución Técnica Nº 22 para su adaptación por este Cons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3AF-DCD8-49B3-B1BD-D1B2AF691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0000"/>
                </a:solidFill>
                <a:latin typeface="Tahoma"/>
              </a:rPr>
              <a:t>7 MEDIC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PARA LA MEDICIÓN CONTABL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DE LOS ACTIVOS BIOLÓGICOS DEBEN EMPLEAR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LOS SIGUIENTES CRITERIO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3DC-825C-4D58-A433-B42DBED476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52480" y="0"/>
            <a:ext cx="6705720" cy="1752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RT 22 7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MEDICIÓN B.  BI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057400"/>
            <a:ext cx="6172200" cy="11430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DESTINADOS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4479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3352680"/>
            <a:ext cx="3733920" cy="20574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7.1-VEN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276720"/>
            <a:ext cx="4191120" cy="2209680"/>
          </a:xfrm>
          <a:prstGeom prst="octagon">
            <a:avLst>
              <a:gd name="adj" fmla="val 29287"/>
            </a:avLst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FACTOR 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666880"/>
            <a:ext cx="990720" cy="1447920"/>
          </a:xfrm>
          <a:custGeom>
            <a:avLst/>
            <a:gdLst>
              <a:gd name="textAreaLeft" fmla="*/ 132480 w 990720"/>
              <a:gd name="textAreaRight" fmla="*/ 858240 w 99072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2514600"/>
            <a:ext cx="1066680" cy="1447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5638680"/>
            <a:ext cx="6553440" cy="762120"/>
          </a:xfrm>
          <a:prstGeom prst="plus">
            <a:avLst>
              <a:gd name="adj" fmla="val 25000"/>
            </a:avLst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7.3 PROCESO PROD.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3048120"/>
            <a:ext cx="304920" cy="2895480"/>
          </a:xfrm>
          <a:prstGeom prst="downArrow">
            <a:avLst>
              <a:gd name="adj1" fmla="val 50000"/>
              <a:gd name="adj2" fmla="val 237397"/>
            </a:avLst>
          </a:pr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C4D-3D2C-4B82-9CCC-6BE92CE08C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43200" y="0"/>
            <a:ext cx="3809880" cy="1143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7.1 DESTI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A LA 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676520"/>
            <a:ext cx="3200400" cy="23619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7.1.1-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CON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1752480"/>
            <a:ext cx="3733560" cy="2286000"/>
          </a:xfrm>
          <a:prstGeom prst="rect">
            <a:avLst/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7.1.2-SIN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C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DI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267080"/>
            <a:ext cx="2362320" cy="1143000"/>
          </a:xfrm>
          <a:prstGeom prst="ellipse">
            <a:avLst/>
          </a:prstGeom>
          <a:solidFill>
            <a:srgbClr val="00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Times New Roman"/>
              </a:rPr>
              <a:t>VN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724280"/>
            <a:ext cx="2438640" cy="1067040"/>
          </a:xfrm>
          <a:prstGeom prst="rect">
            <a:avLst/>
          </a:prstGeom>
          <a:solidFill>
            <a:srgbClr val="99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7.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I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343400"/>
            <a:ext cx="2819520" cy="1143000"/>
          </a:xfrm>
          <a:prstGeom prst="ellipse">
            <a:avLst/>
          </a:prstGeom>
          <a:solidFill>
            <a:srgbClr val="00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Times New Roman"/>
              </a:rPr>
              <a:t>FFD-F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1430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914400"/>
            <a:ext cx="609480" cy="3886200"/>
          </a:xfrm>
          <a:prstGeom prst="downArrow">
            <a:avLst>
              <a:gd name="adj1" fmla="val 50000"/>
              <a:gd name="adj2" fmla="val 159406"/>
            </a:avLst>
          </a:pr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38862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7339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11430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10480" y="2819520"/>
            <a:ext cx="533520" cy="3581280"/>
          </a:xfrm>
          <a:custGeom>
            <a:avLst/>
            <a:gdLst>
              <a:gd name="textAreaLeft" fmla="*/ 71280 w 533520"/>
              <a:gd name="textAreaRight" fmla="*/ 462240 w 53352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5638680"/>
            <a:ext cx="2819520" cy="121932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XCEPTO NO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EDEN SE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TIENEN 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0" idx="4"/>
            <a:endCxn id="219" idx="1"/>
          </p:cNvCxnSpPr>
          <p:nvPr/>
        </p:nvCxnSpPr>
        <p:spPr>
          <a:xfrm flipH="1" rot="16200000">
            <a:off x="3980160" y="3904920"/>
            <a:ext cx="839160" cy="3848760"/>
          </a:xfrm>
          <a:prstGeom prst="bentConnector2">
            <a:avLst/>
          </a:prstGeom>
          <a:ln cap="sq" w="12600">
            <a:solidFill>
              <a:srgbClr val="ff3300"/>
            </a:solidFill>
            <a:miter/>
            <a:tailEnd len="sm" type="stealth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104-2A04-49DA-906A-7B255B7885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457200" y="1295280"/>
          <a:ext cx="8686800" cy="37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68680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3FD-8E45-4568-AE96-31B80445E4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76520" y="457200"/>
            <a:ext cx="6705360" cy="1676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7.2 NO DESTINADOS A LAVENT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SINO A SU UTILIZACIÓN COMO</a:t>
            </a:r>
            <a:r>
              <a:rPr b="1" lang="es-A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FACTOR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666880"/>
            <a:ext cx="3200400" cy="1524240"/>
          </a:xfrm>
          <a:prstGeom prst="rect">
            <a:avLst/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7.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CON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666880"/>
            <a:ext cx="3047760" cy="1524240"/>
          </a:xfrm>
          <a:prstGeom prst="rect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7.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SIN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815000"/>
            <a:ext cx="441972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cc"/>
                </a:solidFill>
                <a:latin typeface="Times New Roman"/>
              </a:rPr>
              <a:t>7.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cc"/>
                </a:solidFill>
                <a:latin typeface="Times New Roman"/>
              </a:rPr>
              <a:t>DEPREC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21337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133720"/>
            <a:ext cx="533160" cy="2743200"/>
          </a:xfrm>
          <a:prstGeom prst="downArrow">
            <a:avLst>
              <a:gd name="adj1" fmla="val 50000"/>
              <a:gd name="adj2" fmla="val 128629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2133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D46-DC1C-4D24-A6BC-4E59851F12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914400"/>
            <a:ext cx="609480" cy="5029200"/>
          </a:xfrm>
          <a:prstGeom prst="rect">
            <a:avLst/>
          </a:prstGeom>
          <a:solidFill>
            <a:srgbClr val="99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1295280"/>
            <a:ext cx="1371600" cy="10670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a VT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952880"/>
            <a:ext cx="1371600" cy="1067040"/>
          </a:xfrm>
          <a:prstGeom prst="rect">
            <a:avLst/>
          </a:prstGeom>
          <a:solidFill>
            <a:srgbClr val="66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ROD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676520"/>
            <a:ext cx="3124080" cy="914400"/>
          </a:xfrm>
          <a:prstGeom prst="flowChartAlternateProcess">
            <a:avLst/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Mercado 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egún es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609480"/>
            <a:ext cx="3200400" cy="838440"/>
          </a:xfrm>
          <a:prstGeom prst="flowChartAlternateProcess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ercado 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ndi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4572000"/>
            <a:ext cx="3505320" cy="914400"/>
          </a:xfrm>
          <a:prstGeom prst="flowChartAlternateProcess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ercado 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ondi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715000"/>
            <a:ext cx="3505320" cy="91440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xiste mercad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 condicio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4864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6019920"/>
            <a:ext cx="533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685800"/>
            <a:ext cx="1752840" cy="609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V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1371600"/>
            <a:ext cx="1447920" cy="533520"/>
          </a:xfrm>
          <a:prstGeom prst="ellipse">
            <a:avLst/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=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24680" y="4724280"/>
            <a:ext cx="1219320" cy="68580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5791320"/>
            <a:ext cx="1219320" cy="6858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914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1600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50292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60199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2971800"/>
            <a:ext cx="3581280" cy="914400"/>
          </a:xfrm>
          <a:prstGeom prst="flowChartAlternateProcess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i no puede sepa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Venta -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447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51814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59436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4876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066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19051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3809880"/>
            <a:ext cx="380880" cy="1371600"/>
          </a:xfrm>
          <a:prstGeom prst="upArrow">
            <a:avLst>
              <a:gd name="adj1" fmla="val 50000"/>
              <a:gd name="adj2" fmla="val 90028"/>
            </a:avLst>
          </a:prstGeom>
          <a:solidFill>
            <a:srgbClr val="0033cc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1981080"/>
            <a:ext cx="533160" cy="106704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2057400"/>
            <a:ext cx="1447920" cy="685800"/>
          </a:xfrm>
          <a:prstGeom prst="ellipse">
            <a:avLst/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FF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2286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424-A5B8-485A-8A00-9D311A7FD5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438280" y="0"/>
            <a:ext cx="5257800" cy="60948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MEDIR ACT.BIOL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5320" y="609480"/>
            <a:ext cx="2819160" cy="1143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1371600"/>
            <a:ext cx="2438280" cy="9144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1295280"/>
            <a:ext cx="2286000" cy="106704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.PR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666880"/>
            <a:ext cx="1905120" cy="9907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.A.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4038480"/>
            <a:ext cx="2210040" cy="1219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5334120"/>
            <a:ext cx="1905120" cy="9903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M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3809880"/>
            <a:ext cx="1295280" cy="53352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800600"/>
            <a:ext cx="1295280" cy="53352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666880"/>
            <a:ext cx="1905120" cy="990720"/>
          </a:xfrm>
          <a:prstGeom prst="ellipse">
            <a:avLst/>
          </a:prstGeom>
          <a:solidFill>
            <a:srgbClr val="ff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.A.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2514600"/>
            <a:ext cx="1447920" cy="53352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MA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3276720"/>
            <a:ext cx="1752840" cy="53316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,MA-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4419720"/>
            <a:ext cx="1905120" cy="990360"/>
          </a:xfrm>
          <a:prstGeom prst="ellipse">
            <a:avLst/>
          </a:prstGeom>
          <a:solidFill>
            <a:srgbClr val="ff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.A.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3809880"/>
            <a:ext cx="1295280" cy="53352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.I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5257800"/>
            <a:ext cx="1371600" cy="53352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4419720"/>
            <a:ext cx="1676520" cy="68580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IPCy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5943600"/>
            <a:ext cx="1295280" cy="53352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59" idx="3"/>
            <a:endCxn id="260" idx="3"/>
          </p:cNvCxnSpPr>
          <p:nvPr/>
        </p:nvCxnSpPr>
        <p:spPr>
          <a:xfrm flipH="1">
            <a:off x="3580560" y="1585440"/>
            <a:ext cx="337320" cy="243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276" name=""/>
          <p:cNvCxnSpPr>
            <a:stCxn id="259" idx="5"/>
            <a:endCxn id="261" idx="1"/>
          </p:cNvCxnSpPr>
          <p:nvPr/>
        </p:nvCxnSpPr>
        <p:spPr>
          <a:xfrm>
            <a:off x="5911920" y="1585440"/>
            <a:ext cx="413280" cy="243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277" name=""/>
          <p:cNvCxnSpPr/>
          <p:nvPr/>
        </p:nvCxnSpPr>
        <p:spPr>
          <a:xfrm flipH="1">
            <a:off x="3200040" y="1905120"/>
            <a:ext cx="381600" cy="1334160"/>
          </a:xfrm>
          <a:prstGeom prst="curvedConnector5">
            <a:avLst>
              <a:gd name="adj1" fmla="val -59962"/>
              <a:gd name="adj2" fmla="val 49986"/>
              <a:gd name="adj3" fmla="val -59962"/>
            </a:avLst>
          </a:prstGeom>
          <a:ln cap="sq" w="1260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278" name=""/>
          <p:cNvCxnSpPr/>
          <p:nvPr/>
        </p:nvCxnSpPr>
        <p:spPr>
          <a:xfrm flipH="1" flipV="1" rot="10800000">
            <a:off x="1065600" y="2057040"/>
            <a:ext cx="150120" cy="2365920"/>
          </a:xfrm>
          <a:prstGeom prst="bentConnector4">
            <a:avLst>
              <a:gd name="adj1" fmla="val -153125"/>
              <a:gd name="adj2" fmla="val 56368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 flipV="1">
            <a:off x="2666880" y="4114440"/>
            <a:ext cx="60984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4572000"/>
            <a:ext cx="2286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60" idx="3"/>
            <a:endCxn id="264" idx="5"/>
          </p:cNvCxnSpPr>
          <p:nvPr/>
        </p:nvCxnSpPr>
        <p:spPr>
          <a:xfrm flipH="1">
            <a:off x="2691720" y="1828440"/>
            <a:ext cx="889560" cy="4352040"/>
          </a:xfrm>
          <a:prstGeom prst="curvedConnector5">
            <a:avLst>
              <a:gd name="adj1" fmla="val -112307"/>
              <a:gd name="adj2" fmla="val 54285"/>
              <a:gd name="adj3" fmla="val -112307"/>
            </a:avLst>
          </a:prstGeom>
          <a:ln cap="sq" w="12600">
            <a:solidFill>
              <a:srgbClr val="000000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282" name=""/>
          <p:cNvCxnSpPr>
            <a:stCxn id="261" idx="1"/>
            <a:endCxn id="267" idx="0"/>
          </p:cNvCxnSpPr>
          <p:nvPr/>
        </p:nvCxnSpPr>
        <p:spPr>
          <a:xfrm flipH="1">
            <a:off x="5905080" y="1828800"/>
            <a:ext cx="419760" cy="838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283" name=""/>
          <p:cNvCxnSpPr>
            <a:stCxn id="261" idx="1"/>
            <a:endCxn id="270" idx="3"/>
          </p:cNvCxnSpPr>
          <p:nvPr/>
        </p:nvCxnSpPr>
        <p:spPr>
          <a:xfrm flipV="1" rot="10800000">
            <a:off x="5231520" y="1827720"/>
            <a:ext cx="1092960" cy="3437640"/>
          </a:xfrm>
          <a:prstGeom prst="curvedConnector5">
            <a:avLst>
              <a:gd name="adj1" fmla="val 146490"/>
              <a:gd name="adj2" fmla="val 55425"/>
              <a:gd name="adj3" fmla="val 146490"/>
            </a:avLst>
          </a:prstGeom>
          <a:ln cap="sq" w="12600">
            <a:solidFill>
              <a:srgbClr val="000000"/>
            </a:solidFill>
            <a:miter/>
            <a:headEnd len="sm" type="stealth" w="sm"/>
            <a:tailEnd len="sm" type="stealth" w="sm"/>
          </a:ln>
        </p:spPr>
      </p:cxnSp>
      <p:sp>
        <p:nvSpPr>
          <p:cNvPr id="284" name=""/>
          <p:cNvSpPr/>
          <p:nvPr/>
        </p:nvSpPr>
        <p:spPr>
          <a:xfrm flipV="1">
            <a:off x="6705720" y="2895480"/>
            <a:ext cx="53316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3200400"/>
            <a:ext cx="30492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5181480"/>
            <a:ext cx="3808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525780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400800" y="42670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80060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D14-AE79-4CC7-9E92-CF4DB4A759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914400" y="1752480"/>
          <a:ext cx="7848720" cy="4140360"/>
        </p:xfrm>
        <a:graphic>
          <a:graphicData uri="http://schemas.openxmlformats.org/drawingml/2006/table">
            <a:tbl>
              <a:tblPr/>
              <a:tblGrid>
                <a:gridCol w="533412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RITERIOS MED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RT</a:t>
                      </a:r>
                      <a:r>
                        <a:rPr b="1" lang="es-AR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7</a:t>
                      </a: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es-AR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CRITERIO BIOLÓG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V.CTTE./F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N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-4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- MERCADO REFEREN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22-7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LUJOS FONDOS DESCO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22.7.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R. BS.SIMILAR ADQ. 3r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22.7.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OSTO DE REPOSIC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-4.3.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OSTO ORIG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-4.3.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Tahoma"/>
              </a:rPr>
              <a:t>ACTIVOS BIOLÓGICOS CRITERIOS MED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D36-4B31-4883-B370-4708CC1CFC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3288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7.3 ACTIVOS BIOLÓGICOS CON PROCESOS PRODUCTIVOS CONTINU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LA PRODUCCIÓN GENERADA POR ACTIVOS BIOLOGICOS PODRA SER DETERMIN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AL M° OCUR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N FORMA MENS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EN UN PERIODO MAYOR SOLO SÍ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IMPOSIBLE O MUY COSTO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SE CONSIDERE NO ORIGINARÁ DIFERENCIAS SUSTAN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7F7-902F-4C74-9559-78888C7D6D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ahoma"/>
              </a:rPr>
              <a:t>PRODUCCIÓN </a:t>
            </a:r>
            <a:br>
              <a:rPr sz="4400"/>
            </a:br>
            <a:r>
              <a:rPr b="1" lang="es-ES" sz="3200" spc="-1" strike="noStrike">
                <a:solidFill>
                  <a:srgbClr val="3333cc"/>
                </a:solidFill>
                <a:latin typeface="Tahoma"/>
              </a:rPr>
              <a:t>GENERADA POR </a:t>
            </a:r>
            <a:br>
              <a:rPr sz="3200"/>
            </a:br>
            <a:r>
              <a:rPr b="1" lang="es-ES" sz="3200" spc="-1" strike="noStrike">
                <a:solidFill>
                  <a:srgbClr val="3333cc"/>
                </a:solidFill>
                <a:latin typeface="Tahoma"/>
              </a:rPr>
              <a:t>ACTIVOS BIOLÓG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PRODUCCIÓN SE GENERA EN FORMA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¿CONTINU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PRODUCCIÓN GENERAD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ahoma"/>
              </a:rPr>
              <a:t>PODRÁ SER DETERMI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 MOMENTO DE SU OCUR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 FORMA MENS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ÍODO MAYOR PREDETERMINADO Y EXPLI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D3C-FA1F-4BCF-A080-01BA93FFB0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ff"/>
                </a:solidFill>
                <a:latin typeface="Tahoma"/>
              </a:rPr>
              <a:t>TRATAMIENTO EN LAS NORMAS CON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RT 6-EN ANEXO (Res 183/79) VNR FUNGIBLE,MERCADI TRANSOARENTE Y REALIZABE SIN ESF. SIG. V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RT 8-NORMA GENÉRICA FLEX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RT 9-EMP. COMERC., INDUST., y DE SERV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RT 10-VN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RT 17-DESTINO DE LOS ACTIVOS (RECONOCE VNR PARA ACTIVOS DESTINADOS A LA VEN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589-7888-4994-A635-5DAFDDF0A1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DO QUE GENERALMENTE ES CONTINU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EG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 MEDICIÓN PERIÓDICA RESULTA MAS REPRESENTATIVA QUE SI SE EFECTÚA AL CIERRE DEL PERÍODO CON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Tahoma"/>
              </a:rPr>
              <a:t>¿PORQUÉ?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¿ESTACIONAL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Tahoma"/>
              </a:rPr>
              <a:t>¿LA PRODUCCIÓN ES IGUAL EN TODAS LAS ESTACINES DEL AÑ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BSTANTE PODRA ADOPTARSE EL CRITERIO DE PRODUCCIÒN ANUA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A6B-41D9-46C5-9CE2-60AF53E1926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3836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OPTADO EL CRITERIO 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R AL MOMENTO DE OCURRENCIA O PERIÓDICAM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MISMA DEBERA SER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¿AJUST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FUNCIÓN DEL CRECIMIENTO O DECRECIMIE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CURRIDO ENTRE LA FECHA DE MEDICIÓN Y EL CIERRE DEL PERÍODO CON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TODOS LOS CASOS EL ACTIVO SUBYACENT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BERÁ SER MEDIDO AL CIERRE DEL PERÍÌODO CONTABLE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¿O ES EL ACTIVO EL QUE DETERMINA LA PRODUCCIÒ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502-DC00-452C-8F51-999A3D31C9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ALQUIER CAMBIO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EN LOS VALORE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 MERCA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IGNADO A LA PRODUCCIÓN SERÁ CONSIDERADO RESULTADO POR TENENCIA SERÁN (VER 8.2.2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ÁN RESULTADOS POR TEN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ÁN RESULTADOS POR LA VALUACIÓN DE BIENES DE CAMBIO A V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BF7-FE30-467F-9A24-C6219BBDC4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Resultados generados por el cambio de valor de los productos agropecuarios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SI SON MEDID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ahoma"/>
              </a:rPr>
              <a:t>con posterioridad a su obtención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A VN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serán </a:t>
            </a:r>
            <a:r>
              <a:rPr b="1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EXPUESTOS</a:t>
            </a:r>
            <a:r>
              <a:rPr b="0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como </a:t>
            </a:r>
            <a:r>
              <a:rPr b="1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resultado por valuación de bienes de cambio</a:t>
            </a:r>
            <a:r>
              <a:rPr b="0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</a:t>
            </a:r>
            <a:r>
              <a:rPr b="1" lang="es-AR" sz="2400" spc="-1" strike="noStrike" u="sng">
                <a:solidFill>
                  <a:srgbClr val="ff0066"/>
                </a:solidFill>
                <a:uFillTx/>
                <a:latin typeface="Tahoma"/>
                <a:ea typeface="Times New Roman"/>
              </a:rPr>
              <a:t>a V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COSTO RE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rán expuestos como 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POR TEN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695-5565-4F62-B514-5F68485FC1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114800" y="380880"/>
            <a:ext cx="3809880" cy="1371600"/>
          </a:xfrm>
          <a:prstGeom prst="rect">
            <a:avLst/>
          </a:prstGeom>
          <a:solidFill>
            <a:srgbClr val="ff00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2133720"/>
            <a:ext cx="3276720" cy="1143000"/>
          </a:xfrm>
          <a:prstGeom prst="plus">
            <a:avLst>
              <a:gd name="adj" fmla="val 25000"/>
            </a:avLst>
          </a:prstGeom>
          <a:solidFill>
            <a:srgbClr val="ff99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OCUR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3657600"/>
            <a:ext cx="4267440" cy="121932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ERIÓ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5181480"/>
            <a:ext cx="5029200" cy="1219320"/>
          </a:xfrm>
          <a:prstGeom prst="plus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1676520"/>
            <a:ext cx="1905120" cy="1523880"/>
          </a:xfrm>
          <a:prstGeom prst="ellipse">
            <a:avLst/>
          </a:prstGeom>
          <a:solidFill>
            <a:srgbClr val="ccff33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DEV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0"/>
            <a:ext cx="1447920" cy="144792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0"/>
            <a:ext cx="1371600" cy="762120"/>
          </a:xfrm>
          <a:prstGeom prst="leftArrow">
            <a:avLst>
              <a:gd name="adj1" fmla="val 50000"/>
              <a:gd name="adj2" fmla="val 44993"/>
            </a:avLst>
          </a:prstGeom>
          <a:solidFill>
            <a:srgbClr val="ff00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1371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339933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20574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99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352680"/>
            <a:ext cx="2286000" cy="1143000"/>
          </a:xfrm>
          <a:prstGeom prst="lightningBolt">
            <a:avLst/>
          </a:prstGeom>
          <a:solidFill>
            <a:srgbClr val="cc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3048120"/>
            <a:ext cx="2666880" cy="2743200"/>
          </a:xfrm>
          <a:prstGeom prst="flowChartMagneticTape">
            <a:avLst/>
          </a:prstGeom>
          <a:solidFill>
            <a:srgbClr val="ffff99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Ve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Oto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ima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5181480"/>
            <a:ext cx="2286000" cy="1143000"/>
          </a:xfrm>
          <a:prstGeom prst="lightningBolt">
            <a:avLst/>
          </a:prstGeom>
          <a:solidFill>
            <a:srgbClr val="cc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AF6-BD09-40AE-9C69-5157428405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333399"/>
                </a:solidFill>
                <a:latin typeface="Tahoma"/>
              </a:rPr>
              <a:t>EXPOSICIÓ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339933"/>
                </a:solidFill>
                <a:latin typeface="Tahoma"/>
              </a:rPr>
              <a:t>ACTIVOS BIOLÓGICOS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INCLUIDOS OBLIGATORI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Tahoma"/>
              </a:rPr>
              <a:t>BIEN DE CAMBI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Tahom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Tahoma"/>
              </a:rPr>
              <a:t>BIEN DE US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B5F-E320-4049-81B6-332AD642CF3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Tahoma"/>
                <a:ea typeface="Times New Roman"/>
              </a:rPr>
              <a:t>8.1 EXPOSICIÓN </a:t>
            </a:r>
            <a:br>
              <a:rPr sz="3600"/>
            </a:br>
            <a:r>
              <a:rPr b="1" lang="es-MX" sz="3600" spc="-1" strike="noStrike">
                <a:solidFill>
                  <a:srgbClr val="0000ff"/>
                </a:solidFill>
                <a:latin typeface="Tahoma"/>
                <a:ea typeface="Times New Roman"/>
              </a:rPr>
              <a:t>EN ESTADO DE SITUACIÓN PATRIMON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ENES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ENE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LICAR POR N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 USO 7.2.2 PORQUE NO 7.2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O COSTO DE REPOS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7.1.3. NO USO CONDICIONES M.AC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009-37D8-41CF-80D6-4DCFA92D0E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Tahoma"/>
                <a:ea typeface="Times New Roman"/>
              </a:rPr>
              <a:t>8.2 EXPOSI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.2 EXPOSICIÓN DE INGRESOS POR 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2.1 RECONOCIMIENTO INGRESOS POR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 el incremento de valor por cambios cuantitativos o cualitativos –volumen físico y/o calidad- en los bienes con crecimiento vegetativo, como consecuencia de sus procesos biológ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DAMENTO= HECHO FÍSICO/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C06-82BB-4929-8551-952F7576D0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8. EXPOS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0"/>
            <a:ext cx="6782040" cy="281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8. EXPOSI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2286000"/>
            <a:ext cx="4114800" cy="2209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 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ATR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1600200"/>
            <a:ext cx="3352680" cy="2057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2 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5943600"/>
            <a:ext cx="838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4267080"/>
            <a:ext cx="83844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5105520"/>
            <a:ext cx="838440" cy="761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715000"/>
            <a:ext cx="1143000" cy="685800"/>
          </a:xfrm>
          <a:prstGeom prst="flowChartDisplay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191120"/>
            <a:ext cx="1143000" cy="761760"/>
          </a:xfrm>
          <a:prstGeom prst="flowChartDisplay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5105520"/>
            <a:ext cx="1981080" cy="685800"/>
          </a:xfrm>
          <a:custGeom>
            <a:avLst/>
            <a:gdLst>
              <a:gd name="textAreaLeft" fmla="*/ 80640 w 1981080"/>
              <a:gd name="textAreaRight" fmla="*/ 1900440 w 1981080"/>
              <a:gd name="textAreaTop" fmla="*/ 80640 h 685800"/>
              <a:gd name="textAreaBottom" fmla="*/ 605160 h 685800"/>
            </a:gdLst>
            <a:ahLst/>
            <a:rect l="textAreaLeft" t="textAreaTop" r="textAreaRight" b="textAreaBottom"/>
            <a:pathLst>
              <a:path w="623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8775" y="21600"/>
                </a:lnTo>
                <a:arcTo wR="3600" hR="3600" stAng="10800000" swAng="5400000"/>
                <a:lnTo>
                  <a:pt x="62375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al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419720"/>
            <a:ext cx="1447920" cy="533160"/>
          </a:xfrm>
          <a:custGeom>
            <a:avLst/>
            <a:gdLst>
              <a:gd name="textAreaLeft" fmla="*/ 62640 w 1447920"/>
              <a:gd name="textAreaRight" fmla="*/ 1385280 w 1447920"/>
              <a:gd name="textAreaTop" fmla="*/ 62640 h 533160"/>
              <a:gd name="textAreaBottom" fmla="*/ 470520 h 533160"/>
            </a:gdLst>
            <a:ahLst/>
            <a:rect l="textAreaLeft" t="textAreaTop" r="textAreaRight" b="textAreaBottom"/>
            <a:pathLst>
              <a:path w="586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035" y="21600"/>
                </a:lnTo>
                <a:arcTo wR="3600" hR="3600" stAng="10800000" swAng="5400000"/>
                <a:lnTo>
                  <a:pt x="58635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5943600"/>
            <a:ext cx="1600200" cy="914400"/>
          </a:xfrm>
          <a:custGeom>
            <a:avLst/>
            <a:gdLst>
              <a:gd name="textAreaLeft" fmla="*/ 107640 w 1600200"/>
              <a:gd name="textAreaRight" fmla="*/ 1492560 w 16002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377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94" y="21600"/>
                </a:lnTo>
                <a:arcTo wR="3600" hR="3600" stAng="10800000" swAng="5400000"/>
                <a:lnTo>
                  <a:pt x="37794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Natu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ral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267080"/>
            <a:ext cx="762120" cy="83844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5638680"/>
            <a:ext cx="838080" cy="8146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657600"/>
            <a:ext cx="2819520" cy="1981080"/>
          </a:xfrm>
          <a:prstGeom prst="downArrowCallout">
            <a:avLst>
              <a:gd name="adj1" fmla="val 35584"/>
              <a:gd name="adj2" fmla="val 35581"/>
              <a:gd name="adj3" fmla="val 16667"/>
              <a:gd name="adj4" fmla="val 6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NO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3581280"/>
            <a:ext cx="533160" cy="1981440"/>
          </a:xfrm>
          <a:custGeom>
            <a:avLst/>
            <a:gdLst>
              <a:gd name="textAreaLeft" fmla="*/ 71280 w 533160"/>
              <a:gd name="textAreaRight" fmla="*/ 461880 w 53316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5638680"/>
            <a:ext cx="3733560" cy="121932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UBICACIÒ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PRODUCCIO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4876920"/>
            <a:ext cx="762120" cy="1143000"/>
          </a:xfrm>
          <a:custGeom>
            <a:avLst/>
            <a:gdLst>
              <a:gd name="textAreaLeft" fmla="*/ 254160 w 762120"/>
              <a:gd name="textAreaRight" fmla="*/ 653040 w 762120"/>
              <a:gd name="textAreaTop" fmla="*/ 658440 h 1143000"/>
              <a:gd name="textAreaBottom" fmla="*/ 97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58200" y="1219320"/>
            <a:ext cx="685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590920"/>
            <a:ext cx="1219320" cy="19810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51055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510552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2DE-3617-45AD-89C2-47322E6837E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8.2.1. RECONOCIMIENTO INGRESO POR P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MOMENTO DE OBTEN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UANDO SE LOGRA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j. SOJA, MAÍZ, TRIG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PROCESOS CONTINU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L MOMENTO DE CIERRE DEL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j. RODEOS GANADE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PROCESOS PROLON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L MOMENTO DE CIERRE DEL PERÍODO SI EL CRITERIO DE MEDICIÓN PERMITE MEDIR EL CRECIMIENTO VEGET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735-3A5C-4EA4-9369-CA58A30C1EA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8160" y="845640"/>
            <a:ext cx="7247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0000"/>
                </a:solidFill>
                <a:latin typeface="Times New Roman"/>
              </a:rPr>
              <a:t>ANTECEDENT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INF. 1 y 2 CAPEA (12/1991-4/1992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INF. 19 FACPCE (199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NIC 41 (12/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RT 22 (3/2004:vigencia 1/1/2005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ADOPCIÓN CPCE CABA (MD 1/200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VIGENCIA: EJ. INICIO 1/7/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AA7-9680-4B39-A0E5-9837FF2E7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Tahoma"/>
              </a:rPr>
              <a:t>8.2.2 UBICACIÓN INGRESOS POR PRODUCC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EL RESULTADO NETO SE INCLUIRÁ EN EL CUERPO DEL ESTADO EN UN RUBRO ESPECÍFICO ENT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COSTO Y BS. Y SERV. PRES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RDO. POR VALUAR BC. A V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EL RESULTADO ESTA COM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VALOR PS. AGROP. OBTEN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VALORIZACIÓN A.B. DURANTE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DESVALORIZACIÓN A.B. DURANTE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COSTOS TRANSFORMACIÓN BI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E40-39E5-4302-A5BF-8DA22C973DC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802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Tahoma"/>
              </a:rPr>
              <a:t>8.2.2. Cont. UBICACIÓN  INGRESOS P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300780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TERMINA QUE EL INGRESO POR PRODUCCIÓN ES LA PRINCIPAL FUENTE  DEL RESULTADO EN ESTE TIPO DE ENT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ahoma"/>
              </a:rPr>
              <a:t>NO OBS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556-2017-4208-889B-4678267F27E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Tahoma"/>
              </a:rPr>
              <a:t>8.2.2 UBICACIÓN </a:t>
            </a:r>
            <a:br>
              <a:rPr sz="3600"/>
            </a:br>
            <a:r>
              <a:rPr b="1" lang="es-MX" sz="3600" spc="-1" strike="noStrike">
                <a:solidFill>
                  <a:srgbClr val="ff3300"/>
                </a:solidFill>
                <a:latin typeface="Tahoma"/>
              </a:rPr>
              <a:t>INGRESOS POR PRODUCC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EN LAS EMPRESAS CON PRINCIPAL ACTIVADAD AGROPECUARIAS ENCABEZARAN EL CUADRO DE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EN LAS EMPRESAS OBLIGADAS A COMPLIR CON FORMATOS ESPECÍFICOS (COTIZAN EN BOLSAS) FIGURAN EN UNA LINEA ENTRE EL COSTO DE BIENES VENDIDOS Y SERVICIOS PRESTADO Y EL RSULTADO POR VALUACIÓN DE BIENES DE CAMBIO A VALOR NETO DE RE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376-FE5A-4211-8A33-5744634B1FA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cc"/>
                </a:solidFill>
                <a:latin typeface="Tahoma"/>
              </a:rPr>
              <a:t>RESULTADOS POR TEN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LOS RESULTADOS POR TENENCIAS SE DIVIDIRAN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ORIGINADOS COMO CONSECUENCIA DE VALUAR A VALOR NETO DE RE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SE UBICAN A CONTINUACIÓN DEL RESULTADO BRU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ORIGINADOS COMO CONSECUENCIA DE VALUAR COSTO DE REPOS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SE UBICAN  COMO RESULTADOS DE TEN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182-73F2-431A-A977-1275B8DA1CB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438280" y="685800"/>
            <a:ext cx="5639040" cy="220968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IV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276720"/>
            <a:ext cx="3276720" cy="3124080"/>
          </a:xfrm>
          <a:prstGeom prst="rect">
            <a:avLst/>
          </a:prstGeom>
          <a:solidFill>
            <a:srgbClr val="ccff33"/>
          </a:solidFill>
          <a:ln cap="sq" w="126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(a partir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 su siemb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lantación, etc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.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5181480"/>
            <a:ext cx="3048120" cy="1143000"/>
          </a:xfrm>
          <a:prstGeom prst="rect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=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1752480"/>
            <a:ext cx="1143000" cy="19814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3352680"/>
            <a:ext cx="3048120" cy="175284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-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DU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BCA-31B2-45EC-9683-1B30653B98A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838080" y="2743200"/>
            <a:ext cx="137160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3276720"/>
            <a:ext cx="137160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343400"/>
            <a:ext cx="13716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3809880"/>
            <a:ext cx="137160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M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2286000"/>
            <a:ext cx="19814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3886200"/>
            <a:ext cx="198144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8680" y="3048120"/>
            <a:ext cx="19814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C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1600200"/>
            <a:ext cx="19814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380880"/>
            <a:ext cx="19814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1905120"/>
            <a:ext cx="137160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O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2438280"/>
            <a:ext cx="2666880" cy="1981440"/>
          </a:xfrm>
          <a:prstGeom prst="rightArrow">
            <a:avLst>
              <a:gd name="adj1" fmla="val 50000"/>
              <a:gd name="adj2" fmla="val 33648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I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1447920"/>
            <a:ext cx="838080" cy="38098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1447920"/>
            <a:ext cx="129564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11430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SP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0120" y="380880"/>
            <a:ext cx="1523880" cy="4876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P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R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O 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D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U 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C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T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O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380880"/>
            <a:ext cx="26668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64D-289B-471A-9957-91A1722136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438280" y="685800"/>
            <a:ext cx="5639040" cy="220968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IVO BI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276720"/>
            <a:ext cx="3276720" cy="3124080"/>
          </a:xfrm>
          <a:prstGeom prst="rect">
            <a:avLst/>
          </a:prstGeom>
          <a:solidFill>
            <a:srgbClr val="ccff33"/>
          </a:solidFill>
          <a:ln cap="sq" w="126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1752480"/>
            <a:ext cx="1143000" cy="19814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257800"/>
            <a:ext cx="2971800" cy="1143000"/>
          </a:xfrm>
          <a:prstGeom prst="ellipse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TIN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124080"/>
            <a:ext cx="2971800" cy="1143000"/>
          </a:xfrm>
          <a:prstGeom prst="ellipse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BTEN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4267080"/>
            <a:ext cx="2971800" cy="1143000"/>
          </a:xfrm>
          <a:prstGeom prst="ellipse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VEN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3352680"/>
            <a:ext cx="1600200" cy="53352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4267080"/>
            <a:ext cx="1600200" cy="53352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5638680"/>
            <a:ext cx="1600200" cy="53352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F29-62C8-4DBC-89D8-8FF01E4C593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380880"/>
            <a:ext cx="5334120" cy="83844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CIÓN OBTEN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2819520"/>
            <a:ext cx="2971800" cy="11430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°OB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4495680"/>
            <a:ext cx="3581280" cy="15242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° UTI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O V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3962520"/>
            <a:ext cx="4572000" cy="2286000"/>
          </a:xfrm>
          <a:prstGeom prst="flowChartManualOperation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TEN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INANC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O VNR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(RT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2438280"/>
            <a:ext cx="28195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ccff33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11430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33920" y="1600200"/>
            <a:ext cx="1981080" cy="609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2895480"/>
            <a:ext cx="1676160" cy="638280"/>
          </a:xfrm>
          <a:prstGeom prst="leftArrow">
            <a:avLst>
              <a:gd name="adj1" fmla="val 50000"/>
              <a:gd name="adj2" fmla="val 65651"/>
            </a:avLst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50292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38862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1600200"/>
            <a:ext cx="1218960" cy="11430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248687"/>
                <a:lnTo>
                  <a:pt x="1081" y="6090"/>
                </a:lnTo>
                <a:arcTo wR="10800" hR="10800" stAng="-9248687" swAng="924868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A0E-B854-4A95-A95B-79B53DDFE5F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438280" y="685800"/>
            <a:ext cx="5639040" cy="220968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IVO BI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DEVE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971800"/>
            <a:ext cx="2895480" cy="1447920"/>
          </a:xfrm>
          <a:prstGeom prst="ellipse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M°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876920"/>
            <a:ext cx="2971800" cy="129528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° NU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8680" y="5105520"/>
            <a:ext cx="2743200" cy="914400"/>
          </a:xfrm>
          <a:prstGeom prst="flowChartManualOperation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EN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1447920"/>
            <a:ext cx="2057400" cy="213336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354040"/>
                <a:lnTo>
                  <a:pt x="7686" y="19823"/>
                </a:lnTo>
                <a:lnTo>
                  <a:pt x="21600" y="17280"/>
                </a:lnTo>
                <a:lnTo>
                  <a:pt x="7686" y="11183"/>
                </a:lnTo>
                <a:lnTo>
                  <a:pt x="7686" y="13343"/>
                </a:lnTo>
                <a:arcTo wR="21600" hR="7560" stAng="9445960" swAng="99660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3962520"/>
            <a:ext cx="990360" cy="1218960"/>
          </a:xfrm>
          <a:prstGeom prst="downArrow">
            <a:avLst>
              <a:gd name="adj1" fmla="val 50000"/>
              <a:gd name="adj2" fmla="val 307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3124080"/>
            <a:ext cx="4343400" cy="1524240"/>
          </a:xfrm>
          <a:prstGeom prst="flowChartManualOperation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Í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743200" y="335232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4572000"/>
            <a:ext cx="3048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7DE-E4A2-4A62-825E-7A3A97CF8E7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676520" y="380880"/>
            <a:ext cx="6400800" cy="137160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CÁLCULO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TIVO BI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066680" y="2209680"/>
          <a:ext cx="4876920" cy="3543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 u="sng">
                          <a:solidFill>
                            <a:srgbClr val="ff0066"/>
                          </a:solidFill>
                          <a:uFillTx/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 u="sng">
                          <a:solidFill>
                            <a:srgbClr val="ff0066"/>
                          </a:solidFill>
                          <a:uFillTx/>
                          <a:latin typeface="Tahoma"/>
                        </a:rPr>
                        <a:t>2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 u="sng">
                          <a:solidFill>
                            <a:srgbClr val="ff0066"/>
                          </a:solidFill>
                          <a:uFillTx/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5943600" y="30481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37339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41911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867280" y="46483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56386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6095880"/>
            <a:ext cx="3886200" cy="762120"/>
          </a:xfrm>
          <a:prstGeom prst="rightArrow">
            <a:avLst>
              <a:gd name="adj1" fmla="val 50000"/>
              <a:gd name="adj2" fmla="val 12748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PRODUCCIÓN A V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62920" y="2743200"/>
            <a:ext cx="198108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imes New Roman"/>
              </a:rPr>
              <a:t>TEN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imes New Roman"/>
              </a:rPr>
              <a:t>X V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4648320"/>
            <a:ext cx="1600200" cy="99036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POR = M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C16-B54A-4E95-ADD0-24CDABE82E7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66"/>
                </a:solidFill>
                <a:latin typeface="Tahoma"/>
              </a:rPr>
              <a:t>ACTIVIDAD AGROPECU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¿PORQUÉ DE UNA RT ESPECÍF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¿QUÉ ESPECIFICIDAD PRESENTA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¿CUÁLES SON LAS DIFERENCIA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6F1-4955-4CBD-AFD8-8A37A12EA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438280" y="685800"/>
            <a:ext cx="5639040" cy="220968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SUMOS DEL 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3276720"/>
            <a:ext cx="3276720" cy="3124080"/>
          </a:xfrm>
          <a:prstGeom prst="rect">
            <a:avLst/>
          </a:prstGeom>
          <a:solidFill>
            <a:srgbClr val="ccff33"/>
          </a:solidFill>
          <a:ln cap="sq" w="126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1752480"/>
            <a:ext cx="1143000" cy="19814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3048120"/>
            <a:ext cx="3200400" cy="1295280"/>
          </a:xfrm>
          <a:prstGeom prst="ellipse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M°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4724280"/>
            <a:ext cx="2971800" cy="129564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M°OB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1148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05520" y="3505320"/>
            <a:ext cx="4038480" cy="2819160"/>
          </a:xfrm>
          <a:prstGeom prst="flowChartManualOperation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EN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 V.CT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657600"/>
            <a:ext cx="60948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24280" y="4572000"/>
            <a:ext cx="53352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457200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2743200"/>
            <a:ext cx="2971800" cy="1143000"/>
          </a:xfrm>
          <a:prstGeom prst="ellipse">
            <a:avLst/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BTEN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1E9-5050-46C3-A663-6A9C9B3EA7B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21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Cualquier duda o pregunta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21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A continuación o 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21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bpaille</a:t>
            </a:r>
            <a:r>
              <a:rPr b="0" lang="es-ES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infovia.com.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>
              <a:lnSpc>
                <a:spcPct val="2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ahoma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18B-623B-41EC-9BAC-3626BD0E33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116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ff"/>
                </a:solidFill>
                <a:latin typeface="Tahoma"/>
              </a:rPr>
              <a:t>FACTORES DIFERENCIA EN LA PRODUCCIÓN AGROPECU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2185560"/>
            <a:ext cx="769752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SUELO Y CL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ahoma"/>
              </a:rPr>
              <a:t>ACTIVOS BIOLÓGICOS QUE IMPLICA </a:t>
            </a:r>
            <a:r>
              <a:rPr b="1" lang="es-AR" sz="4000" spc="-1" strike="noStrike">
                <a:solidFill>
                  <a:srgbClr val="33cc33"/>
                </a:solidFill>
                <a:latin typeface="Tahoma"/>
              </a:rPr>
              <a:t>CRECIMIENTO AUTOGENERAD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cc33"/>
                </a:solidFill>
                <a:uFillTx/>
                <a:latin typeface="Comic Sans MS"/>
              </a:rPr>
              <a:t>   </a:t>
            </a:r>
            <a:r>
              <a:rPr b="1" lang="es-AR" sz="3600" spc="-1" strike="noStrike" u="sng">
                <a:solidFill>
                  <a:srgbClr val="33cc33"/>
                </a:solidFill>
                <a:uFillTx/>
                <a:latin typeface="Comic Sans MS"/>
              </a:rPr>
              <a:t>PRODUCCIÓN AGROPECUA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FDA-7DB3-4234-A8EE-5FBB0227B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VOS AGROPECU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CARACTERÍSTICAS DIFERENCIA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ORIGEN BIOLÓG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AUTOGENERAN VAL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CICLOS PRODU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HOMOGENEID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COMERCIALIZABLES SIN ESFUERZOS SIGNIFICA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MERCADOS AMPLIO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DA5-D653-4609-B85B-AD2BFE464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  <a:ea typeface="Arial"/>
              </a:rPr>
              <a:t>RT 16 - 4.2.2. </a:t>
            </a:r>
            <a:br>
              <a:rPr sz="44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Ingresos, gastos, ganancias y pérdidas.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2º párraf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os ingresos resultan generalmente de ventas de bienes y servicios pero también pueden resultar de actividades internas, </a:t>
            </a:r>
            <a:r>
              <a:rPr b="1" lang="es-ES_tradnl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como el crecimiento natural o inducido de determinados activos en una explotación agropecuari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o la extracción de petróleo o gas en esta indust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B4A-F613-4F9E-973B-48DDD540B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21:37:54Z</dcterms:created>
  <dc:creator>E.Paillet</dc:creator>
  <dc:description/>
  <dc:language>en-US</dc:language>
  <cp:lastModifiedBy>C.P.C.E.C.A.B.A.</cp:lastModifiedBy>
  <dcterms:modified xsi:type="dcterms:W3CDTF">2005-04-11T16:51:05Z</dcterms:modified>
  <cp:revision>71</cp:revision>
  <dc:subject/>
  <dc:title>6. Modelo contable </dc:title>
</cp:coreProperties>
</file>