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ED7-B796-4854-BA50-6707FC0F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2DF-C8A9-4B17-9493-368B32E8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8DE-C655-4698-AD87-1553F072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E8EC-B24D-44D2-8C4B-0636707F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9EAB-14B9-42BD-BB80-208C3F0B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FD02-7740-4697-AC92-643B527E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1F1C-05B7-4A27-AEE5-C296A6F9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85C4-76C3-4FE8-96B7-D7035A97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1C43-1627-4C5F-8790-A96A960C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620E-30DF-4942-B0F0-15D9E870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4D97-F597-4D55-B7BE-CB447CC5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EE2-B9C0-44CE-B9D8-536AFFEC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0456-DADB-494E-B297-B2BF66AD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BC8E-9AA8-40DB-B53D-66C9ACBC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970F-7B36-4C35-8E69-3EC86462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3784-B82F-4129-B021-9291B981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0D9E-953F-4947-A348-F50DEB53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E2B-A40D-4C0B-B5EE-F8A183F2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520-15F7-406E-B25C-C07FC1EC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EDE-FB19-4882-9344-BAB392A4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693-F8DC-4F0A-AA2E-572445C1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A83-2F02-4BF0-A8E0-5B310A0A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814-BB9A-4C25-BE79-AEA8E13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C9E-83F6-4C14-90C6-104732C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4C6C-D755-4C62-A1D0-F29570CC26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7A8A-EEF4-4D8C-989D-98F9ECDFC1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Libros Indispensab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6520" y="2361960"/>
            <a:ext cx="57913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imes New Roman"/>
              </a:rPr>
              <a:t>Asociaciones Civi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Inven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Caj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imes New Roman"/>
              </a:rPr>
              <a:t>Fund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Act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Inventario y Bala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Caj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Libros Indispensab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imes New Roman"/>
              </a:rPr>
              <a:t>Cooperativ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i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Inventario y Bala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Informes de Auditorí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imes New Roman"/>
              </a:rPr>
              <a:t>Mutu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i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Inventario y Bala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Caj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Registros Tributarios vs. </a:t>
            </a:r>
            <a:br>
              <a:rPr sz="4400"/>
            </a:b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Registros Contab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09320" y="3123720"/>
            <a:ext cx="62485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Resolución 1361 AFI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Resolución 1415 AFI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onclus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Formalidad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57400" y="32000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ódigo de Comercio (arts. 43/67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Art. 61 Ley de Sociedades Comerci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Legal forma vs. sujeto a derech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Medios de almacenamient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0" y="3048120"/>
            <a:ext cx="44956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Libr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Hojas móvi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cos compac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iscos ópt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Requisitos del Medios de almacenamient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120" y="3048120"/>
            <a:ext cx="63248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Norma IRAM/ISO 1779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Confidencial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Integr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Disponibil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NCLU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Uso eficiente de las nuevas tecnologí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Los registros deben seguir a la tecnologí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umplimiento de las formalida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Evitar ingresar más de una vez el dato al sistem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ISTEMA DE REGISTRO </a:t>
            </a:r>
            <a:r>
              <a:rPr b="1" lang="es-ES" sz="3200" spc="-1" strike="noStrike">
                <a:solidFill>
                  <a:srgbClr val="ffffcc"/>
                </a:solidFill>
                <a:latin typeface="Times New Roman"/>
              </a:rPr>
              <a:t>CONFI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5760" y="-6635160"/>
            <a:ext cx="533160" cy="88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320" y="327636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Gracias por su atención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i lo desean pueden aplaudir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HACIA DONDE VAMOS…</a:t>
            </a:r>
            <a:br>
              <a:rPr sz="4400"/>
            </a:br>
            <a:br>
              <a:rPr sz="4400"/>
            </a:b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   REGISTROS CONTAB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058400" y="6019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TEMARI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istema de Registro Cont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Libros indispensab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Registros tributarios vs. Registros contab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Formalida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Medios de almacena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Sistema de Registro Con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Es aquel conjunto de elementos interrelacionados destinados al registro de las operaciones y acontecimientos económicos-financieros, su control, guarda, análisis y exposi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Sistema de Registro Contable</a:t>
            </a:r>
            <a:br>
              <a:rPr sz="4400"/>
            </a:b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Requisi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ebe tener mecanismos tendientes a asegurar su inalterabilidad y su protección para evitar su deterioro, su falta total o parcial o su imposibilidad de acceso.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Sistema de Registro Contable</a:t>
            </a:r>
            <a:br>
              <a:rPr sz="4400"/>
            </a:b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Requisi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ebe anotarse, como mínimo, las operaciones y acontecimientos que tengan efectos económicos o financieros, incluyendo las variaciones cualitativas y cuantitativas que afecten los rubros patrimoniales y de resultados.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El Sistema de Registro Contable</a:t>
            </a:r>
            <a:br>
              <a:rPr sz="4400"/>
            </a:b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debe permiti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Determinar la evolución y situación del patrimonio, incluyendo los resultados obtenid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La individualización de los registros y datos en que se basan los informes contables y su correlación con los documentos o comprobantes sustentatori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El Sistema de Registro Contable</a:t>
            </a:r>
            <a:br>
              <a:rPr sz="4400"/>
            </a:b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debe permiti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Su impresión en hojas de papel o similar. Legibles, de la información en él registrad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La localización para su consulta o fiscalización de los documentos o comprobantes sustentarios, que deberán sder archivados en forma metódica.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Libros indispensab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33720" y="289548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Código de Comerc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Ley de Sociedades Comerci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Leyes Específicas (Seguros, Bancos, AFJP, ART, etc.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¿Y EL LIBRO MAYO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02:11:20Z</dcterms:created>
  <dc:creator>POZZI Angel</dc:creator>
  <dc:description/>
  <dc:language>en-US</dc:language>
  <cp:lastModifiedBy>POZZI Angel</cp:lastModifiedBy>
  <dcterms:modified xsi:type="dcterms:W3CDTF">2005-04-12T04:04:59Z</dcterms:modified>
  <cp:revision>7</cp:revision>
  <dc:subject/>
  <dc:title>HACIA DONDE VAMOS…     REGISTROS CONTAB LES</dc:title>
</cp:coreProperties>
</file>