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3FD56-B90D-446A-8157-AA44F35C8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587D1-2304-425E-B885-6D5F67BF7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35DCF-9314-4CD3-B0C2-BD5C2B44B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EAEAB-C564-4812-9FD9-EE7ED6FAE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6BC49-5664-4941-AE13-FB5B3DB90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004AE-9A66-47BA-BE0B-6D784CB31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93F75-5830-4493-A7FA-9813AB132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A458E-E07C-42D3-9A22-7D1623E38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DD313-00A2-4653-BDDC-40DB255BA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4CAD8-DBB6-4F48-A347-A1966FE98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C225E-9ABF-4A7F-BCCE-19DF71C2C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39D5B-F5F7-41F5-8C1D-8572FF6CC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548BD-107D-435B-A23B-75B4D2FFF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2B314-F2E2-4C0B-BA48-136D4A9BF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6C967-DAE0-4743-980F-B2ED45F9C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55B4E-D454-48D3-B617-EB3C2B39F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27545-3776-43CD-A54D-15C3DC980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83F4C-D541-4662-A27B-C3AD6A862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D2D09-53F5-4665-9BE7-47F23F30E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26D94-8493-443A-B73B-8ADC293D3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41995-C496-4A99-9ED1-34AB53F0F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6CBF9-A463-4593-B8AD-9917BDD37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CCD2F-2AEE-42A0-9229-66D49BC31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2595E-5EA3-4309-A1FE-A8BAE58DB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8BCF0-FFA6-482E-9F70-1D5032D149E4}" type="slidenum">
              <a:rPr b="0" lang="es-E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6F8DE-CCD3-4266-B2F9-F9F67FCFC2D9}" type="slidenum">
              <a:rPr b="0" lang="es-E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9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10.wmf"/><Relationship Id="rId7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43000" y="990360"/>
            <a:ext cx="73915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333399"/>
                </a:solidFill>
                <a:latin typeface="Tahoma"/>
              </a:rPr>
              <a:t>Liquidación del Impuest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1069920" y="1906560"/>
          <a:ext cx="6751800" cy="3909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9920" y="1906560"/>
                    <a:ext cx="6751800" cy="390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914040"/>
            <a:ext cx="73915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333399"/>
                </a:solidFill>
                <a:latin typeface="Tahoma"/>
              </a:rPr>
              <a:t>Liquidación del Impuest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990720" y="1905120"/>
          <a:ext cx="8153280" cy="4572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905120"/>
                    <a:ext cx="815328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95280" y="914040"/>
            <a:ext cx="73915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333399"/>
                </a:solidFill>
                <a:latin typeface="Tahoma"/>
              </a:rPr>
              <a:t>Liquidación del Impuest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1440000" y="2295360"/>
          <a:ext cx="5622840" cy="305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0000" y="2295360"/>
                    <a:ext cx="5622840" cy="305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333399"/>
                </a:solidFill>
                <a:latin typeface="Tahoma"/>
              </a:rPr>
              <a:t>Liquidación del Impuest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1303200" y="1828800"/>
          <a:ext cx="6653520" cy="4824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03200" y="1828800"/>
                    <a:ext cx="6653520" cy="482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95280" y="838080"/>
            <a:ext cx="739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333399"/>
                </a:solidFill>
                <a:latin typeface="Tahoma"/>
              </a:rPr>
              <a:t>Justificaciones Patrimonial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1371600" y="2057400"/>
          <a:ext cx="5925960" cy="362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2057400"/>
                    <a:ext cx="5925960" cy="362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95280" y="838080"/>
            <a:ext cx="739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333399"/>
                </a:solidFill>
                <a:latin typeface="Tahoma"/>
              </a:rPr>
              <a:t>Justificaciones Patrimonial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1225440" y="1984320"/>
          <a:ext cx="6497640" cy="4357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5440" y="1984320"/>
                    <a:ext cx="6497640" cy="43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95280" y="838080"/>
            <a:ext cx="739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333399"/>
                </a:solidFill>
                <a:latin typeface="Tahoma"/>
              </a:rPr>
              <a:t>Situación Patrimon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1219320" y="1828800"/>
          <a:ext cx="6476760" cy="4724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828800"/>
                    <a:ext cx="647676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39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333399"/>
                </a:solidFill>
                <a:latin typeface="Tahoma"/>
              </a:rPr>
              <a:t>Situación Patrimon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"/>
          <p:cNvSpPr/>
          <p:nvPr/>
        </p:nvSpPr>
        <p:spPr>
          <a:xfrm>
            <a:off x="4419720" y="655308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Times New Roman"/>
              </a:rPr>
              <a:t>Página 2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476280" y="1371600"/>
          <a:ext cx="6267600" cy="6534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6280" y="1371600"/>
                    <a:ext cx="6267600" cy="653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3" name=""/>
          <p:cNvGraphicFramePr/>
          <p:nvPr/>
        </p:nvGraphicFramePr>
        <p:xfrm>
          <a:off x="7067520" y="2438280"/>
          <a:ext cx="2076480" cy="9464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067520" y="2438280"/>
                    <a:ext cx="2076480" cy="94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5" name=""/>
          <p:cNvGraphicFramePr/>
          <p:nvPr/>
        </p:nvGraphicFramePr>
        <p:xfrm>
          <a:off x="6858000" y="4221000"/>
          <a:ext cx="2286000" cy="53352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858000" y="4221000"/>
                    <a:ext cx="228600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" name=""/>
          <p:cNvSpPr/>
          <p:nvPr/>
        </p:nvSpPr>
        <p:spPr>
          <a:xfrm>
            <a:off x="6248520" y="4114800"/>
            <a:ext cx="6094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6553080" y="2895120"/>
            <a:ext cx="4572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2T22:20:54Z</dcterms:created>
  <dc:creator>Daniel Gonzalez</dc:creator>
  <dc:description/>
  <dc:language>en-US</dc:language>
  <cp:lastModifiedBy>C.P.C.E.C.A.B.A.</cp:lastModifiedBy>
  <dcterms:modified xsi:type="dcterms:W3CDTF">2005-04-06T16:52:41Z</dcterms:modified>
  <cp:revision>28</cp:revision>
  <dc:subject/>
  <dc:title>Impuesto a las Ganancias Personas Físicas Caso Práctico Integral</dc:title>
</cp:coreProperties>
</file>