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5551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1BAA-68CE-47F8-AA54-FB989FF17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262A-6857-468B-834B-23A19B53F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9B91-4172-47DC-90DF-CFA0BC5F6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F898-51B2-4064-B266-F4A780392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25FB7-801A-4AAE-8256-ED49DDE8A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CEE0B-99F9-41D3-B60D-E3DCD1C39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E66D6-4BBD-4463-8AE2-BC60DCA13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E64C0-BB8B-44EE-AACE-214B2F97B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13316-3926-478E-BABC-7D3287770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F09B7-A940-448A-9938-DF3CAB212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F28E1-9BFA-4F02-A86E-B35B2A829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0619-5074-4E2A-AABA-066171688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512E2-1748-4486-824B-2C3FFFB94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669F9-4213-4983-9D27-37F4CDDC1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E0BB9-58E0-4CF8-BC6D-7F63DE44F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90D0C-2049-469C-BF7E-76C3A6362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2D78F-4098-4930-B469-3FBF98041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078F-FC20-468F-8714-6938B459B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F5C9-29E9-485B-83CD-3E6E1214E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6B5B-A77A-42C4-BDA3-244AFA707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CEBC-1710-4690-AF8F-344F112E7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F3BF-C5ED-4B1E-87D4-2F50B6C16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8F2E-6B5F-4FBC-AE42-17B0C9215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2391-9069-48C4-97E1-940ABA003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000f1e"/>
                </a:gs>
                <a:gs pos="50000">
                  <a:srgbClr val="0099cc"/>
                </a:gs>
                <a:gs pos="100000">
                  <a:srgbClr val="000f1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f1e"/>
                </a:gs>
                <a:gs pos="50000">
                  <a:srgbClr val="003366"/>
                </a:gs>
                <a:gs pos="100000">
                  <a:srgbClr val="000f1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f1e"/>
                </a:gs>
                <a:gs pos="50000">
                  <a:srgbClr val="003366"/>
                </a:gs>
                <a:gs pos="100000">
                  <a:srgbClr val="000f1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0f1e"/>
                </a:gs>
                <a:gs pos="100000">
                  <a:srgbClr val="0033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3366"/>
                </a:gs>
                <a:gs pos="100000">
                  <a:srgbClr val="0033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3366"/>
                </a:gs>
                <a:gs pos="100000">
                  <a:srgbClr val="0033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3366"/>
                </a:gs>
                <a:gs pos="100000">
                  <a:srgbClr val="0033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3366"/>
                </a:gs>
                <a:gs pos="100000">
                  <a:srgbClr val="0033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7E336-2C7D-43B8-8C18-418AF15E38CC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000f1e"/>
                </a:gs>
                <a:gs pos="50000">
                  <a:srgbClr val="0099cc"/>
                </a:gs>
                <a:gs pos="100000">
                  <a:srgbClr val="000f1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f1e"/>
                </a:gs>
                <a:gs pos="50000">
                  <a:srgbClr val="003366"/>
                </a:gs>
                <a:gs pos="100000">
                  <a:srgbClr val="000f1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f1e"/>
                </a:gs>
                <a:gs pos="50000">
                  <a:srgbClr val="003366"/>
                </a:gs>
                <a:gs pos="100000">
                  <a:srgbClr val="000f1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0f1e"/>
                </a:gs>
                <a:gs pos="100000">
                  <a:srgbClr val="0033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3366"/>
                </a:gs>
                <a:gs pos="100000">
                  <a:srgbClr val="0033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3366"/>
                </a:gs>
                <a:gs pos="100000">
                  <a:srgbClr val="0033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3366"/>
                </a:gs>
                <a:gs pos="100000">
                  <a:srgbClr val="0033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3366"/>
                </a:gs>
                <a:gs pos="100000">
                  <a:srgbClr val="0033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406AB-2EBA-4937-A650-B2DE8B3CE02A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6000" spc="-1" strike="noStrike">
                <a:solidFill>
                  <a:srgbClr val="33cccc"/>
                </a:solidFill>
                <a:latin typeface="Times New Roman"/>
              </a:rPr>
              <a:t>PTP</a:t>
            </a:r>
            <a:endParaRPr b="0" lang="en-US" sz="60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042920" y="3886200"/>
            <a:ext cx="72741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Times New Roman"/>
              </a:rPr>
              <a:t>PRACTICA TRIBUTAR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Times New Roman"/>
              </a:rPr>
              <a:t>PROFESIO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0"/>
                            </p:stCondLst>
                            <p:childTnLst>
                              <p:par>
                                <p:cTn id="1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cccc"/>
                </a:solidFill>
                <a:latin typeface="Times New Roman"/>
              </a:rPr>
              <a:t>VALUACION PATRIMONIAL Y JUSTIFICACION DE SUS VARIACIONES INTERANUALES</a:t>
            </a:r>
            <a:br>
              <a:rPr sz="3600"/>
            </a:br>
            <a:r>
              <a:rPr b="1" lang="es-MX" sz="4400" spc="-1" strike="noStrike">
                <a:solidFill>
                  <a:srgbClr val="33cc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98900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53800" indent="-25380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Valuación de bienes en el paí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53800" indent="0" algn="just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53800" indent="-25380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Valuación de bienes en el exteri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53800" indent="0" algn="just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53800" indent="-25380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Valuación de deud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53800" indent="0" algn="just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53800" indent="-25380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Justificación de variaciones patrimonia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497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Quebrantos no computab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497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Ganancias exentas y no grava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497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Monto dispuesto y/o consumi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538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538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538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538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0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2000"/>
                            </p:stCondLst>
                            <p:childTnLst>
                              <p:par>
                                <p:cTn id="3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3000"/>
                            </p:stCondLst>
                            <p:childTnLst>
                              <p:par>
                                <p:cTn id="3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10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10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4000"/>
                            </p:stCondLst>
                            <p:childTnLst>
                              <p:par>
                                <p:cTn id="3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10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10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5000"/>
                            </p:stCondLst>
                            <p:childTnLst>
                              <p:par>
                                <p:cTn id="3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1000" fill="hold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1000" fill="hold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6000"/>
                            </p:stCondLst>
                            <p:childTnLst>
                              <p:par>
                                <p:cTn id="4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1000" fill="hold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1000" fill="hold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7000"/>
                            </p:stCondLst>
                            <p:childTnLst>
                              <p:par>
                                <p:cTn id="4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1000" fill="hold"/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1000" fill="hold"/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8000"/>
                            </p:stCondLst>
                            <p:childTnLst>
                              <p:par>
                                <p:cTn id="4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1000" fill="hold"/>
                                        <p:tgtEl>
                                          <p:spTgt spid="11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11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55640" y="2276280"/>
            <a:ext cx="77724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33cccc"/>
                </a:solidFill>
                <a:latin typeface="Times New Roman"/>
              </a:rPr>
              <a:t>IMPUESTO SOBRE LOS</a:t>
            </a:r>
            <a:br>
              <a:rPr sz="4000"/>
            </a:br>
            <a:r>
              <a:rPr b="1" lang="es-AR" sz="4000" spc="-1" strike="noStrike">
                <a:solidFill>
                  <a:srgbClr val="33cccc"/>
                </a:solidFill>
                <a:latin typeface="Times New Roman"/>
              </a:rPr>
              <a:t>BIENES PERSONALES</a:t>
            </a:r>
            <a:endParaRPr b="0" lang="en-US" sz="4000" spc="-1" strike="noStrike">
              <a:solidFill>
                <a:srgbClr val="33cc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0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cccc"/>
                </a:solidFill>
                <a:latin typeface="Times New Roman"/>
              </a:rPr>
              <a:t>IMPUESTO SOBRE LOS BIENES PERSONALES</a:t>
            </a:r>
            <a:endParaRPr b="0" lang="en-US" sz="36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33ccff"/>
                </a:solidFill>
                <a:latin typeface="Tahoma"/>
              </a:rPr>
              <a:t>Criterio de vinculación : domicil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ccff"/>
                </a:solidFill>
                <a:latin typeface="Tahoma"/>
              </a:rPr>
              <a:t>Los sujetos tributan por</a:t>
            </a:r>
            <a:r>
              <a:rPr b="0" lang="es-ES_tradnl" sz="2800" spc="-1" strike="noStrike">
                <a:solidFill>
                  <a:srgbClr val="33cc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ersonas físicas domiciliadas en el país y las sucesiones indivisas radicadas en el mismo: por sus bienes en el país y en el exterio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ersonas físicas domiciliadas en el exterior y las sucesiones indivisas  radicadas en el mismo: por los bienes situados en el paí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0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2000"/>
                            </p:stCondLst>
                            <p:childTnLst>
                              <p:par>
                                <p:cTn id="4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3000"/>
                            </p:stCondLst>
                            <p:childTnLst>
                              <p:par>
                                <p:cTn id="4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4000"/>
                            </p:stCondLst>
                            <p:childTnLst>
                              <p:par>
                                <p:cTn id="4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10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10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cccc"/>
                </a:solidFill>
                <a:latin typeface="Times New Roman"/>
              </a:rPr>
              <a:t>CASOS ESPECIALES</a:t>
            </a:r>
            <a:endParaRPr b="0" lang="en-US" sz="36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SOCIEDAD CONYUGAL (L art. 18 y DR 2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SUCESIÓN INDIVISA (L art. 17 y DR 3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MENORES DE EDAD (DR art. 2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ERSONAS FÍSICAS DE NACIONALIDAD EXTRANJERA DOMICILIADAS EN EL PAÍS POR CUESTIONES LABORALES (DR art. 1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FUNCIONARIOS PÚBLICOS DEL PAÍS QUE SE ENCUENTREN EN EL EXTERIOR (L art. 17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1000"/>
                            </p:stCondLst>
                            <p:childTnLst>
                              <p:par>
                                <p:cTn id="4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3000"/>
                            </p:stCondLst>
                            <p:childTnLst>
                              <p:par>
                                <p:cTn id="4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4000"/>
                            </p:stCondLst>
                            <p:childTnLst>
                              <p:par>
                                <p:cTn id="4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5000"/>
                            </p:stCondLst>
                            <p:childTnLst>
                              <p:par>
                                <p:cTn id="4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50560" y="304560"/>
            <a:ext cx="85690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cccc"/>
                </a:solidFill>
                <a:latin typeface="Times New Roman"/>
              </a:rPr>
              <a:t>ACCIONES Y PARTICIPACIONES EN EL CAPITAL DE SOCIEDADES Y EMPRESAS</a:t>
            </a:r>
            <a:br>
              <a:rPr sz="3200"/>
            </a:br>
            <a:endParaRPr b="0" lang="en-US" sz="32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ccff"/>
                </a:solidFill>
                <a:latin typeface="Times New Roman"/>
              </a:rPr>
              <a:t>REGIDAS POR LA LEY 19550: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Son responsables sustitutos las sociedad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ccff"/>
                </a:solidFill>
                <a:latin typeface="Times New Roman"/>
              </a:rPr>
              <a:t>EMPRESAS O EXPLOTACIONES UNIPERSONALES Y SOCIEDADES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33ccff"/>
                </a:solidFill>
                <a:latin typeface="Times New Roman"/>
              </a:rPr>
              <a:t>CIVILES: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Se incorporan a la liquidación de la persona física o sucesión indivis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0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1000"/>
                            </p:stCondLst>
                            <p:childTnLst>
                              <p:par>
                                <p:cTn id="4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cccc"/>
                </a:solidFill>
                <a:latin typeface="Times New Roman"/>
              </a:rPr>
              <a:t>VALUACIÓN DE ACCIONES</a:t>
            </a:r>
            <a:br>
              <a:rPr sz="3600"/>
            </a:br>
            <a:endParaRPr b="0" lang="en-US" sz="36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0000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ff"/>
                </a:solidFill>
                <a:latin typeface="Times New Roman"/>
              </a:rPr>
              <a:t>Se computarán al valor patrimonial patrimonial que surja del último balance cerrado al 31-12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ff"/>
                </a:solidFill>
                <a:latin typeface="Times New Roman"/>
              </a:rPr>
              <a:t>Si la fecha de cierre no coincide con el 31-12, se deberán sumar y/o restar los aumentos y disminuciones operados entre ambas fecha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0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1000"/>
                            </p:stCondLst>
                            <p:childTnLst>
                              <p:par>
                                <p:cTn id="5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2000"/>
                            </p:stCondLst>
                            <p:childTnLst>
                              <p:par>
                                <p:cTn id="5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cccc"/>
                </a:solidFill>
                <a:latin typeface="Times New Roman"/>
              </a:rPr>
              <a:t>AUMENTOS Y DISMINUCIONES</a:t>
            </a:r>
            <a:endParaRPr b="0" lang="en-US" sz="36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ccff"/>
                </a:solidFill>
                <a:latin typeface="Times New Roman"/>
              </a:rPr>
              <a:t>AUMEN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ORIGINADOS EN LA INTEGRACIÓN DE ACCIONES O APORTES DE CAPITAL, INCLUIDOS LOS IRREVOCABLES PARA LA SUSCRIPCIÓN DE ACCIONES O AUMENTOS DE CAPITAL VERIFICADOS ENTRE CIERRE DEL EJERCICIO Y 31/12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43280" y="155736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ccff"/>
                </a:solidFill>
                <a:latin typeface="Times New Roman"/>
              </a:rPr>
              <a:t>DISMINUCIO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DIVIDENDOS EN EFECTIVO Y EN ESPECIE CORRESPONDIENTES AL EJERCICIO COMERCIAL CERRADO POR LA SOCIEDAD QUE EFECTUÓ LA DISTRIBUCIÓN DURANTE EL PERÍODO EN QUE SE LIQUIDA EL IMPUESTO Y PUESTOS A DISPOSICIÓN EN SU TRANSCURS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0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1000"/>
                            </p:stCondLst>
                            <p:childTnLst>
                              <p:par>
                                <p:cTn id="5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2000"/>
                            </p:stCondLst>
                            <p:childTnLst>
                              <p:par>
                                <p:cTn id="53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3000"/>
                            </p:stCondLst>
                            <p:childTnLst>
                              <p:par>
                                <p:cTn id="5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4000"/>
                            </p:stCondLst>
                            <p:childTnLst>
                              <p:par>
                                <p:cTn id="5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64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cccc"/>
                </a:solidFill>
                <a:latin typeface="Times New Roman"/>
              </a:rPr>
              <a:t>VALUACIÓN DE EMPRESAS Y EXPLOTACIONES UNIPERSONALES</a:t>
            </a:r>
            <a:endParaRPr b="0" lang="en-US" sz="36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8424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ccff"/>
                </a:solidFill>
                <a:latin typeface="Times New Roman"/>
              </a:rPr>
              <a:t>ACTIVO (-) PASIVO</a:t>
            </a:r>
            <a:r>
              <a:rPr b="0" lang="es-ES_tradnl" sz="2400" spc="-1" strike="noStrike">
                <a:solidFill>
                  <a:srgbClr val="ccec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-) MONTO DE LAS ACCIONES Y PARTICIPACIONES EN EMPRESAS REGIDAS POR LA LEY 19.550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+) o (-) SALDO ACREEDOR O DEUDOR DE LA CUENTA PARTICULAR (SIN CONSIDERAR CRÉDITOS PROVENIENTES DE ACREDITACIÓN DE UTILIDADES OPERADAS ENTRE CIERRE Y 31/12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+) AUMENTOS (aportes de capital entre cierre y 31/12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-)  DISMINUCIONES (retiros de utilidades entre cierre y el 31/12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0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2000"/>
                            </p:stCondLst>
                            <p:childTnLst>
                              <p:par>
                                <p:cTn id="5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3000"/>
                            </p:stCondLst>
                            <p:childTnLst>
                              <p:par>
                                <p:cTn id="5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4000"/>
                            </p:stCondLst>
                            <p:childTnLst>
                              <p:par>
                                <p:cTn id="5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1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1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5000"/>
                            </p:stCondLst>
                            <p:childTnLst>
                              <p:par>
                                <p:cTn id="5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1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1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cccc"/>
                </a:solidFill>
                <a:latin typeface="Times New Roman"/>
              </a:rPr>
              <a:t>VALUACIÓN DE BIENES EN EL EXTERIOR</a:t>
            </a:r>
            <a:endParaRPr b="0" lang="en-US" sz="36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55640" y="2205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ccff"/>
                </a:solidFill>
                <a:latin typeface="Times New Roman"/>
              </a:rPr>
              <a:t>INMUEBLES, AUTOMOTORES, AERONAVES, YATES Y SIMILARES, BIENES INMATERIALES Y DE MÁS BIEN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VALOR DE PLAZA AL 31/1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0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1000"/>
                            </p:stCondLst>
                            <p:childTnLst>
                              <p:par>
                                <p:cTn id="5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2000"/>
                            </p:stCondLst>
                            <p:childTnLst>
                              <p:par>
                                <p:cTn id="5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cccc"/>
                </a:solidFill>
                <a:latin typeface="Times New Roman"/>
              </a:rPr>
              <a:t>VALUACIÓN DE BIENES EN EL EXTERIOR</a:t>
            </a:r>
            <a:endParaRPr b="0" lang="en-US" sz="32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4000" y="1773360"/>
            <a:ext cx="7918200" cy="441648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ccff"/>
                </a:solidFill>
                <a:latin typeface="Times New Roman"/>
              </a:rPr>
              <a:t>CRÉDITOS, DEPÓSITOS Y EXISTENCIAS DE MONEDA EXTRANJE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OR EL SU VALOR, INCLUIDO LOS INTERESES DEVENGAD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ccff"/>
                </a:solidFill>
                <a:latin typeface="Times New Roman"/>
              </a:rPr>
              <a:t>TÍTULOS VALORE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ccff"/>
                </a:solidFill>
                <a:latin typeface="Times New Roman"/>
              </a:rPr>
              <a:t>QUE COTIZAN EN BOLSAS O MERCA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ULTIMO VALOR DE COTIZACIÓN AL 31/1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ccff"/>
                </a:solidFill>
                <a:latin typeface="Times New Roman"/>
              </a:rPr>
              <a:t>QUE NO COTIZAN EN BOLSAS Y MERCA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L VPP QUE SURJA DEL ULTIMO BALANCE AL 31/12 + AUMENTOS Y DISMINUCIONES, DE CORRESPOND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0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1000"/>
                            </p:stCondLst>
                            <p:childTnLst>
                              <p:par>
                                <p:cTn id="6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2000"/>
                            </p:stCondLst>
                            <p:childTnLst>
                              <p:par>
                                <p:cTn id="6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3000"/>
                            </p:stCondLst>
                            <p:childTnLst>
                              <p:par>
                                <p:cTn id="6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4000"/>
                            </p:stCondLst>
                            <p:childTnLst>
                              <p:par>
                                <p:cTn id="6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5000"/>
                            </p:stCondLst>
                            <p:childTnLst>
                              <p:par>
                                <p:cTn id="6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6000"/>
                            </p:stCondLst>
                            <p:childTnLst>
                              <p:par>
                                <p:cTn id="6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7000"/>
                            </p:stCondLst>
                            <p:childTnLst>
                              <p:par>
                                <p:cTn id="6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1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1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8000"/>
                            </p:stCondLst>
                            <p:childTnLst>
                              <p:par>
                                <p:cTn id="6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1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1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33cccc"/>
                </a:solidFill>
                <a:latin typeface="Times New Roman"/>
              </a:rPr>
              <a:t>IMPUESTO A LAS GANANCIAS</a:t>
            </a:r>
            <a:br>
              <a:rPr sz="4400"/>
            </a:br>
            <a:r>
              <a:rPr b="1" lang="es-MX" sz="4400" spc="-1" strike="noStrike">
                <a:solidFill>
                  <a:srgbClr val="33cccc"/>
                </a:solidFill>
                <a:latin typeface="Times New Roman"/>
              </a:rPr>
              <a:t>PERSONAS FISICAS </a:t>
            </a:r>
            <a:br>
              <a:rPr sz="4400"/>
            </a:br>
            <a:br>
              <a:rPr sz="4400"/>
            </a:br>
            <a:r>
              <a:rPr b="1" lang="es-MX" sz="4400" spc="-1" strike="noStrike">
                <a:solidFill>
                  <a:srgbClr val="33cccc"/>
                </a:solidFill>
                <a:latin typeface="Times New Roman"/>
              </a:rPr>
              <a:t>TEMAS DE INTERES</a:t>
            </a: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cccc"/>
                </a:solidFill>
                <a:latin typeface="Times New Roman"/>
              </a:rPr>
              <a:t>VALUACIÓN DE BIENES EN EL EXTERIOR</a:t>
            </a:r>
            <a:endParaRPr b="0" lang="en-US" sz="36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PARA LA CONVERSIÓN A MONEDA NACIONAL DE LOS IMPORTES EN MONEDA EXTRANJERA, SE APLICARÁ EL TIPO DE CAMBIO COMPRADOR, DEL BNA AL ÚLTIMO DÍA HÁBIL ANTERIOR AL 31/1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0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fill="hold">
                            <p:stCondLst>
                              <p:cond delay="1000"/>
                            </p:stCondLst>
                            <p:childTnLst>
                              <p:par>
                                <p:cTn id="6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cccc"/>
                </a:solidFill>
                <a:latin typeface="Times New Roman"/>
              </a:rPr>
              <a:t>PRIMERA CATEGORIA </a:t>
            </a:r>
            <a:endParaRPr b="0" lang="en-US" sz="36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Arrendamiento de muebles en forma conjunt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Arrendamiento presun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Casos en que proce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Cuantific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Arrendamiento en especi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Cuantific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Mejoras en beneficio del propietar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Calific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Imputación al período fisc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3000"/>
                            </p:stCondLst>
                            <p:childTnLst>
                              <p:par>
                                <p:cTn id="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400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0"/>
                            </p:stCondLst>
                            <p:childTnLst>
                              <p:par>
                                <p:cTn id="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6000"/>
                            </p:stCondLst>
                            <p:childTnLst>
                              <p:par>
                                <p:cTn id="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7000"/>
                            </p:stCondLst>
                            <p:childTnLst>
                              <p:par>
                                <p:cTn id="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8000"/>
                            </p:stCondLst>
                            <p:childTnLst>
                              <p:par>
                                <p:cTn id="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900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1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1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cccc"/>
                </a:solidFill>
                <a:latin typeface="Times New Roman"/>
              </a:rPr>
              <a:t>PRIMERA CATEGORIA </a:t>
            </a:r>
            <a:endParaRPr b="0" lang="en-US" sz="36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71640" y="184428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Deducción de gastos reales o presunt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Procedencia de la op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Conceptos comprendi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Cómputo de deducción por ajuste de impuest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Expensas y gastos a cargo del locatar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Times New Roman"/>
              </a:rPr>
              <a:t>Alquileres incobrab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Times New Roman"/>
              </a:rPr>
              <a:t>Amortizaciones de inmuebles y mejor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500"/>
                            </p:stCondLst>
                            <p:childTnLst>
                              <p:par>
                                <p:cTn id="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500"/>
                            </p:stCondLst>
                            <p:childTnLst>
                              <p:par>
                                <p:cTn id="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4500"/>
                            </p:stCondLst>
                            <p:childTnLst>
                              <p:par>
                                <p:cTn id="1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50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6500"/>
                            </p:stCondLst>
                            <p:childTnLst>
                              <p:par>
                                <p:cTn id="1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1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1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cccc"/>
                </a:solidFill>
                <a:latin typeface="Times New Roman"/>
              </a:rPr>
              <a:t>SEGUNDA CATEGORIA</a:t>
            </a:r>
            <a:r>
              <a:rPr b="1" lang="es-MX" sz="4400" spc="-1" strike="noStrike">
                <a:solidFill>
                  <a:srgbClr val="33cc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31640" y="1989000"/>
            <a:ext cx="756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Rentas exentas o no alcanzad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Dividendos de sociedades loc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Venta de accion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Intereses de plazos fijos de bancos loc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Intereses de títulos públicos loc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Incrementos de cotización de accio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Venta de cuotas sociales de SR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000"/>
                            </p:stCondLst>
                            <p:childTnLst>
                              <p:par>
                                <p:cTn id="1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4000"/>
                            </p:stCondLst>
                            <p:childTnLst>
                              <p:par>
                                <p:cTn id="1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1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10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10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6000"/>
                            </p:stCondLst>
                            <p:childTnLst>
                              <p:par>
                                <p:cTn id="1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10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7000"/>
                            </p:stCondLst>
                            <p:childTnLst>
                              <p:par>
                                <p:cTn id="1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1000" fill="hold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8000"/>
                            </p:stCondLst>
                            <p:childTnLst>
                              <p:par>
                                <p:cTn id="1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1000" fill="hold"/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1000" fill="hold"/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cccc"/>
                </a:solidFill>
                <a:latin typeface="Times New Roman"/>
              </a:rPr>
              <a:t>SEGUNDA CATEGORIA</a:t>
            </a:r>
            <a:r>
              <a:rPr b="1" lang="es-MX" sz="4400" spc="-1" strike="noStrike">
                <a:solidFill>
                  <a:srgbClr val="33cc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-28116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Rentas de fuente extranje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Imputación de la ren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Reconocimiento de diferencias de camb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Imputación especial por rentas pasivas provenientes de países de baja o nula tribut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0" algn="just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-28116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Intereses presuntos por venta de muebles e inmueb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Cuantific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000"/>
                            </p:stCondLst>
                            <p:childTnLst>
                              <p:par>
                                <p:cTn id="1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2000"/>
                            </p:stCondLst>
                            <p:childTnLst>
                              <p:par>
                                <p:cTn id="1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3000"/>
                            </p:stCondLst>
                            <p:childTnLst>
                              <p:par>
                                <p:cTn id="1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4000"/>
                            </p:stCondLst>
                            <p:childTnLst>
                              <p:par>
                                <p:cTn id="1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10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10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6000"/>
                            </p:stCondLst>
                            <p:childTnLst>
                              <p:par>
                                <p:cTn id="2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10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7000"/>
                            </p:stCondLst>
                            <p:childTnLst>
                              <p:par>
                                <p:cTn id="2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cccc"/>
                </a:solidFill>
                <a:latin typeface="Times New Roman"/>
              </a:rPr>
              <a:t>TERCERA CATEGORIA</a:t>
            </a:r>
            <a:r>
              <a:rPr b="1" lang="es-MX" sz="4400" spc="-1" strike="noStrike">
                <a:solidFill>
                  <a:srgbClr val="33cc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-250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Valuación de Bienes de Camb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421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Normas gener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421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Productos deteriora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50200" indent="0" algn="just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50200" indent="-25020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Deducción de incobrabl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42160" indent="-20844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Requisi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42160" indent="-20844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Deudores de pequeño mon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50200" indent="0" algn="just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50200" indent="-25020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Limitación a la deducción de gastos y compras a proveedores monotributist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421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Cuantific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50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50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50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50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4000"/>
                            </p:stCondLst>
                            <p:childTnLst>
                              <p:par>
                                <p:cTn id="2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5000"/>
                            </p:stCondLst>
                            <p:childTnLst>
                              <p:par>
                                <p:cTn id="2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10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10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6000"/>
                            </p:stCondLst>
                            <p:childTnLst>
                              <p:par>
                                <p:cTn id="2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7000"/>
                            </p:stCondLst>
                            <p:childTnLst>
                              <p:par>
                                <p:cTn id="2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8000"/>
                            </p:stCondLst>
                            <p:childTnLst>
                              <p:par>
                                <p:cTn id="2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1000" fill="hold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1000" fill="hold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9000"/>
                            </p:stCondLst>
                            <p:childTnLst>
                              <p:par>
                                <p:cTn id="2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1000" fill="hold"/>
                                        <p:tgtEl>
                                          <p:spTgt spid="1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1000" fill="hold"/>
                                        <p:tgtEl>
                                          <p:spTgt spid="1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cccc"/>
                </a:solidFill>
                <a:latin typeface="Times New Roman"/>
              </a:rPr>
              <a:t>CUARTA CATEGORIA</a:t>
            </a:r>
            <a:r>
              <a:rPr b="1" lang="es-MX" sz="4400" spc="-1" strike="noStrike">
                <a:solidFill>
                  <a:srgbClr val="33cc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19890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-26388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Honorarios de Directores de S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72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Imput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72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Determinación de porción gravada y no computa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0" algn="just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-26388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Rentas en especi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0" algn="just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-26388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Indemnizaciones especiales por distracto labor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72040" indent="-21996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Determinación de la porción gravada y exen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72040" indent="-21996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Venta de bienes muebles  amortizab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000"/>
                            </p:stCondLst>
                            <p:childTnLst>
                              <p:par>
                                <p:cTn id="2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2000"/>
                            </p:stCondLst>
                            <p:childTnLst>
                              <p:par>
                                <p:cTn id="2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3000"/>
                            </p:stCondLst>
                            <p:childTnLst>
                              <p:par>
                                <p:cTn id="2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000"/>
                            </p:stCondLst>
                            <p:childTnLst>
                              <p:par>
                                <p:cTn id="2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000"/>
                            </p:stCondLst>
                            <p:childTnLst>
                              <p:par>
                                <p:cTn id="2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6000"/>
                            </p:stCondLst>
                            <p:childTnLst>
                              <p:par>
                                <p:cTn id="3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1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7000"/>
                            </p:stCondLst>
                            <p:childTnLst>
                              <p:par>
                                <p:cTn id="3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1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1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8000"/>
                            </p:stCondLst>
                            <p:childTnLst>
                              <p:par>
                                <p:cTn id="3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1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1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cccc"/>
                </a:solidFill>
                <a:latin typeface="Times New Roman"/>
              </a:rPr>
              <a:t>DETERMINACIÓN</a:t>
            </a:r>
            <a:r>
              <a:rPr b="1" lang="es-MX" sz="4400" spc="-1" strike="noStrike">
                <a:solidFill>
                  <a:srgbClr val="33cccc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-26748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Situación de sujetos incorporados al Monotribu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-26748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Deducción de cargas de famil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-26748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Deducción de mínimo no impon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-26748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Deducción espec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-26748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Deducción de abonos de medicina prepag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-26748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Deducción de gastos médic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-26748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Cómputo pago a cuenta de rentas de fte. extranje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-26748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Cómputo de retenciones y pago a cuenta IDyC.Bri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000"/>
                            </p:stCondLst>
                            <p:childTnLst>
                              <p:par>
                                <p:cTn id="3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2000"/>
                            </p:stCondLst>
                            <p:childTnLst>
                              <p:par>
                                <p:cTn id="3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5000"/>
                            </p:stCondLst>
                            <p:childTnLst>
                              <p:par>
                                <p:cTn id="3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1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1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000"/>
                            </p:stCondLst>
                            <p:childTnLst>
                              <p:par>
                                <p:cTn id="3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10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10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7000"/>
                            </p:stCondLst>
                            <p:childTnLst>
                              <p:par>
                                <p:cTn id="3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10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10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8000"/>
                            </p:stCondLst>
                            <p:childTnLst>
                              <p:par>
                                <p:cTn id="3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1000" fill="hold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1000" fill="hold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9000"/>
                            </p:stCondLst>
                            <p:childTnLst>
                              <p:par>
                                <p:cTn id="3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1000" fill="hold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1000" fill="hold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30T15:55:16Z</dcterms:created>
  <dc:creator> </dc:creator>
  <dc:description/>
  <dc:language>en-US</dc:language>
  <cp:lastModifiedBy>C.P.C.E.C.A.B.A.</cp:lastModifiedBy>
  <dcterms:modified xsi:type="dcterms:W3CDTF">2005-04-06T17:13:58Z</dcterms:modified>
  <cp:revision>65</cp:revision>
  <dc:subject/>
  <dc:title>PROYECTO DE LEY    Expte.40-PE-03</dc:title>
</cp:coreProperties>
</file>